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D99-0350-4E30-88BB-C56C7B9C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70B-0B44-4BAD-BE60-145D9970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97E-0D43-4E90-AB7B-BE16AC29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2F7-9FCC-4269-A186-C665622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59E-C1B0-42D4-BF2D-8C90A5A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136-F49F-4C34-9184-233ED700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F68-5CDA-4DDC-AC63-99FB80E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2FE-CA44-4B44-AB0F-8F355D7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8AC-7DD9-416D-BCE8-CC8FF1EE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522-AD18-45D8-A5BF-75A2D5A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918-3EFB-41BD-85A9-4342E48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39B-B230-45EE-853A-F01C2D22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55E3-5A0E-4E49-AD9F-6EB7C77B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ry Fer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2880" y="206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s uses within my pro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oster_1st_draft.jpg"/>
          <p:cNvPicPr/>
          <p:nvPr/>
        </p:nvPicPr>
        <p:blipFill>
          <a:blip r:embed="rId1"/>
          <a:stretch/>
        </p:blipFill>
        <p:spPr>
          <a:xfrm>
            <a:off x="468360" y="1341360"/>
            <a:ext cx="2736720" cy="193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00560" y="1216080"/>
            <a:ext cx="54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557360"/>
            <a:ext cx="54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ventions have been used and touched upon from the very beginning of my proje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4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is simple draft done of my poster it is clear that there can be much to be sai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57336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main reason for this are that there are many different aspects to project that allow us to talk about it from this ang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760" y="4221000"/>
            <a:ext cx="81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 this particular example the image is made up of 5 different main aspects which 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608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ckgroun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creaming 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church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date of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5943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cc0000"/>
                </a:solidFill>
                <a:uFillTx/>
                <a:latin typeface="Arial"/>
              </a:rPr>
              <a:t>Can be talked about in terms o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869000"/>
            <a:ext cx="3743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Technic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Gender 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Reli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mparison and eli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oster_1st_draft.jpg"/>
          <p:cNvPicPr/>
          <p:nvPr/>
        </p:nvPicPr>
        <p:blipFill>
          <a:blip r:embed="rId1"/>
          <a:stretch/>
        </p:blipFill>
        <p:spPr>
          <a:xfrm>
            <a:off x="3059280" y="1628640"/>
            <a:ext cx="2736720" cy="193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168640" cy="32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14288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00:53Z</dcterms:created>
  <dc:creator>pleasant</dc:creator>
  <dc:description/>
  <dc:language>en-US</dc:language>
  <cp:lastModifiedBy>pleasant</cp:lastModifiedBy>
  <dcterms:modified xsi:type="dcterms:W3CDTF">2010-04-20T15:21:38Z</dcterms:modified>
  <cp:revision>2</cp:revision>
  <dc:subject/>
  <dc:title>Evaluation</dc:title>
</cp:coreProperties>
</file>