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3EE-D351-4F66-98A6-3ABCB8D4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0DD-99C5-4D46-B25B-E283CB8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E41-0547-430C-BF7C-0FF88D0B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06A-0E97-4C7A-B6A5-E77D4602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A9C-36FC-40B2-BA77-A1447E3E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EDE-24FC-42A5-B78F-48725C06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01A-76AB-410E-BA5D-C6CC6968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8D8-7D77-497E-B05F-44319346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C68-6BE1-4949-925D-8D5B3A3F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C3C-CB72-4EAB-9526-80BAA6BE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3A9-BBA4-41A4-93D4-C6A495D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350-50E0-40BF-AEA0-29DA5C7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9951-B950-4AAB-BF2D-CD4E8F57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ry Fer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2880" y="206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s uses within my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ter_1st_draft.jpg"/>
          <p:cNvPicPr/>
          <p:nvPr/>
        </p:nvPicPr>
        <p:blipFill>
          <a:blip r:embed="rId1"/>
          <a:stretch/>
        </p:blipFill>
        <p:spPr>
          <a:xfrm>
            <a:off x="468360" y="1341360"/>
            <a:ext cx="2736720" cy="193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00560" y="1216080"/>
            <a:ext cx="54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557360"/>
            <a:ext cx="54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ventions have been used and touched upon from the very beginning of my proje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4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is simple draft done of my poster it is clear that there can be much to be said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573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main reason for this are that there are many different aspects to project that allow us to talk about it from this ang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760" y="4221000"/>
            <a:ext cx="81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 this particular example the image is made up of 5 different main aspects which 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608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ckgroun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creaming 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church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ate of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5943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cc0000"/>
                </a:solidFill>
                <a:uFillTx/>
                <a:latin typeface="Arial"/>
              </a:rPr>
              <a:t>Can be talked about in terms o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869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Technic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Gender 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Reli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mparison and el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oster_1st_draft.jpg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193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16864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14288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00:53Z</dcterms:created>
  <dc:creator>pleasant</dc:creator>
  <dc:description/>
  <dc:language>en-US</dc:language>
  <cp:lastModifiedBy>pleasant</cp:lastModifiedBy>
  <dcterms:modified xsi:type="dcterms:W3CDTF">2010-04-20T15:21:38Z</dcterms:modified>
  <cp:revision>2</cp:revision>
  <dc:subject/>
  <dc:title>Evaluation</dc:title>
</cp:coreProperties>
</file>