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217-72F0-422D-8C21-7DE04A48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4BB-9305-4BF4-B18B-4BD61B56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E45-934B-46E9-944A-025B0088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36BF-39B7-4EF4-808B-3A823D0A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910-DE56-4C92-A12C-5DD727C0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5640-2045-4F66-9B69-797FC9C4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D95-FE29-4C13-89AB-0CFB37F3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A9B-4AAB-45A2-9006-F3D3EDAB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DC82-D0DB-4571-86BD-F9AB3AFA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9396-2902-4012-AB52-FF537B0C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857F-D408-4584-840D-6B49C634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E81-E45E-4827-9497-9803FF87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2B53-F0C4-4B79-8FD3-22D25DAD1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Rory Fer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2880" y="2060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nventions uses within my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oster_1st_draft.jpg"/>
          <p:cNvPicPr/>
          <p:nvPr/>
        </p:nvPicPr>
        <p:blipFill>
          <a:blip r:embed="rId1"/>
          <a:stretch/>
        </p:blipFill>
        <p:spPr>
          <a:xfrm>
            <a:off x="468360" y="1341360"/>
            <a:ext cx="2736720" cy="1935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00560" y="1216080"/>
            <a:ext cx="541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557360"/>
            <a:ext cx="54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ventions have been used and touched upon from the very beginning of my project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2492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is simple draft done of my poster it is clear that there can be much to be said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57336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main reason for this are that there are many different aspects to project that allow us to talk about it from this ang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2760" y="4221000"/>
            <a:ext cx="81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 this particular example the image is made up of 5 different main aspects which a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560840"/>
            <a:ext cx="345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ackground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screaming 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ain church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date of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459432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cc0000"/>
                </a:solidFill>
                <a:uFillTx/>
                <a:latin typeface="Arial"/>
              </a:rPr>
              <a:t>Can be talked about in terms o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4869000"/>
            <a:ext cx="3743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Technica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Gender stereo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Relig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mparison and eli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poster_1st_draft.jpg"/>
          <p:cNvPicPr/>
          <p:nvPr/>
        </p:nvPicPr>
        <p:blipFill>
          <a:blip r:embed="rId1"/>
          <a:stretch/>
        </p:blipFill>
        <p:spPr>
          <a:xfrm>
            <a:off x="3059280" y="1628640"/>
            <a:ext cx="2736720" cy="1935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168640" cy="321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142884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5:00:53Z</dcterms:created>
  <dc:creator>pleasant</dc:creator>
  <dc:description/>
  <dc:language>en-US</dc:language>
  <cp:lastModifiedBy>pleasant</cp:lastModifiedBy>
  <dcterms:modified xsi:type="dcterms:W3CDTF">2010-04-20T15:21:38Z</dcterms:modified>
  <cp:revision>2</cp:revision>
  <dc:subject/>
  <dc:title>Evaluation</dc:title>
</cp:coreProperties>
</file>