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ED3-8C39-4C53-A21A-31A0E111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0EA-6665-4F01-B756-2C185155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1FE-7B98-475B-940D-A26EC9D5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637-F58B-45F2-A966-3BD0CE4B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242-BB94-4E8E-8D6A-096AD591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7BD-5B73-4DA4-BBED-84C8C84A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FA2-F2E6-4610-98A9-FC685B45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3D0-861E-44E9-A036-D5421FBB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D88-6E67-4ABE-BBEB-3CC779C6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AB4-3641-44C4-9861-605F69E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B55-328F-4178-9416-8EC43EF8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EB4-6696-4061-A8D7-80BE0D1A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5A10-FE4F-416A-959E-AB4D28FA1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Rory Fer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2880" y="206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ventions uses within my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oster_1st_draft.jpg"/>
          <p:cNvPicPr/>
          <p:nvPr/>
        </p:nvPicPr>
        <p:blipFill>
          <a:blip r:embed="rId1"/>
          <a:stretch/>
        </p:blipFill>
        <p:spPr>
          <a:xfrm>
            <a:off x="468360" y="1341360"/>
            <a:ext cx="2736720" cy="193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00560" y="1216080"/>
            <a:ext cx="541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557360"/>
            <a:ext cx="54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ventions have been used and touched upon from the very beginning of my project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24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is simple draft done of my poster it is clear that there can be much to be said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57336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main reason for this are that there are many different aspects to project that allow us to talk about it from this ang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2760" y="4221000"/>
            <a:ext cx="81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 this particular example the image is made up of 5 different main aspects which a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560840"/>
            <a:ext cx="345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ackground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screaming 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ain church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date of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5943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cc0000"/>
                </a:solidFill>
                <a:uFillTx/>
                <a:latin typeface="Arial"/>
              </a:rPr>
              <a:t>Can be talked about in terms o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4869000"/>
            <a:ext cx="3743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Technica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Gender stere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Relig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mparison and eli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poster_1st_draft.jpg"/>
          <p:cNvPicPr/>
          <p:nvPr/>
        </p:nvPicPr>
        <p:blipFill>
          <a:blip r:embed="rId1"/>
          <a:stretch/>
        </p:blipFill>
        <p:spPr>
          <a:xfrm>
            <a:off x="3059280" y="1628640"/>
            <a:ext cx="2736720" cy="193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168640" cy="321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142884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5:00:53Z</dcterms:created>
  <dc:creator>pleasant</dc:creator>
  <dc:description/>
  <dc:language>en-US</dc:language>
  <cp:lastModifiedBy>pleasant</cp:lastModifiedBy>
  <dcterms:modified xsi:type="dcterms:W3CDTF">2010-04-20T15:21:38Z</dcterms:modified>
  <cp:revision>2</cp:revision>
  <dc:subject/>
  <dc:title>Evaluation</dc:title>
</cp:coreProperties>
</file>