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9EE-487A-4D2A-A89D-E150A145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326-FD73-40B0-9B0A-C13FEB37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374-E164-4248-B125-CF2FAA85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ECF-5FF6-4155-B0E6-2C0D08E1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BA2A-1692-46B5-B1B1-B5A04B3A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E4F-4E06-4783-B7DD-D3069CBD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D6E-9416-4094-AF63-08F8220A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5FD-B1BC-4C4C-A3E7-D609B229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485-ADAD-4DD1-B4FE-BB4A640C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127B-9955-4F2D-ABDC-37386FF4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6BFA-149E-41A5-86AE-DE708194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ED1-F44E-4F16-99CD-E07FA7DF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0E8E-F7EB-495B-B0A0-BDF45DB2F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Rory Fer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2880" y="2060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nventions uses within my pro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poster_1st_draft.jpg"/>
          <p:cNvPicPr/>
          <p:nvPr/>
        </p:nvPicPr>
        <p:blipFill>
          <a:blip r:embed="rId1"/>
          <a:stretch/>
        </p:blipFill>
        <p:spPr>
          <a:xfrm>
            <a:off x="468360" y="1341360"/>
            <a:ext cx="2736720" cy="1935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00560" y="1216080"/>
            <a:ext cx="541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1557360"/>
            <a:ext cx="54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ventions have been used and touched upon from the very beginning of my project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2492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this simple draft done of my poster it is clear that there can be much to be said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57336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he main reason for this are that there are many different aspects to project that allow us to talk about it from this ang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2760" y="4221000"/>
            <a:ext cx="81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 this particular example the image is made up of 5 different main aspects which a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4560840"/>
            <a:ext cx="345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background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screaming w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ain church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date of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459432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cc0000"/>
                </a:solidFill>
                <a:uFillTx/>
                <a:latin typeface="Arial"/>
              </a:rPr>
              <a:t>Can be talked about in terms o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4869000"/>
            <a:ext cx="3743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Technica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Gender stereo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Relig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mparison and eli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poster_1st_draft.jpg"/>
          <p:cNvPicPr/>
          <p:nvPr/>
        </p:nvPicPr>
        <p:blipFill>
          <a:blip r:embed="rId1"/>
          <a:stretch/>
        </p:blipFill>
        <p:spPr>
          <a:xfrm>
            <a:off x="3059280" y="1628640"/>
            <a:ext cx="2736720" cy="1935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2168640" cy="321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142884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5:00:53Z</dcterms:created>
  <dc:creator>pleasant</dc:creator>
  <dc:description/>
  <dc:language>en-US</dc:language>
  <cp:lastModifiedBy>pleasant</cp:lastModifiedBy>
  <dcterms:modified xsi:type="dcterms:W3CDTF">2010-04-20T15:21:38Z</dcterms:modified>
  <cp:revision>2</cp:revision>
  <dc:subject/>
  <dc:title>Evaluation</dc:title>
</cp:coreProperties>
</file>