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F85D8-3A61-4BC8-A33B-13DD00B3F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5129-E240-473A-B6B1-C017C42B6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F617F-36F8-4D68-A6A1-2565206AC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B688D-8206-4AF9-AF06-381B8A640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C1D55-C52D-472A-9370-DFE657CE7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6208D-DC27-44F2-8C39-E76C821F6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70A2-4B5F-44AF-9F90-973D60F9F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BD43-35D4-4252-88C2-5C2AD0D5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3A1FC-4130-4A7A-A973-49B8A23BE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C659-938F-4DC0-AE8E-493589BEA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9D63-78F4-415D-B20B-182A5EE6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AAF93-30BF-4C51-B370-6DCDFB384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FEF5-A78A-411E-AAEF-FBDC32F1F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6080"/>
            <a:ext cx="9144000" cy="6904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the gen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reotypically the “road trip” genre tends to star an all male cast and shows them going on a cross country journey to achieve a goal or complete a mission although they are unified in their attempt to achieve this goal or complete this mission each of the characters normally ends up learning something about themselves and by the end of journey all of them have something to show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940360" y="2205000"/>
            <a:ext cx="1679760" cy="2592360"/>
          </a:xfrm>
          <a:prstGeom prst="rect">
            <a:avLst/>
          </a:prstGeom>
          <a:ln w="0">
            <a:noFill/>
          </a:ln>
        </p:spPr>
      </p:pic>
      <p:pic>
        <p:nvPicPr>
          <p:cNvPr id="45" name="" descr=""/>
          <p:cNvPicPr/>
          <p:nvPr/>
        </p:nvPicPr>
        <p:blipFill>
          <a:blip r:embed="rId3"/>
          <a:stretch/>
        </p:blipFill>
        <p:spPr>
          <a:xfrm>
            <a:off x="7413480" y="4292640"/>
            <a:ext cx="1730520" cy="2565360"/>
          </a:xfrm>
          <a:prstGeom prst="rect">
            <a:avLst/>
          </a:prstGeom>
          <a:ln w="0">
            <a:noFill/>
          </a:ln>
        </p:spPr>
      </p:pic>
      <p:pic>
        <p:nvPicPr>
          <p:cNvPr id="46" name="" descr=""/>
          <p:cNvPicPr/>
          <p:nvPr/>
        </p:nvPicPr>
        <p:blipFill>
          <a:blip r:embed="rId4"/>
          <a:stretch/>
        </p:blipFill>
        <p:spPr>
          <a:xfrm>
            <a:off x="7478640" y="0"/>
            <a:ext cx="1665360" cy="2565360"/>
          </a:xfrm>
          <a:prstGeom prst="rect">
            <a:avLst/>
          </a:prstGeom>
          <a:ln w="0">
            <a:noFill/>
          </a:ln>
        </p:spPr>
      </p:pic>
      <p:sp>
        <p:nvSpPr>
          <p:cNvPr id="4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ssing</a:t>
            </a:r>
            <a:endParaRPr b="0" lang="en-US" sz="4400" spc="-1" strike="noStrike">
              <a:solidFill>
                <a:srgbClr val="000000"/>
              </a:solidFill>
              <a:latin typeface="Arial"/>
            </a:endParaRPr>
          </a:p>
        </p:txBody>
      </p:sp>
      <p:sp>
        <p:nvSpPr>
          <p:cNvPr id="48" name="PlaceHolder 2"/>
          <p:cNvSpPr>
            <a:spLocks noGrp="1"/>
          </p:cNvSpPr>
          <p:nvPr>
            <p:ph/>
          </p:nvPr>
        </p:nvSpPr>
        <p:spPr>
          <a:xfrm>
            <a:off x="-360" y="1341360"/>
            <a:ext cx="73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list showing the highest grossing films for the road trip genre in recent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gover - $459,089,8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rat -$261,572,74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 Hogs - $253,625,42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b and Dumber - $247,275,37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We There Yet? -$97,918,66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V - $87,528,17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 trip - $20,796,847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onograph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s, buses and motorcycles, are the base element of every road trip film as it is the main mode of transportation for the protagonist and his/her allies for them to reach their desired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base element in the road trip genre is for the protagonist to have a destination to reach where they can achieve their goal which they started at the beg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out their journey the protagonist will encounter many hurdles which he and his allies will have to over come before they can continue their voyage of discovery, each of these hurdles normally has a certain relevancy to a member of the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lothing will reflect the personality of each member of the group or the time in which the road trip was ta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props used in the road trip genre are alcohol, drugs, lack of or extreme amounts of mon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ghting is always natural and is used to create a sense of realism and camera angles used are only basic camera angles like mid and long sh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deology of the road trip film is normally for the protagonist to wish to reach a destination to achieve a desired outcome, but normally along his journey the protagonist ideology is affected by the problems faced during the road trip and this normally affects the goal they set out to achieve at the begin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al t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ad trip films can be spilt into two categories; the first is where everything starts with a lapse in morals which leads the protagonist and their allies to begin a journey to rectify their mistake(s). The second Category is normally unique to the protagonist as it is something they need to do films like wild hogs for instance is just about friends who want to hang out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verts of conven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above I have listed the main convention of the road trip genre there are still films which subvert the usual conventions of the road trip genre in order to create something unique to that genre, an example of this is the film “boys don’t cry” The main protagonist in this film is a Lone female transvestite who travels to a new state to escape her dark p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1:41:33Z</dcterms:created>
  <dc:creator>Theo</dc:creator>
  <dc:description/>
  <dc:language>en-US</dc:language>
  <cp:lastModifiedBy> mark</cp:lastModifiedBy>
  <dcterms:modified xsi:type="dcterms:W3CDTF">2009-12-02T18:40:59Z</dcterms:modified>
  <cp:revision>4</cp:revision>
  <dc:subject/>
  <dc:title>Describe the genre</dc:title>
</cp:coreProperties>
</file>