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58CD-4545-44B1-892C-3A56C266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FF0A-1E06-4320-9814-631E2278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89EC-ABCC-474D-9644-54216E6CC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5A13-4499-413D-A88D-6C0C85A6A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89A9-EB08-4843-A8AC-6C3929EB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3072-48F4-46D8-B197-08517514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12DE-AB7A-4C7E-9998-D925A441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1E84-C878-4D9A-B2CA-8EFBB574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B444-138C-48B4-854C-AEE12B6B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52FE-3DBB-42F0-8CA0-BE854293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64B6-0D13-47F3-8587-BC57BE0A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F453-6EB0-4094-AEFE-6A5D338C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C37C-C91D-433C-92BE-45D97E5BA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s – Film Magaz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40000" y="333360"/>
            <a:ext cx="42130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43293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95640" y="189000"/>
            <a:ext cx="437832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24000" y="115920"/>
            <a:ext cx="435924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23:13:22Z</dcterms:created>
  <dc:creator>Preferred Customer</dc:creator>
  <dc:description/>
  <dc:language>en-US</dc:language>
  <cp:lastModifiedBy>Preferred Customer</cp:lastModifiedBy>
  <dcterms:modified xsi:type="dcterms:W3CDTF">2009-12-15T23:13:31Z</dcterms:modified>
  <cp:revision>1</cp:revision>
  <dc:subject/>
  <dc:title>Drafts – Film Magazine</dc:title>
</cp:coreProperties>
</file>