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A913-2B14-4824-A487-FB228744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A4A9-CF35-40DC-80CF-7A3BE0F6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4332-E575-47BE-BB16-61361AAD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349F-9F99-4327-A482-1D422B751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D1BA-FD80-4B61-B871-E96B9961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BF5C-6B96-4A21-9E6E-866E0C5F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D1EE-A9D9-4E87-9FA3-6E07681E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5678-267C-475E-982F-BC46FE73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87BF-91FC-4998-A09B-DC0FBF83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617E-E8BB-4186-9020-20EA6DB5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BE71-4EF6-495D-9508-479E14FA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59E4-4904-48A5-A3FE-C57DC1D2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07FC-5005-439F-AE47-D21642E5A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s – Film Magaz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40000" y="333360"/>
            <a:ext cx="42130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43293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95640" y="189000"/>
            <a:ext cx="437832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24000" y="115920"/>
            <a:ext cx="435924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23:13:22Z</dcterms:created>
  <dc:creator>Preferred Customer</dc:creator>
  <dc:description/>
  <dc:language>en-US</dc:language>
  <cp:lastModifiedBy>Preferred Customer</cp:lastModifiedBy>
  <dcterms:modified xsi:type="dcterms:W3CDTF">2009-12-15T23:13:31Z</dcterms:modified>
  <cp:revision>1</cp:revision>
  <dc:subject/>
  <dc:title>Drafts – Film Magazine</dc:title>
</cp:coreProperties>
</file>