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9006-885C-4C8F-85F8-111DCFF33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AFDB-9716-4B63-876C-16E3E55F2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746B-597C-4343-B20D-AFC8CECEE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BC49-E5D4-4C7B-8552-9DE3EE440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0245-D971-43FA-88A3-7781D156D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0D56-3782-4630-AB4A-6C1FE16E2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C901-A6A3-4FB5-81F9-E952EFBED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5B03-DBA5-4B9D-9445-8A0F3B1CD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19B3-41F5-4384-8BF5-ED6D0A7C5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6BD4-DA23-4881-A7F2-E508546AE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B724-7161-4A2A-BA24-C177A56DA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13BC-E7FF-4CE3-9D3F-9AAD452CC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FF81A-02B6-476B-9B35-B44E5A8FF1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afts – Film Magaz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340000" y="333360"/>
            <a:ext cx="4213080" cy="62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411280" y="260280"/>
            <a:ext cx="432936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195640" y="189000"/>
            <a:ext cx="4378320" cy="64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124000" y="115920"/>
            <a:ext cx="4359240" cy="64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5T23:13:22Z</dcterms:created>
  <dc:creator>Preferred Customer</dc:creator>
  <dc:description/>
  <dc:language>en-US</dc:language>
  <cp:lastModifiedBy>Preferred Customer</cp:lastModifiedBy>
  <dcterms:modified xsi:type="dcterms:W3CDTF">2009-12-15T23:13:31Z</dcterms:modified>
  <cp:revision>1</cp:revision>
  <dc:subject/>
  <dc:title>Drafts – Film Magazine</dc:title>
</cp:coreProperties>
</file>