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DE2-F667-493E-B8F7-9E703D9B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15E-927A-4D10-A7F4-4A792D68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26A-45BF-4345-AFF1-B12AAE57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56D-F8A4-4FCD-9B71-88B78747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43F-785A-4190-ADFB-A2910B1B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46F-2673-4F4E-875A-F4E74088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2FA-A4A6-4EF7-8ED6-5125CA19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FC3-087B-42E3-B539-F82FDCF0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98D-BCB9-4D11-A8C0-38574752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949-2E20-49DC-9F71-9B0DF397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011-7264-4420-BE11-B33F2F6A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0A2-FE3C-46F1-908C-8739CC02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8D59-4E46-425D-8AB6-866E66D36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s – Film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213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329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3783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435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3:13:22Z</dcterms:created>
  <dc:creator>Preferred Customer</dc:creator>
  <dc:description/>
  <dc:language>en-US</dc:language>
  <cp:lastModifiedBy>Preferred Customer</cp:lastModifiedBy>
  <dcterms:modified xsi:type="dcterms:W3CDTF">2009-12-15T23:13:31Z</dcterms:modified>
  <cp:revision>1</cp:revision>
  <dc:subject/>
  <dc:title>Drafts – Film Magazine</dc:title>
</cp:coreProperties>
</file>