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5251-FC43-4905-BBB1-4DD9035E9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0069-469D-45FD-87BC-6088BCC1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79B6-2605-4466-AFF3-A89EF8A71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42A9-4D59-4042-975B-0C8F4D60C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AAE0-F067-4316-866F-DBA10517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280F-BBCD-4CEA-AF08-F8E45188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CF2F-6297-4663-A4AC-C4C7A01B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ED59-F643-427E-9D9A-7C140462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740D-F778-49A4-B38A-A9323DCA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0A77-A8BE-4D9E-B88A-8492A3ED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25DD-3965-4BC2-A182-322A8F6F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FB20-4F6F-4AE4-A347-6E6E09E3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FEDB-B37E-4D77-B48F-326C24AE1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s – Film Magaz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340000" y="333360"/>
            <a:ext cx="421308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11280" y="260280"/>
            <a:ext cx="43293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95640" y="189000"/>
            <a:ext cx="437832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24000" y="115920"/>
            <a:ext cx="435924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23:13:22Z</dcterms:created>
  <dc:creator>Preferred Customer</dc:creator>
  <dc:description/>
  <dc:language>en-US</dc:language>
  <cp:lastModifiedBy>Preferred Customer</cp:lastModifiedBy>
  <dcterms:modified xsi:type="dcterms:W3CDTF">2009-12-15T23:13:31Z</dcterms:modified>
  <cp:revision>1</cp:revision>
  <dc:subject/>
  <dc:title>Drafts – Film Magazine</dc:title>
</cp:coreProperties>
</file>