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619A-13BD-4BE1-AC69-681FABCB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35C-77E1-4F51-8DFE-899B6F7E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B917-B122-4C83-AF44-4A9C8549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588-77AB-4671-8A73-274F1D76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3B54-826B-4353-BCAD-A668180C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065-E6C4-459B-BE94-BEBF45AF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DA0-336A-4686-A3EB-1079307C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1E6-133E-4E11-9BCE-57887A89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FB3-53C0-4406-AA5A-7DAC11E5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694F-BCD6-48F2-991D-C18874EA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FD8-CAF4-47B5-B04E-DF03DEAE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33C0-1C9E-424A-8D23-46249599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EEDB-538E-4E87-A86C-EA985A279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95600" y="530280"/>
            <a:ext cx="3952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5600" y="530280"/>
            <a:ext cx="3952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5600" y="530280"/>
            <a:ext cx="3952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95600" y="530280"/>
            <a:ext cx="3952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23:31:06Z</dcterms:created>
  <dc:creator>Preferred Customer</dc:creator>
  <dc:description/>
  <dc:language>en-US</dc:language>
  <cp:lastModifiedBy>Preferred Customer</cp:lastModifiedBy>
  <dcterms:modified xsi:type="dcterms:W3CDTF">2009-12-09T23:31:14Z</dcterms:modified>
  <cp:revision>1</cp:revision>
  <dc:subject/>
  <dc:title>Drafts (1)</dc:title>
</cp:coreProperties>
</file>