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CF4-8EB5-4E14-A92B-91E3B12F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F13-A449-4FA8-80B6-B134EE0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1F8-92C5-4160-ACCA-567821EB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9DF-F57B-4F40-B05C-E51D976B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6CA-3BEA-4D05-9D5A-8D6C9EA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EEF-4DA3-422C-B0F8-818B6FD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0E-D17F-403A-AF6B-8F655ECD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AF4-0D22-46CC-B6F5-A2EB1172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203-DE04-4570-B81F-065D6D4E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FF4-5E2E-42A5-B988-C076C83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EF-7C8D-47CE-9B49-8A69FDB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7F2-BEE7-46D7-869D-5FA8D8B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81E-1C19-4B5D-BD22-7711D6D0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3:31:06Z</dcterms:created>
  <dc:creator>Preferred Customer</dc:creator>
  <dc:description/>
  <dc:language>en-US</dc:language>
  <cp:lastModifiedBy>Preferred Customer</cp:lastModifiedBy>
  <dcterms:modified xsi:type="dcterms:W3CDTF">2009-12-09T23:31:14Z</dcterms:modified>
  <cp:revision>1</cp:revision>
  <dc:subject/>
  <dc:title>Drafts (1)</dc:title>
</cp:coreProperties>
</file>