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DE9-CF10-4790-A56A-14786568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A32-EB2F-41BA-B4BF-6A49801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86A-B3C9-4C99-AE02-D679EB17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B38-9DAA-41D3-986C-5CD9D32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805-A87C-4FC1-A4DA-B6E79E6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B8F-BF26-4A89-9A8B-938913D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571-9E12-4A7F-8C5C-A92148BC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77C-FB7D-4696-8BBB-6A1A561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0B5-9634-4423-A7CE-82F0B55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B92-54FE-46AD-9E9C-D0ECE60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5AC-9714-4648-9E9E-A726F1D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7BF-3B0E-4D84-BD62-3D07D46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339-A6F8-47AF-8B4F-9627A5BE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3:31:06Z</dcterms:created>
  <dc:creator>Preferred Customer</dc:creator>
  <dc:description/>
  <dc:language>en-US</dc:language>
  <cp:lastModifiedBy>Preferred Customer</cp:lastModifiedBy>
  <dcterms:modified xsi:type="dcterms:W3CDTF">2009-12-09T23:31:14Z</dcterms:modified>
  <cp:revision>1</cp:revision>
  <dc:subject/>
  <dc:title>Drafts (1)</dc:title>
</cp:coreProperties>
</file>