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7C0D-F72F-40B3-8BBA-F23604E8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5DBF-F667-40BC-8067-8251753F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5C13-F999-453B-8F70-AE32EFA3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9FB0-C7E1-41DB-BB78-C7177EC1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B079-D240-4AD5-8459-013A1887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DD62-E664-4482-B24F-71088576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F69F-69FA-44F9-BEED-94F038F5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E151-876D-4D13-A920-21398C70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3965-C671-44DE-AA0F-F36EF153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DA32-C789-4DCA-B85A-FA2AD4AB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DCBB-2373-4234-A002-2BBA2630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5435-285F-4E30-8E53-73A678B5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D3BB-FBFB-4F39-975E-BE7A4D491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95600" y="530280"/>
            <a:ext cx="3952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5600" y="530280"/>
            <a:ext cx="3952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95600" y="530280"/>
            <a:ext cx="3952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95600" y="530280"/>
            <a:ext cx="3952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23:31:06Z</dcterms:created>
  <dc:creator>Preferred Customer</dc:creator>
  <dc:description/>
  <dc:language>en-US</dc:language>
  <cp:lastModifiedBy>Preferred Customer</cp:lastModifiedBy>
  <dcterms:modified xsi:type="dcterms:W3CDTF">2009-12-09T23:31:14Z</dcterms:modified>
  <cp:revision>1</cp:revision>
  <dc:subject/>
  <dc:title>Drafts (1)</dc:title>
</cp:coreProperties>
</file>