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BF4-5D15-424C-BB12-FF868080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628-CA32-4F93-B480-F183DAF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F9B-D1DE-4E07-BBD8-53FB6086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FAD-B9AB-4A66-A40F-A050F95B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A46-AF6B-4AA5-ABCF-2D53427D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EE6-66C8-4190-A176-E5FC186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DD74-4295-4BCA-9871-720CCAE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850A-49CC-4DE7-92DD-03FD4561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D8C7-403D-4AAE-8732-59F0168F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0E3-C6A6-4917-8A41-8F7C12B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8F0-FD04-48FB-8849-B81C753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8C8-4301-45AD-9EC8-F0FDE19C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FE90-5D03-40F0-8B6B-6D62335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35B7-2911-4024-AF1F-C50D9B1C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4C6-CCAB-40FB-94CE-38DE1C9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3AB3-00D2-46DF-92E1-05D29E0C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089C-D5FC-427F-A84B-D0BCF845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1F52D-2FAA-423D-8FA2-8A1BDC78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EABA6-B611-4482-B076-860316C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145D1-DDAB-4061-A239-B0F324C7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95086-F3D0-499E-A477-97C4C4E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69AC0-6343-463C-B225-706BFE4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E0F-0813-46F4-81B1-1A36394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027AA-8619-4D77-995C-BB009DA3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AC37D-D618-4031-983C-ABA8FD5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A71E2-4D71-4B6E-BAA6-787C9C8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89212-5A60-464A-9EF5-F3FF770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DDBBB-E777-410C-B5FD-E54099E7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D5E15-3125-44F5-98A4-94FC587C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D3842-8444-4E76-83C4-6F521842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B518-554A-4A4D-9C1D-B25AA41E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DA93-7E91-48D8-B910-F9B4F7A8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7F41-7988-420F-96C6-E9DB318B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E54-2D15-496B-A5FC-8067C1B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1F1F-9AFC-419F-BF1B-57FD3D54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931F-5901-4929-A043-5663964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72E0-08F7-4396-A391-55C5389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35BA-E591-4899-8D66-C7DC2C8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AC50-3585-4072-B918-B9C0ED3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823C-2B79-4681-AC68-28353EB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63B8-14DE-408E-89C9-6EE5DD5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FDCE-CE75-4621-BDA8-CC65A635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0C8A8-334A-444D-9F86-1172E1B1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E6-4FF0-427A-B60A-A97EF22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FF9-E151-4EDB-BDD8-CC48FDE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C7B-A7A3-4E8E-A29D-D66468B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500-50D4-4380-BBA6-97D3D10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154-10C2-4C99-96FB-75105AA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972-22AC-4C20-A719-DE41F970CE1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E156-ED78-4F82-8E66-8C023E860071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029-4EDA-4FCA-A3B9-7F985238A30C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8C3-B345-4D31-ADCC-3868E0B1609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ler Planning - 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amal Alley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mal plays the role of the protagonist, Jacob, the college nerd and target for the more popular b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cision to choose a Black British male instead of the stereotypical white male was deliberate – we believed that his ethnicity represented the multicultural nature of  East London, and thus the setting of the 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ontent Placeholder 6" descr="jamal.jpg"/>
          <p:cNvPicPr/>
          <p:nvPr/>
        </p:nvPicPr>
        <p:blipFill>
          <a:blip r:embed="rId1"/>
          <a:stretch/>
        </p:blipFill>
        <p:spPr>
          <a:xfrm>
            <a:off x="5094360" y="2071800"/>
            <a:ext cx="31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my M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4" descr="amy.jpg"/>
          <p:cNvPicPr/>
          <p:nvPr/>
        </p:nvPicPr>
        <p:blipFill>
          <a:blip r:embed="rId1"/>
          <a:stretch/>
        </p:blipFill>
        <p:spPr>
          <a:xfrm>
            <a:off x="901800" y="2249640"/>
            <a:ext cx="3149640" cy="452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y plays the role of the supporting female character, Amber, following the cheerleader-like archetype of my chosen gen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iginal casted member for this role was Abigail Enye, however she had to pull out during production and so we had to find a new ac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nor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5" descr="brandon.jpg"/>
          <p:cNvPicPr/>
          <p:nvPr/>
        </p:nvPicPr>
        <p:blipFill>
          <a:blip r:embed="rId1"/>
          <a:stretch/>
        </p:blipFill>
        <p:spPr>
          <a:xfrm>
            <a:off x="357120" y="1285920"/>
            <a:ext cx="203832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4" descr="havon.jpg"/>
          <p:cNvPicPr/>
          <p:nvPr/>
        </p:nvPicPr>
        <p:blipFill>
          <a:blip r:embed="rId2"/>
          <a:srcRect l="19342" t="0" r="29366" b="0"/>
          <a:stretch/>
        </p:blipFill>
        <p:spPr>
          <a:xfrm>
            <a:off x="3571920" y="1285920"/>
            <a:ext cx="1839960" cy="269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rian.jpg"/>
          <p:cNvPicPr/>
          <p:nvPr/>
        </p:nvPicPr>
        <p:blipFill>
          <a:blip r:embed="rId3"/>
          <a:stretch/>
        </p:blipFill>
        <p:spPr>
          <a:xfrm>
            <a:off x="6858000" y="1214280"/>
            <a:ext cx="1422360" cy="21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god.jpg"/>
          <p:cNvPicPr/>
          <p:nvPr/>
        </p:nvPicPr>
        <p:blipFill>
          <a:blip r:embed="rId4"/>
          <a:srcRect l="15439" t="0" r="33827" b="0"/>
          <a:stretch/>
        </p:blipFill>
        <p:spPr>
          <a:xfrm>
            <a:off x="3571920" y="42861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osin.jpg"/>
          <p:cNvPicPr/>
          <p:nvPr/>
        </p:nvPicPr>
        <p:blipFill>
          <a:blip r:embed="rId5"/>
          <a:stretch/>
        </p:blipFill>
        <p:spPr>
          <a:xfrm>
            <a:off x="428760" y="4500720"/>
            <a:ext cx="142704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roderick.jpg"/>
          <p:cNvPicPr/>
          <p:nvPr/>
        </p:nvPicPr>
        <p:blipFill>
          <a:blip r:embed="rId6"/>
          <a:srcRect l="31373" t="16476" r="26718" b="0"/>
          <a:stretch/>
        </p:blipFill>
        <p:spPr>
          <a:xfrm>
            <a:off x="6786720" y="3909960"/>
            <a:ext cx="168588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1"/>
          <p:cNvSpPr/>
          <p:nvPr/>
        </p:nvSpPr>
        <p:spPr>
          <a:xfrm>
            <a:off x="357120" y="335772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andon Solomon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6858000" y="3429000"/>
            <a:ext cx="20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rian Mosquera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6643800" y="6458040"/>
            <a:ext cx="20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derick Eneh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/ 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5500800" y="2214720"/>
            <a:ext cx="92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von Wint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d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1928880" y="450072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osin Alabi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5214960" y="4429080"/>
            <a:ext cx="150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odfrey Umokoro –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mon Room Scene Bysta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41:26Z</dcterms:created>
  <dc:creator>Errol Anderson</dc:creator>
  <dc:description/>
  <dc:language>en-US</dc:language>
  <cp:lastModifiedBy>Errol Anderson</cp:lastModifiedBy>
  <dcterms:modified xsi:type="dcterms:W3CDTF">2010-03-21T09:32:46Z</dcterms:modified>
  <cp:revision>39</cp:revision>
  <dc:subject/>
  <dc:title>Slide 1</dc:title>
</cp:coreProperties>
</file>