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512-3CF9-489E-910E-9D83344A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01E-C2AC-4ECC-8204-564B84B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9FE-8D39-41E3-A994-DEE0B3D8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349-847D-411F-A1EB-A517E253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7E2A-2D86-435C-9671-D0104132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F26C-4050-4276-BDE8-E1D920BE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D7BE-AC0C-475C-93AE-1C3E66AE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B323-06CD-457B-83B3-2F2D9D4E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17F0-517D-4E32-BD03-3C67613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7CDA-D272-4978-822E-026D58AD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9F6D-F85F-4314-BE32-15A6367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33F-07FC-42CA-BCC0-CBFD580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D555-675A-4795-BDF2-B59DB81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A758-1BFB-4D96-B47D-7C44F620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D077-73C3-42C0-9540-FCEA41A6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C05B-7EDD-4459-B806-AAADBC9C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044-7BE5-407D-9D56-D9752DFD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7BE67-57D3-46F8-B2C2-651FD37A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87001-FFFF-40AE-A4B9-0F9CE0FA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87342-0ECD-4860-BFE4-227F9CB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CC3B4-F6D2-4CAD-A5E3-DD8F1E9F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00211-3F40-4642-B381-D99CDBC8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47D-091A-4496-AB08-5C0288A7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20A14-AC6E-4BDA-B78C-F1412FE3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AFD3E-3533-4C1A-B4FE-9EF45512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16D6E-ECBA-4D37-8BFF-95C19F1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92AC5-D874-4B3E-83A3-0091B65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AB64C-CAC7-485D-B026-7B8CDC6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D0573-F86D-459F-924D-974FBFEE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0C3C2-A277-47EA-9C8D-8BDD3541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D3C7-909E-4404-AE93-439FDAFA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8C48-973D-4418-8C58-B46B03F6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EB0B-D56C-403D-80D5-4F9B20B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A29-02FC-453F-8D34-89B6EAB0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BC87-B5F2-4A3C-A0BF-141EE39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1D62-0366-49C6-A10B-4A384B3D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8EF5-B575-4769-8D41-86C75D75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60B9-2754-497D-95A8-9684724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7C58-F06E-4701-87D9-9DA54AA3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E3612-5250-4184-A596-05020A6F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E9A3-3C91-4F3F-BB23-7AE9424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B4AB-9F05-4BDD-A569-FAA91D4D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4DBD-3BBB-4A0B-BDFC-6E8FF6ED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02E-1B4E-4CC4-8A40-0A4C2294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AB9-C590-4F03-A2D9-D335739E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A7D-637C-4FE9-94B5-78D21B9F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69D-3464-4EA2-862B-F891762A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906-1404-45E5-AE99-A4B9B336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4FA-3B48-4A37-B72D-A6FA8B21DE15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A5CA-C55C-4566-A497-52F1127502E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650-4F93-4894-8556-FB94B70EB3A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8BCD-A089-421D-98C2-5163F4519F9B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iler Planning - 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amal Alley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al plays the role of the protagonist, Jacob, the college nerd and target for the more popular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cision to choose a Black British male instead of the stereotypical white male was deliberate – we believed that his ethnicity represented the multicultural nature of  East London, and thus the setting of the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6" descr="jamal.jpg"/>
          <p:cNvPicPr/>
          <p:nvPr/>
        </p:nvPicPr>
        <p:blipFill>
          <a:blip r:embed="rId1"/>
          <a:stretch/>
        </p:blipFill>
        <p:spPr>
          <a:xfrm>
            <a:off x="5094360" y="2071800"/>
            <a:ext cx="314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my M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Content Placeholder 4" descr="amy.jpg"/>
          <p:cNvPicPr/>
          <p:nvPr/>
        </p:nvPicPr>
        <p:blipFill>
          <a:blip r:embed="rId1"/>
          <a:stretch/>
        </p:blipFill>
        <p:spPr>
          <a:xfrm>
            <a:off x="901800" y="2249640"/>
            <a:ext cx="314964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y plays the role of the supporting female character, Amber, following the cheerleader-like archetype of my chosen gen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iginal casted member for this role was Abigail Enye, however she had to pull out during production and so we had to find a new ac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5" descr="brandon.jpg"/>
          <p:cNvPicPr/>
          <p:nvPr/>
        </p:nvPicPr>
        <p:blipFill>
          <a:blip r:embed="rId1"/>
          <a:stretch/>
        </p:blipFill>
        <p:spPr>
          <a:xfrm>
            <a:off x="357120" y="1285920"/>
            <a:ext cx="203832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4" descr="havon.jpg"/>
          <p:cNvPicPr/>
          <p:nvPr/>
        </p:nvPicPr>
        <p:blipFill>
          <a:blip r:embed="rId2"/>
          <a:srcRect l="19342" t="0" r="29366" b="0"/>
          <a:stretch/>
        </p:blipFill>
        <p:spPr>
          <a:xfrm>
            <a:off x="3571920" y="1285920"/>
            <a:ext cx="1839960" cy="269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rian.jpg"/>
          <p:cNvPicPr/>
          <p:nvPr/>
        </p:nvPicPr>
        <p:blipFill>
          <a:blip r:embed="rId3"/>
          <a:stretch/>
        </p:blipFill>
        <p:spPr>
          <a:xfrm>
            <a:off x="6858000" y="1214280"/>
            <a:ext cx="1422360" cy="214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god.jpg"/>
          <p:cNvPicPr/>
          <p:nvPr/>
        </p:nvPicPr>
        <p:blipFill>
          <a:blip r:embed="rId4"/>
          <a:srcRect l="15439" t="0" r="33827" b="0"/>
          <a:stretch/>
        </p:blipFill>
        <p:spPr>
          <a:xfrm>
            <a:off x="3571920" y="42861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osin.jpg"/>
          <p:cNvPicPr/>
          <p:nvPr/>
        </p:nvPicPr>
        <p:blipFill>
          <a:blip r:embed="rId5"/>
          <a:stretch/>
        </p:blipFill>
        <p:spPr>
          <a:xfrm>
            <a:off x="428760" y="4500720"/>
            <a:ext cx="142704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roderick.jpg"/>
          <p:cNvPicPr/>
          <p:nvPr/>
        </p:nvPicPr>
        <p:blipFill>
          <a:blip r:embed="rId6"/>
          <a:srcRect l="31373" t="16476" r="26718" b="0"/>
          <a:stretch/>
        </p:blipFill>
        <p:spPr>
          <a:xfrm>
            <a:off x="6786720" y="3909960"/>
            <a:ext cx="1685880" cy="2519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1"/>
          <p:cNvSpPr/>
          <p:nvPr/>
        </p:nvSpPr>
        <p:spPr>
          <a:xfrm>
            <a:off x="357120" y="335772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andon Solomon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6858000" y="342900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ian Mosquera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6643800" y="6458040"/>
            <a:ext cx="20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derick Eneh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/ 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5500800" y="2214720"/>
            <a:ext cx="92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von Wint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1928880" y="450072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sin Alabi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5214960" y="442908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dfrey Umokoro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41:26Z</dcterms:created>
  <dc:creator>Errol Anderson</dc:creator>
  <dc:description/>
  <dc:language>en-US</dc:language>
  <cp:lastModifiedBy>Errol Anderson</cp:lastModifiedBy>
  <dcterms:modified xsi:type="dcterms:W3CDTF">2010-03-21T09:32:46Z</dcterms:modified>
  <cp:revision>39</cp:revision>
  <dc:subject/>
  <dc:title>Slide 1</dc:title>
</cp:coreProperties>
</file>