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57AD3-1504-4AE6-8F3F-F09359599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A75A5-E227-4841-B1FB-087DE59F7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2F19D-1B55-4897-A6D5-45D547547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FB6D5-E294-47E2-AE61-5A20B5C36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C4DFF-A8C3-4304-942B-0D0CBC7D8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C5557-3AFE-4E0D-8E49-7898B9E42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65C97-9537-4999-B10E-CE6039B71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A0D44-BD8C-43C1-A5C2-0CBB3AF9F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81789-DECD-437D-A6E8-7DF956E66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A74CB-719F-4D06-8C91-96BE3737D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BBED9-40C0-4742-ABF6-E8A257BDD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DE64C-22A6-4C06-BCE3-5DBBF4CD4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08F87-B97B-4088-A4B2-C544CAF6C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9EF38-9A77-47B2-A177-294CA0B29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7913E-BB04-4BE6-AD5D-01456124E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F9F98-F10C-4AAE-B1B7-0B403332A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5BC7E-9A0D-4AE5-85BD-8E3AE72D2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0302178-F624-4800-9069-C950E7A6D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2DE5F62-32E6-4A84-AF47-3CF3D17FF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16D7886-3997-420E-B471-37DD09E9B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B65BAA0-7DA8-43DD-B1F7-48BB3C49A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5127590-A591-4E84-AB2A-D683CB382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BD6E3-4DC4-48F3-9CB3-2AA41747D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F3B3F92-1D01-44CD-B894-FE479DB9D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93854A-0741-4AFB-9C19-62DFD4EE1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0AFD982-6D83-48BA-B82C-F5A70BF57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34AE052-7DA7-4162-96D9-DEB4B0A24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CD3EDD-E2B0-47F9-899C-2DFF591AA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9601431-F7ED-48FE-9810-0A099820A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1CDBDF8-6499-42C7-851C-6E7E280A7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992AC3-61C1-48CC-9840-7A85A0DA7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154145-2A37-4E31-9D0E-C77F4C271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F15F92-F8A6-42DC-8639-14643A016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DFAEF-EBC2-4820-8B03-2B52E9062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E18D3B-7989-4F28-B5AC-3B225DD5C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7F7260-6BE7-42DD-8E5B-E0D90F1F1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A6529A-6642-4F65-862A-B9FC87422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89D664-D94E-49AB-8BD9-C6F8033AA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3C4B91-5F23-4CD4-903A-0AADFC95F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8CD9CA-A1D0-43A6-B3E2-06AABDFA4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8E0D5C-128A-49DE-AADE-0C8D24BB0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627EA9-ECED-4E46-941D-257242F51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A6055C-629A-4ECB-9F60-DC7835BB9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614CF-566C-4A9B-81B0-08104B4B5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F4663-8893-44C8-A767-182885245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C7FC8-40A9-4A5A-8904-982AFD933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1D815-57D4-4174-BA00-98EE3ED22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31F06-3CE8-40C3-8CEE-B96E03ED5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96969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7360" indent="-246240">
              <a:spcBef>
                <a:spcPts val="300"/>
              </a:spcBef>
              <a:buClr>
                <a:srgbClr val="b2b2b2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22320" indent="-218880">
              <a:spcBef>
                <a:spcPts val="300"/>
              </a:spcBef>
              <a:buClr>
                <a:srgbClr val="ddddd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179360" indent="-199800">
              <a:spcBef>
                <a:spcPts val="300"/>
              </a:spcBef>
              <a:buClr>
                <a:srgbClr val="ddddd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389240" indent="-182880">
              <a:spcBef>
                <a:spcPts val="300"/>
              </a:spcBef>
              <a:buClr>
                <a:srgbClr val="96969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b2b2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b2b2b2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417BC-107D-41DD-A7D7-09E1B115E84A}" type="slidenum"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3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b2b2b2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4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b2b2b2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25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b2b2b2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ounded Rectangle 26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ounded Rectangle 40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41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42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43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44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96969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7360" indent="-246240">
              <a:spcBef>
                <a:spcPts val="300"/>
              </a:spcBef>
              <a:buClr>
                <a:srgbClr val="b2b2b2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22320" indent="-218880">
              <a:spcBef>
                <a:spcPts val="300"/>
              </a:spcBef>
              <a:buClr>
                <a:srgbClr val="ddddd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179360" indent="-199800">
              <a:spcBef>
                <a:spcPts val="300"/>
              </a:spcBef>
              <a:buClr>
                <a:srgbClr val="ddddd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389240" indent="-182880">
              <a:spcBef>
                <a:spcPts val="300"/>
              </a:spcBef>
              <a:buClr>
                <a:srgbClr val="96969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b2b2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b2b2b2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A0808-1AB9-4884-A628-5E97F1586D83}" type="slidenum"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96969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7360" indent="-246240">
              <a:spcBef>
                <a:spcPts val="300"/>
              </a:spcBef>
              <a:buClr>
                <a:srgbClr val="b2b2b2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22320" indent="-218880">
              <a:spcBef>
                <a:spcPts val="300"/>
              </a:spcBef>
              <a:buClr>
                <a:srgbClr val="ddddd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179360" indent="-199800">
              <a:spcBef>
                <a:spcPts val="300"/>
              </a:spcBef>
              <a:buClr>
                <a:srgbClr val="ddddd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389240" indent="-182880">
              <a:spcBef>
                <a:spcPts val="300"/>
              </a:spcBef>
              <a:buClr>
                <a:srgbClr val="96969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b2b2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b2b2b2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4E616-6DA4-4D6F-9E09-97B274D44489}" type="slidenum"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96969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7360" indent="-246240">
              <a:spcBef>
                <a:spcPts val="300"/>
              </a:spcBef>
              <a:buClr>
                <a:srgbClr val="b2b2b2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22320" indent="-218880">
              <a:spcBef>
                <a:spcPts val="300"/>
              </a:spcBef>
              <a:buClr>
                <a:srgbClr val="ddddd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179360" indent="-199800">
              <a:spcBef>
                <a:spcPts val="300"/>
              </a:spcBef>
              <a:buClr>
                <a:srgbClr val="ddddd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389240" indent="-182880">
              <a:spcBef>
                <a:spcPts val="300"/>
              </a:spcBef>
              <a:buClr>
                <a:srgbClr val="96969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b2b2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b2b2b2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25548-BFFB-4C87-8D1C-344BFCB41F53}" type="slidenum"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4015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Trailer Planning - Ca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457200" y="3900600"/>
            <a:ext cx="49528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Jamal Alley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2249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96969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amal plays the role of the protagonist, Jacob, the college nerd and target for the more popular bo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300"/>
              </a:spcBef>
              <a:buClr>
                <a:srgbClr val="96969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decision to choose a Black British male instead of the stereotypical white male was deliberate – we believed that his ethnicity represented the multicultural nature of  East London, and thus the setting of the narra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Content Placeholder 6" descr="jamal.jpg"/>
          <p:cNvPicPr/>
          <p:nvPr/>
        </p:nvPicPr>
        <p:blipFill>
          <a:blip r:embed="rId1"/>
          <a:stretch/>
        </p:blipFill>
        <p:spPr>
          <a:xfrm>
            <a:off x="5094360" y="2071800"/>
            <a:ext cx="31464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Amy Mil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Content Placeholder 4" descr="amy.jpg"/>
          <p:cNvPicPr/>
          <p:nvPr/>
        </p:nvPicPr>
        <p:blipFill>
          <a:blip r:embed="rId1"/>
          <a:stretch/>
        </p:blipFill>
        <p:spPr>
          <a:xfrm>
            <a:off x="901800" y="2249640"/>
            <a:ext cx="3149640" cy="452592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 txBox="1"/>
          <p:nvPr/>
        </p:nvSpPr>
        <p:spPr>
          <a:xfrm>
            <a:off x="4648320" y="2249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96969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my plays the role of the supporting female character, Amber, following the cheerleader-like archetype of my chosen gen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300"/>
              </a:spcBef>
              <a:buClr>
                <a:srgbClr val="96969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original casted member for this role was Abigail Enye, however she had to pull out during production and so we had to find a new act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35712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Minor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Content Placeholder 5" descr="brandon.jpg"/>
          <p:cNvPicPr/>
          <p:nvPr/>
        </p:nvPicPr>
        <p:blipFill>
          <a:blip r:embed="rId1"/>
          <a:stretch/>
        </p:blipFill>
        <p:spPr>
          <a:xfrm>
            <a:off x="357120" y="1285920"/>
            <a:ext cx="2038320" cy="1965240"/>
          </a:xfrm>
          <a:prstGeom prst="rect">
            <a:avLst/>
          </a:prstGeom>
          <a:ln w="0">
            <a:noFill/>
          </a:ln>
        </p:spPr>
      </p:pic>
      <p:pic>
        <p:nvPicPr>
          <p:cNvPr id="224" name="Content Placeholder 4" descr="havon.jpg"/>
          <p:cNvPicPr/>
          <p:nvPr/>
        </p:nvPicPr>
        <p:blipFill>
          <a:blip r:embed="rId2"/>
          <a:srcRect l="19342" t="0" r="29366" b="0"/>
          <a:stretch/>
        </p:blipFill>
        <p:spPr>
          <a:xfrm>
            <a:off x="3571920" y="1285920"/>
            <a:ext cx="1839960" cy="269064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7" descr="brian.jpg"/>
          <p:cNvPicPr/>
          <p:nvPr/>
        </p:nvPicPr>
        <p:blipFill>
          <a:blip r:embed="rId3"/>
          <a:stretch/>
        </p:blipFill>
        <p:spPr>
          <a:xfrm>
            <a:off x="6858000" y="1214280"/>
            <a:ext cx="1422360" cy="214344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8" descr="god.jpg"/>
          <p:cNvPicPr/>
          <p:nvPr/>
        </p:nvPicPr>
        <p:blipFill>
          <a:blip r:embed="rId4"/>
          <a:srcRect l="15439" t="0" r="33827" b="0"/>
          <a:stretch/>
        </p:blipFill>
        <p:spPr>
          <a:xfrm>
            <a:off x="3571920" y="4286160"/>
            <a:ext cx="1643040" cy="242892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9" descr="tosin.jpg"/>
          <p:cNvPicPr/>
          <p:nvPr/>
        </p:nvPicPr>
        <p:blipFill>
          <a:blip r:embed="rId5"/>
          <a:stretch/>
        </p:blipFill>
        <p:spPr>
          <a:xfrm>
            <a:off x="428760" y="4500720"/>
            <a:ext cx="1427040" cy="214308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10" descr="roderick.jpg"/>
          <p:cNvPicPr/>
          <p:nvPr/>
        </p:nvPicPr>
        <p:blipFill>
          <a:blip r:embed="rId6"/>
          <a:srcRect l="31373" t="16476" r="26718" b="0"/>
          <a:stretch/>
        </p:blipFill>
        <p:spPr>
          <a:xfrm>
            <a:off x="6786720" y="3909960"/>
            <a:ext cx="1685880" cy="2519280"/>
          </a:xfrm>
          <a:prstGeom prst="rect">
            <a:avLst/>
          </a:prstGeom>
          <a:ln w="0">
            <a:noFill/>
          </a:ln>
        </p:spPr>
      </p:pic>
      <p:sp>
        <p:nvSpPr>
          <p:cNvPr id="229" name="TextBox 11"/>
          <p:cNvSpPr/>
          <p:nvPr/>
        </p:nvSpPr>
        <p:spPr>
          <a:xfrm>
            <a:off x="357120" y="3357720"/>
            <a:ext cx="2071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Brandon Solomon –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ommon Room Scene Bystan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Box 12"/>
          <p:cNvSpPr/>
          <p:nvPr/>
        </p:nvSpPr>
        <p:spPr>
          <a:xfrm>
            <a:off x="6858000" y="3429000"/>
            <a:ext cx="2071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Brian Mosquera –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ommon Room Scene Bystan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Box 14"/>
          <p:cNvSpPr/>
          <p:nvPr/>
        </p:nvSpPr>
        <p:spPr>
          <a:xfrm>
            <a:off x="6643800" y="6458040"/>
            <a:ext cx="2071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Roderick Eneh –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ommon Room Scene Bystander/ Bad Bo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Box 15"/>
          <p:cNvSpPr/>
          <p:nvPr/>
        </p:nvSpPr>
        <p:spPr>
          <a:xfrm>
            <a:off x="5500800" y="2214720"/>
            <a:ext cx="928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Havon Wint –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Bad Bo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Box 16"/>
          <p:cNvSpPr/>
          <p:nvPr/>
        </p:nvSpPr>
        <p:spPr>
          <a:xfrm>
            <a:off x="1928880" y="4500720"/>
            <a:ext cx="1500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Tosin Alabi–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ommon Room Scene Bystan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Box 17"/>
          <p:cNvSpPr/>
          <p:nvPr/>
        </p:nvSpPr>
        <p:spPr>
          <a:xfrm>
            <a:off x="5214960" y="4429080"/>
            <a:ext cx="1500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Godfrey Umokoro –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ommon Room Scene Bystan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9T18:41:26Z</dcterms:created>
  <dc:creator>Errol Anderson</dc:creator>
  <dc:description/>
  <dc:language>en-US</dc:language>
  <cp:lastModifiedBy>Errol Anderson</cp:lastModifiedBy>
  <dcterms:modified xsi:type="dcterms:W3CDTF">2010-03-21T09:32:46Z</dcterms:modified>
  <cp:revision>39</cp:revision>
  <dc:subject/>
  <dc:title>Slide 1</dc:title>
</cp:coreProperties>
</file>