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F767-F746-491C-854D-F779FF50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C7C-B181-4091-9BC4-DAFA4B5D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25C0-D73D-424C-9854-04B97792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6EE-6DBF-44C6-A421-040A3E6A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8EA5-73B9-4269-906C-9DF75051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156E-5C40-43A0-87ED-53AE72B8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27A1-5A6F-4D68-B27A-8E10DEFD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A9F6-7714-437A-B9A0-33940122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6E98-DD11-43D2-AEAE-65B2A1F4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E431-DEA7-495A-B3EE-51FAD79A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B55F-A1E2-4CEF-BD14-0234CE98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C86D-E4AB-4E7B-B8E2-1D09DDFF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D51B-D382-45B7-A390-B6137879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3C84-27F7-43ED-98D4-D7BA947D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42E4-8B94-4032-A24D-F97C91EC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DD83-07B5-47F9-9BC8-4E2F8DCA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3810-759E-400D-8BA3-F2858F6F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80E6A-578D-4C16-9D35-027F539F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9FED6C-C6B4-4E67-82E9-FCA84853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6AFD39-2A39-4982-AB10-8795018E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09D76-5128-48AA-AEF2-1FC0CCEB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3B5A79-F880-403C-B616-69270455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BD0-9D36-42BA-9517-85B258F9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CF688-823B-4A27-8CFC-EC7EAECA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4E7ED-D660-4D41-A90D-7E7AB544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5A090-ACF5-43AC-8CAC-337A4AB9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D765A6-CC46-4DF1-8AB0-734BC0CD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7E17AD-9172-4EF9-BF51-DAA65EC9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B89516-C566-4ABF-BC25-28D209CC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33BDEA-D6B5-4516-B099-C6A33640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BAADE-FC37-42DE-8380-32F9D0F9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56369-016F-42EB-A828-C0DC3A5B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81A68-26AF-4542-997B-567697EA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91D2-55A2-49C3-BF79-F0642197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31384-8C4F-4355-BF50-B7C28FCB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9FFB2-9934-44AA-A5D3-B27BF33D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F609B-1FBC-4FD3-A1D2-ADE525C1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78895-BF0E-45AA-93E8-4FA105A8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DF6D2-13D2-4EA0-855C-1A92B64A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D1CAE-8F82-468C-A810-3A9F4F83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4F7D6-04B2-4C5A-97A1-76BD2822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F4326-2AED-472C-B5C7-D99E9178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714D1-432C-47F8-8612-0041C00E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BB48-2C69-4BD3-A428-CE1FA943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72F-47F2-4DF4-A4DE-5E0764B3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A2BE-01E6-49D6-98E7-CB67A13A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0B47-B0A7-46FE-80EE-AF91DF35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D69-315E-4CAC-887B-418DDE8E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AAD1-3C04-46D0-87A4-0021E1512C6C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b2b2b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b2b2b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BB94-6E19-4757-94FD-50844FDCC52A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ED65-CA36-44B2-A7F0-99576F452A2F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45C8-AFEE-420C-AE27-CA8275408422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railer Planning - 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Jamal Alley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mal plays the role of the protagonist, Jacob, the college nerd and target for the more popular bo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cision to choose a Black British male instead of the stereotypical white male was deliberate – we believed that his ethnicity represented the multicultural nature of  East London, and thus the setting of the nar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Content Placeholder 6" descr="jamal.jpg"/>
          <p:cNvPicPr/>
          <p:nvPr/>
        </p:nvPicPr>
        <p:blipFill>
          <a:blip r:embed="rId1"/>
          <a:stretch/>
        </p:blipFill>
        <p:spPr>
          <a:xfrm>
            <a:off x="5094360" y="2071800"/>
            <a:ext cx="3146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my M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Content Placeholder 4" descr="amy.jpg"/>
          <p:cNvPicPr/>
          <p:nvPr/>
        </p:nvPicPr>
        <p:blipFill>
          <a:blip r:embed="rId1"/>
          <a:stretch/>
        </p:blipFill>
        <p:spPr>
          <a:xfrm>
            <a:off x="901800" y="2249640"/>
            <a:ext cx="3149640" cy="4525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y plays the role of the supporting female character, Amber, following the cheerleader-like archetype of my chosen gen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riginal casted member for this role was Abigail Enye, however she had to pull out during production and so we had to find a new ac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inor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Content Placeholder 5" descr="brandon.jpg"/>
          <p:cNvPicPr/>
          <p:nvPr/>
        </p:nvPicPr>
        <p:blipFill>
          <a:blip r:embed="rId1"/>
          <a:stretch/>
        </p:blipFill>
        <p:spPr>
          <a:xfrm>
            <a:off x="357120" y="1285920"/>
            <a:ext cx="2038320" cy="1965240"/>
          </a:xfrm>
          <a:prstGeom prst="rect">
            <a:avLst/>
          </a:prstGeom>
          <a:ln w="0">
            <a:noFill/>
          </a:ln>
        </p:spPr>
      </p:pic>
      <p:pic>
        <p:nvPicPr>
          <p:cNvPr id="224" name="Content Placeholder 4" descr="havon.jpg"/>
          <p:cNvPicPr/>
          <p:nvPr/>
        </p:nvPicPr>
        <p:blipFill>
          <a:blip r:embed="rId2"/>
          <a:srcRect l="19342" t="0" r="29366" b="0"/>
          <a:stretch/>
        </p:blipFill>
        <p:spPr>
          <a:xfrm>
            <a:off x="3571920" y="1285920"/>
            <a:ext cx="1839960" cy="2690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brian.jpg"/>
          <p:cNvPicPr/>
          <p:nvPr/>
        </p:nvPicPr>
        <p:blipFill>
          <a:blip r:embed="rId3"/>
          <a:stretch/>
        </p:blipFill>
        <p:spPr>
          <a:xfrm>
            <a:off x="6858000" y="1214280"/>
            <a:ext cx="1422360" cy="2143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god.jpg"/>
          <p:cNvPicPr/>
          <p:nvPr/>
        </p:nvPicPr>
        <p:blipFill>
          <a:blip r:embed="rId4"/>
          <a:srcRect l="15439" t="0" r="33827" b="0"/>
          <a:stretch/>
        </p:blipFill>
        <p:spPr>
          <a:xfrm>
            <a:off x="3571920" y="4286160"/>
            <a:ext cx="1643040" cy="242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tosin.jpg"/>
          <p:cNvPicPr/>
          <p:nvPr/>
        </p:nvPicPr>
        <p:blipFill>
          <a:blip r:embed="rId5"/>
          <a:stretch/>
        </p:blipFill>
        <p:spPr>
          <a:xfrm>
            <a:off x="428760" y="4500720"/>
            <a:ext cx="1427040" cy="2143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roderick.jpg"/>
          <p:cNvPicPr/>
          <p:nvPr/>
        </p:nvPicPr>
        <p:blipFill>
          <a:blip r:embed="rId6"/>
          <a:srcRect l="31373" t="16476" r="26718" b="0"/>
          <a:stretch/>
        </p:blipFill>
        <p:spPr>
          <a:xfrm>
            <a:off x="6786720" y="3909960"/>
            <a:ext cx="1685880" cy="25192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1"/>
          <p:cNvSpPr/>
          <p:nvPr/>
        </p:nvSpPr>
        <p:spPr>
          <a:xfrm>
            <a:off x="357120" y="3357720"/>
            <a:ext cx="207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Brandon Solomon –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mon Room Scene Bysta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2"/>
          <p:cNvSpPr/>
          <p:nvPr/>
        </p:nvSpPr>
        <p:spPr>
          <a:xfrm>
            <a:off x="6858000" y="3429000"/>
            <a:ext cx="207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Brian Mosquera –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mon Room Scene Bysta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4"/>
          <p:cNvSpPr/>
          <p:nvPr/>
        </p:nvSpPr>
        <p:spPr>
          <a:xfrm>
            <a:off x="6643800" y="6458040"/>
            <a:ext cx="207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oderick Eneh –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mon Room Scene Bystander/ Bad Bo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5"/>
          <p:cNvSpPr/>
          <p:nvPr/>
        </p:nvSpPr>
        <p:spPr>
          <a:xfrm>
            <a:off x="5500800" y="2214720"/>
            <a:ext cx="92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avon Wint –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ad Bo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6"/>
          <p:cNvSpPr/>
          <p:nvPr/>
        </p:nvSpPr>
        <p:spPr>
          <a:xfrm>
            <a:off x="1928880" y="4500720"/>
            <a:ext cx="150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osin Alabi–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mon Room Scene Bysta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7"/>
          <p:cNvSpPr/>
          <p:nvPr/>
        </p:nvSpPr>
        <p:spPr>
          <a:xfrm>
            <a:off x="5214960" y="4429080"/>
            <a:ext cx="150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odfrey Umokoro –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mon Room Scene Bysta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41:26Z</dcterms:created>
  <dc:creator>Errol Anderson</dc:creator>
  <dc:description/>
  <dc:language>en-US</dc:language>
  <cp:lastModifiedBy>Errol Anderson</cp:lastModifiedBy>
  <dcterms:modified xsi:type="dcterms:W3CDTF">2010-03-21T09:32:46Z</dcterms:modified>
  <cp:revision>39</cp:revision>
  <dc:subject/>
  <dc:title>Slide 1</dc:title>
</cp:coreProperties>
</file>