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E30F-AF0D-42DA-8B43-224F211A76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D61-636D-4C66-8F5A-2E036A60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DF2-5221-4750-B2EF-2CE4AFD7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240-9BFE-4CCE-A650-7FB029B9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850-8279-43A3-AC43-0E7E9E47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584-74D8-4C74-B35A-2E06D50A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622-2412-49E0-B77D-31945B2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FBD-067B-41F6-9890-5D39A97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2B2-2B00-47A7-AEC0-236FC78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DBD-6024-463E-A3C2-084822E5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D5C-512B-454A-8963-A0A52C5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442-E780-4FF8-B15C-695F409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387-782F-4C28-BCDC-7CEB51B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69D-01BA-42BB-9944-28AA6F04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mdb.com/title/tt0240772/trailers" TargetMode="External"/><Relationship Id="rId2" Type="http://schemas.openxmlformats.org/officeDocument/2006/relationships/hyperlink" Target="http://www.imdb.com/title/tt1232776/trailer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identify the key conventions of film trailers, focusing on certain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 the impact of an effective trailer upon an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pproaches to cour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petoire of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echnical aspect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opening your books, write as many CONVENTIONS of film trailers you can think of on the post-it n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s -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 choice of genres to pitc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railer will be for a film of this 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make your poster and magazine front covers by yourselves but the trailer in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chosen groups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2 groups (from all year 13 Media Studies A2 students) per genre – so give you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work in a group to complete the pitch sheet but only need to hand in 1 p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392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ou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413000"/>
            <a:ext cx="30956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y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l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iler analysis of selected pitch gen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ist/Bank Robb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ean’s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mdb.com/title/tt0240772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rban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sh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imdb.com/title/tt1232776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cap of key terms and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3:23:23Z</dcterms:modified>
  <cp:revision>19</cp:revision>
  <dc:subject/>
  <dc:title>Critical research</dc:title>
</cp:coreProperties>
</file>