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B50B-6E63-401E-8B44-0A053EDBDA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4ED-58FB-4E23-81BA-4DF7B216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A2E-72FA-458E-A9F3-BFC1385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910-AC16-454E-AF96-591594B4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779-5A62-4F19-9046-FD83E57F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6B8-65E1-4CE6-8E30-6BEE0A0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D40-9D40-4EC0-9605-6CA75C91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1A4-880D-4CE8-BB09-D1988E6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01C-AD97-46F4-8FD6-46328F0A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AA9-7166-4453-A9D9-2543EA6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065-066F-4793-BBF5-84EC7BA9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B1A-8E54-4AA6-808F-833B03B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D3F-EDAA-44EA-A052-22CBF81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7D2-3F7C-47DA-A350-696E5125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mdb.com/title/tt0240772/trailers" TargetMode="External"/><Relationship Id="rId2" Type="http://schemas.openxmlformats.org/officeDocument/2006/relationships/hyperlink" Target="http://www.imdb.com/title/tt1232776/trailer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identify the key conventions of film trailers, focusing on certain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 the impact of an effective trailer upon an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pproaches to cour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petoire of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echnical aspect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opening your books, write as many CONVENTIONS of film trailers you can think of on the post-it n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s -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 choice of genres to pitc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railer will be for a film of this 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make your poster and magazine front covers by yourselves but the trailer in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chosen groups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2 groups (from all year 13 Media Studies A2 students) per genre – so give you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work in a group to complete the pitch sheet but only need to hand in 1 p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392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ou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413000"/>
            <a:ext cx="30956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y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l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iler analysis of selected pitch gen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ist/Bank Robb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ean’s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mdb.com/title/tt0240772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rban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sh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imdb.com/title/tt1232776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cap of key terms and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3:23:23Z</dcterms:modified>
  <cp:revision>19</cp:revision>
  <dc:subject/>
  <dc:title>Critical research</dc:title>
</cp:coreProperties>
</file>