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14120" y="728640"/>
            <a:ext cx="485460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B643-9AD3-496A-B912-B1581D407E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match any of these to the characters in the fil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ally 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enres are too broad and are sub divided making it difficult to have one generic set of iconographic conventions. Horror and Sci-Fi fo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ome genres can’t be simply identified through iconography. Why and which on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mantic comedy or the thriller are examples which do not have a particular visual iconographic look that links them all. However it is easier to list iconography for genres like the western or gang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F6D2-4F8D-4DCF-8133-FFEBAE3D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3908-6DE3-45B9-8CBB-D2E1D479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61F8-8FA8-4F7E-AB31-567A9AE8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3166-551A-42DE-AC40-25ACE503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F68-5249-4BCA-9D45-FF6FC914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AAEB-3178-4586-8A47-2AED4B64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4535-8229-4433-9C0E-1DADFC48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9597-72E9-4728-AEB1-74E2A7DD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A2AF-508C-41D7-9A72-0A854391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E8F-65D9-4C0F-ACE1-24677EF7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6D79-D08B-42AA-BF60-5A952355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8B7C-A39F-43AB-95CA-2206347E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72D4-D0D2-4795-B617-8F76E2785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ongress.ou.edu/daily_content/images/1505033498.jpg&amp;imgrefurl=http://www.ou.edu/uosa-congress/&amp;h=193&amp;w=140&amp;sz=4&amp;tbnid=iSUVZ3WQ6YsJ:&amp;tbnh=98&amp;tbnw=71&amp;hl=en&amp;prev=/images%3Fq%3Dquestion%2Bmark%26hl%3Den%26lr%3D&amp;oi=imagesr&amp;start=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mdb.com/title/tt0240772/trailers" TargetMode="External"/><Relationship Id="rId2" Type="http://schemas.openxmlformats.org/officeDocument/2006/relationships/hyperlink" Target="http://www.imdb.com/title/tt1232776/trailers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be able to identify the key conventions of film trailers, focusing on certain gen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derstand the impact of an effective trailer upon an 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 approaches to cours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 Representation Rec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is meant by represent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is meant by demograph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factors determine a demograph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is meant by stereotyp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emembe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edia is responsible f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‘constructing’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epresen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cial- economic demographics and fil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raditionally the way of measuring social class was according to the job of the main ‘breadwinner’. The classifications are as follow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: high ranking professionals; lawyers, doctor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: middle ranking professionals; middle managers in business, teachers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1: ‘white collar’ office workers, clerks, semi and nurse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2: skilled manual workers; carpenters, electrici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: semi and unskilled manual workers; drivers, labourers, cleaner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: people on state benefits, the unemployed, pensioners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o these differences still exist? What might be some of the problems with this sort of classific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hat films are aimed at A’s and what films are aimed at D’s? Is there a differenc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s class as important to the film industry as age or gender? What do you consider to be the key elements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9640" y="765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epetoire of 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conograph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to identify genre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rrativ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Propp, Todor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deological them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zeitgeist, overt/cove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d Technical aspect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cinematography, sound, editing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62028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iconography can you identif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uturistic sets/other wor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igh tech weapon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nimalist cl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pace 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roids/rob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ien cr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do the Sci- Fi iconographic conventions in ‘Star Wars create meaning for the audi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problem with Star Wars iconography is that it has ‘stereotyped the genre. What does that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rr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n-linear or linea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arrativ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nk abou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odorov’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ory of narrative stru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quilibrium – enigma –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s there a “resolution” in your fil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there narrative “conventions” for your chosen genre and are they always obey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p’s 8 spheres of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623520"/>
            <a:ext cx="9144000" cy="62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adimir Propp was a Russian writer who through reading hundreds of European folktales and stories came to the conclusion there were 8 main character types that a story would revolve aroun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ti hero or false h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ll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n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l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onor or g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se m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of these character types can necessarily be applied to every folkt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deological The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erm Ideolo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system of ideas or beliefs which give some account of the social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relationship of these ideas or values can have an influence on the meaning of a media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udience and Ide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audience can ‘buy into a media texts ideological mess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media texts have more obvious ideological messages than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distinguished as either covert or overt ideological appro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stions on 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is the problem with iconography when discussing gen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enres are too broad and are sub divided making it difficult to have one generic set of iconographic conventions. Horror and Sci-Fi for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me genres can’t be simply identified through iconography. Why and which 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mantic comedy or the thriller are examples which do not have a particular visual iconographic look that links them all. However it is easier to list iconography for genres like the western or gang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es this sub-genre have a clear set of  identifiable iconographic conven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nk about other films or TV programmes that fit into the same sub-genre (e.g. for Dystopian Sci-Fi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urvivors, 28 Days Later, I am Lege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xtaposition of rural and urban – movement back to self-sufficiency (nostalgia for pre-industrialised past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ti-h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eakness - dark, dirty and decaying land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mbols of more advanced future techn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ited CGI/special effects in Children of Men – Cuaron downplays future technology (he wanted film to be “anti Blade Runne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79200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thout opening your books, write as many CONVENTIONS of film trailers you can think of on the post-it n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7200" spc="-1" strike="noStrike">
                <a:solidFill>
                  <a:srgbClr val="808080"/>
                </a:solidFill>
                <a:latin typeface="Agency FB"/>
              </a:rPr>
              <a:t>‘</a:t>
            </a:r>
            <a:r>
              <a:rPr b="0" i="1" lang="en-GB" sz="7200" spc="-1" strike="noStrike">
                <a:solidFill>
                  <a:srgbClr val="000000"/>
                </a:solidFill>
                <a:latin typeface="Agency FB"/>
              </a:rPr>
              <a:t>Star Wars’</a:t>
            </a:r>
            <a:br>
              <a:rPr sz="7200"/>
            </a:br>
            <a:r>
              <a:rPr b="0" i="1" lang="en-GB" sz="4800" spc="-1" strike="noStrike">
                <a:solidFill>
                  <a:srgbClr val="000000"/>
                </a:solidFill>
                <a:latin typeface="Agency FB"/>
              </a:rPr>
              <a:t>(1977)</a:t>
            </a:r>
            <a:br>
              <a:rPr sz="4800"/>
            </a:br>
            <a:r>
              <a:rPr b="0" i="1" lang="en-GB" sz="4800" spc="-1" strike="noStrike">
                <a:solidFill>
                  <a:srgbClr val="000000"/>
                </a:solidFill>
                <a:latin typeface="Agency FB"/>
              </a:rPr>
              <a:t>George Luc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316548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should 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able to answer the follo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ocial groups does the trailer re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far are their representations typical and how far are the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hat ways can the representations be compared with similar kinds of text from real media/indust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(sub-) genre do you think the film is in and why (what conventions are used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http://www.ou.edu/uosa-congress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1268280"/>
            <a:ext cx="1042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ventions - Rec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69487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y highlight th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est bi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the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owcas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stars/directo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the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visual images barely stay on screen long enough for us to recognise what we are seeing (i.e. they are often very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ast pac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versations are often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ne-l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ramatic camera ang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ay be chosen to show events or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tion is interspersed with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redi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n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oiceov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re used to tell the story and give credi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s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lays an important role in creating atmo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it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ay not appear until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iler builds to a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limax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where it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itch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a choice of genres to pitch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 trailer will be for a film of this gen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ill make your poster and magazine front covers by yourselves but the trailer in a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 chosen groups for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2 groups (from all year 13 Media Studies A2 students) per genre – so give your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oic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ust work in a group to complete the pitch sheet but only need to hand in 1 per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43927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oup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r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b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76720" y="1413000"/>
            <a:ext cx="309564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y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l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ion Ti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re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railer analysis of selected pitch gen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83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ist/Bank Robb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Ocean’s Ele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www.imdb.com/title/tt0240772/tra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rban D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ish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ttp://www.imdb.com/title/tt1232776/tra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cap of key terms and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20:21:31Z</dcterms:created>
  <dc:creator>HP registered user</dc:creator>
  <dc:description/>
  <dc:language>en-US</dc:language>
  <cp:lastModifiedBy>#</cp:lastModifiedBy>
  <dcterms:modified xsi:type="dcterms:W3CDTF">2009-09-22T13:23:23Z</dcterms:modified>
  <cp:revision>19</cp:revision>
  <dc:subject/>
  <dc:title>Critical research</dc:title>
</cp:coreProperties>
</file>