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14120" y="728640"/>
            <a:ext cx="485460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B093-0A20-4C5C-8C06-AA6505EB9B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ally SYM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enres are too broad and are sub divided making it difficult to have one generic set of iconographic conventions. Horror and Sci-Fi fo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ome genres can’t be simply identified through iconography. Why and which on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mantic comedy or the thriller are examples which do not have a particular visual iconographic look that links them all. However it is easier to list iconography for genres like the western or gang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match any of these to the characters in the fil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81F-2032-4686-A085-80E69EE0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2733-CA88-4BBE-91F4-4DB75DA0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CEC6-1245-4887-89AD-37F7758E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137C-2EAA-4671-9414-7C924C58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3B99-81CF-4740-B273-8B26459C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9CD2-DB64-4C14-9EF1-67A50860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98DA-CE3E-4984-82D2-62541563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89D2-6F0E-45C5-A720-A29C79E3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1855-568B-47B5-9F32-ED1BEAC7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6518-75D4-4EE6-AC46-AF02C378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C610-1002-4426-A8D5-FD6B2A7E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4F45-58C7-462F-BDC6-0235BE35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79FB-0834-4609-BEEB-B55E940B9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ongress.ou.edu/daily_content/images/1505033498.jpg&amp;imgrefurl=http://www.ou.edu/uosa-congress/&amp;h=193&amp;w=140&amp;sz=4&amp;tbnid=iSUVZ3WQ6YsJ:&amp;tbnh=98&amp;tbnw=71&amp;hl=en&amp;prev=/images%3Fq%3Dquestion%2Bmark%26hl%3Den%26lr%3D&amp;oi=imagesr&amp;start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mdb.com/Sections/Trailers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creenonline.org.uk/film/id/1208336/index.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 able to identify the key conventions of film trailers, focusing on certain gen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 the impact of an effective trailer upon an aud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re as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all know that genre is a means of classifying which allows us as to group together films according to narrative and film sty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ithin each genre we can often classify into further sub-genr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373720"/>
            <a:ext cx="7488000" cy="100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y to name two films with sub gen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should 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able to answer the follo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ocial groups does the trailer repre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far are their representations typical and how far are they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what ways can the representations be compared with similar kinds of text from real media/indust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(sub-) genre do you think the film is in and why (what conventions are used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http://www.ou.edu/uosa-congress/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1268280"/>
            <a:ext cx="1042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petoire of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2856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on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rr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ological T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177156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conograph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to identify genre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arrati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Propp, Todor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deological them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zeitgeist, overt/cove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echnical aspec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cinematography, sound, editing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estions on 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2856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at is the problem with iconography when discussing gen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enres are too broad and are sub divided making it difficult to have one generic set of iconographic conventions. Horror and Sci-Fi for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me genres can’t be simply identified through iconography. Why and which 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mantic comedy or the thriller are examples which do not have a particular visual iconographic look that links them all. However it is easier to list iconography for genres like the western or gang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es this sub-genre have a clear set of  identifiable iconographic conven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nk about other films or TV programmes that fit into the same sub-genre (e.g. for Dystopian Sci-Fi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urvivors, 28 Days Later, I am Lege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xtaposition of rural and urban – movement back to self-sufficiency (nostalgia for pre-industrialised past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ti-h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eakness - dark, dirty and decaying land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mbols of more advanced future technolog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ited CGI/special effects in Children of Men – Cuaron downplays future technology (he wanted film to be “anti Blade Runner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7200" spc="-1" strike="noStrike">
                <a:solidFill>
                  <a:srgbClr val="808080"/>
                </a:solidFill>
                <a:latin typeface="Agency FB"/>
              </a:rPr>
              <a:t>‘</a:t>
            </a:r>
            <a:r>
              <a:rPr b="0" i="1" lang="en-GB" sz="7200" spc="-1" strike="noStrike">
                <a:solidFill>
                  <a:srgbClr val="000000"/>
                </a:solidFill>
                <a:latin typeface="Agency FB"/>
              </a:rPr>
              <a:t>Star Wars’</a:t>
            </a:r>
            <a:br>
              <a:rPr sz="7200"/>
            </a:br>
            <a:r>
              <a:rPr b="0" i="1" lang="en-GB" sz="4800" spc="-1" strike="noStrike">
                <a:solidFill>
                  <a:srgbClr val="000000"/>
                </a:solidFill>
                <a:latin typeface="Agency FB"/>
              </a:rPr>
              <a:t>(1977)</a:t>
            </a:r>
            <a:br>
              <a:rPr sz="4800"/>
            </a:br>
            <a:r>
              <a:rPr b="0" i="1" lang="en-GB" sz="4800" spc="-1" strike="noStrike">
                <a:solidFill>
                  <a:srgbClr val="000000"/>
                </a:solidFill>
                <a:latin typeface="Agency FB"/>
              </a:rPr>
              <a:t>George Luc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31654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620280"/>
            <a:ext cx="82803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iconography can you identif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turistic sets/other wor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gh tech weapon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nimalist cl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ace 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roids/rob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ien cr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do the Sci- Fi iconographic conventions in ‘Star Wars create meaning for the audi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with Star Wars iconography is that it has ‘stereotyped the genre. What does that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1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1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10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rr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on-linear or linea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narrativ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nk about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odorov’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ory of narrative stru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quilibrium – enigma –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ere a “resolution” in your fil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re there narrative “conventions” for your chosen genre and are they always obey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p’s 8 spheres of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23520"/>
            <a:ext cx="9144000" cy="62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adimir Propp was a Russian writer who through reading hundreds of European folktales and stories came to the conclusion there were 8 main character types that a story would revolve aroun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ti hero or false h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ill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in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l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onor or g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se m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of these character types can necessarily be applied to every folkt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69487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highlight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 b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c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rs/dir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visual images barely stay on screen long enough for us to recognise what we are seeing (i.e. they are often ve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 pac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sations are oft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-l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matic camera ang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be chosen to show events or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is interspersed 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ceov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used to tell the story and give credi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ys an important role in creating atmo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not appear until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ler builds to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 it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deological The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rm Ideolog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system of ideas or beliefs which give some account of the social wor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relationship of these ideas or values can have an influence on the meaning of a media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udience and Ide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audience can ‘buy into a media texts ideological mess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media texts have more obvious ideological messages than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distinguished as either covert or overt ideological appro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itch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have a choice of genres to pitch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trailer will be for a film of this gen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make your poster and magazine front covers by yourselves but the trailer in a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groups must be of 3 or 4 – no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2 groups (from all year 13 Media Studies A2 students) per genre – so give your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oic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ust work in a group to complete the pitch sheet but only need to hand in 1 per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ction Ti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re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ler analysis templ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83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Ocean’s Ele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ulp F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Kidulth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otorcycle Di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imdb.com/Sections/Trailers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m cl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creenonline.org.uk/film/id/1208336/index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 Representation Rec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meant by represent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meant by demograph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factors determine a demograph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meant by stereotyp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member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media is responsible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‘constructing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represen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cial- economic demographics and fil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raditionally the way of measuring social class was according to the job of the main ‘breadwinner’. The classifications are as follow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: high ranking professionals; lawyers, doctor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B: middle ranking professionals; middle managers in business, teachers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1: ‘white collar’ office workers, clerks, semi and nurse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2: skilled manual workers; carpenters, electrici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: semi and unskilled manual workers; drivers, labourers, cleaner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: people on state benefits, the unemployed, pensioners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o these differences still exist? What might be some of the problems with this sort of classific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hat films are aimed at A’s and what films are aimed at D’s? Is there a differenc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s class as important to the film industry as age or gender? What do you consider to be the key elements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20:21:31Z</dcterms:created>
  <dc:creator>HP registered user</dc:creator>
  <dc:description/>
  <dc:language>en-US</dc:language>
  <cp:lastModifiedBy>#</cp:lastModifiedBy>
  <dcterms:modified xsi:type="dcterms:W3CDTF">2009-09-22T12:59:07Z</dcterms:modified>
  <cp:revision>18</cp:revision>
  <dc:subject/>
  <dc:title>Critical research</dc:title>
</cp:coreProperties>
</file>