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BE55-4137-4468-BAAB-418C0A23FF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929-560E-4874-A0D2-BD54E39A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3D3-7183-473D-A034-27146C4C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642-D214-4DA5-9828-EBC14F14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C70-119A-43F9-8239-C3A51A1B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F45-40BC-41D8-93DD-1B2CAFD0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9A2-BE39-4CCC-9EE5-7BB9D4AF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4A7-B30A-48DB-A59F-40AD0A1C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531-F175-44E2-99FB-FD0CAC79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F30-3256-4E96-96DE-7888872C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9EF-4F96-4F39-BD79-8643FC24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7E6-D5BB-4602-A8D7-E1F89182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D1C-5B00-4FB8-AC44-235E4B3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3D74-B833-421F-A3B0-0141F6971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mdb.com/Sections/Trailers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1208336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ble to identify the key conventions of film trailers, focusing on certain gen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impact of an effective trailer upon an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re as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ll know that genre is a means of classifying which allows us as to group together films according to narrative and film sty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thin each genre we can often classify into further sub-gen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373720"/>
            <a:ext cx="748800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y to name two films with sub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petoire of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7715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chnical aspec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a choice of genres to pitch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ler will be for a film of this gen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make your poster and magazine front covers by yourselves but the trailer in a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roups must be of 3 or 4 – no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2 groups (from all year 13 Media Studies A2 students) per genre – so give you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work in a group to complete the pitch sheet but only need to hand in 1 p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er analysis 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cean’s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ulp F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idulth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torcycle Di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mdb.com/Sections/Trailer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m cl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creenonline.org.uk/film/id/1208336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2:59:07Z</dcterms:modified>
  <cp:revision>18</cp:revision>
  <dc:subject/>
  <dc:title>Critical research</dc:title>
</cp:coreProperties>
</file>