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79E-2EC1-402F-9BF6-BAEF37725D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051-A5B0-43ED-A511-146067CC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5ED-C106-4971-A317-1C374B3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955-85D6-4C61-BF0B-FD1A580F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820-7549-4799-9BD8-3D990591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F8E-34AB-4ED7-971B-72AE46F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0EA-5C72-4A18-8674-614A8CC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536-BECE-4189-8F48-B7513E06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945-A449-4431-99D5-050658F8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4BE-4942-4004-966D-061A2175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2C6-F401-450D-A145-772B9B4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8CE-32B6-4D8B-9A1E-B995774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02F-AFC9-482D-8E79-B116C23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469-5CEB-43E2-8992-A3A33DD0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mdb.com/Sections/Trailer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1208336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ble to identify the key conventions of film trailers, focusing on certain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mpact of an effective trailer upon a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re a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ll know that genre is a means of classifying which allows us as to group together films according to narrative and film sty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each genre we can often classify into further sub-gen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373720"/>
            <a:ext cx="7488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to name two films with sub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oire of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pec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 choice of genres to pitch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ler will be for a film of this gen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make your poster and magazine front covers by yourselves but the trailer in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oups must be of 3 or 4 – no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groups (from all year 13 Media Studies A2 students) per genre – so give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work in a group to complete the pitch sheet but only need to hand in 1 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er analysis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cean’s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ulp F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idult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torcycle Di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/Sections/Traile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 cl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reenonline.org.uk/film/id/120833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2:59:07Z</dcterms:modified>
  <cp:revision>18</cp:revision>
  <dc:subject/>
  <dc:title>Critical research</dc:title>
</cp:coreProperties>
</file>