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4F79-B5A8-4C1D-8B91-CC5239A0F2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 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C84-2B26-4E27-BCE3-E7826CE7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0BD-EA66-462B-94DE-C78CF304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1A5-F040-467F-8441-1D59904F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DEB-FF62-4B35-A668-E6643562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4BC-4670-4DBF-92D7-8AFA6C69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0F0-6C3D-48D8-9255-E6C54C60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417-8696-4262-89B4-7DB13DF9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342-D648-4B6D-83B1-7B38C815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1E4-D486-4B4F-B2FE-E3FA7839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D76-6719-43A5-B6C0-71612AA2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81F-DB83-4DA9-96DC-E44915C5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0DB-62A1-470B-B50E-25AF98E1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E031-13C6-4224-B8A5-95ADD21EF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gress.ou.edu/daily_content/images/1505033498.jpg&amp;imgrefurl=http://www.ou.edu/uosa-congress/&amp;h=193&amp;w=140&amp;sz=4&amp;tbnid=iSUVZ3WQ6YsJ:&amp;tbnh=98&amp;tbnw=71&amp;hl=en&amp;prev=/images%3Fq%3Dquestion%2Bmark%26hl%3Den%26lr%3D&amp;oi=imagesr&amp;start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mdb.com/title/tt0240772/trailers" TargetMode="External"/><Relationship Id="rId2" Type="http://schemas.openxmlformats.org/officeDocument/2006/relationships/hyperlink" Target="http://www.imdb.com/title/tt1232776/trailer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be able to identify the key conventions of film trailers, focusing on certain gen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stand the impact of an effective trailer upon an 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approaches to cours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 Representation Rec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represen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factors determine a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meant by stereoty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membe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edia is responsible f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‘constructing’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cial- economic demographics and fil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ditionally the way of measuring social class was according to the job of the main ‘breadwinner’. The classifications are as follow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: high ranking professionals; lawyers, docto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: middle ranking professionals; middle managers in business, teach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1: ‘white collar’ office workers, clerks, semi and nurse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2: skilled manual workers; carpenters, electric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: semi and unskilled manual workers; drivers, labourers, cleane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: people on state benefits, the unemployed, pension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o these differences still exist? What might be some of the problems with this sort of classific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at films are aimed at A’s and what films are aimed at D’s? Is there a differ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s class as important to the film industry as age or gender? What do you consider to be the key element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epetoire of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conograph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to identify genre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rrativ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Propp, Todor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deological the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zeitgeist, overt/cov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d Technical aspect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cinematography, sound, edi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iconography can you identif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uturistic sets/other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gh tech weapon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imalist cl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pace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roids/rob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ien cr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do the Sci- Fi iconographic conventions in ‘Star Wars create meaning for the aud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problem with Star Wars iconography is that it has ‘stereotyped the genre. What does that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linear or linea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arrativ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nk abou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odorov’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ory of narrative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quilibrium – enigma –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 there a “resolution” in your fil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re narrative “conventions” for your chosen genre and are they always obey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p’s 8 spheres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2352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ti hero or false h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l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l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nor or g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se 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of these character types can necessarily be applied to every folk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deological T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rm Ide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system of ideas or beliefs which give some account of the social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relationship of these ideas or values can have an influence on the meaning of a media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udience and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udience can ‘buy into a media texts ideological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media texts have more obvious ideological messages than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distinguished as either covert or overt ideological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s on 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 the problem with iconography when discussing gen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es this sub-genre have a clear set of  identifiable iconographic conven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other films or TV programmes that fit into the same sub-genre (e.g. for Dystopian Sci-Fi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rvivors, 28 Days Later, I am Leg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xtaposition of rural and urban – movement back to self-sufficiency (nostalgia for pre-industrialised pas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ti-h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eakness - dark, dirty and decaying 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mbols of more advanced future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ed CGI/special effects in Children of Men – Cuaron downplays future technology (he wanted film to be “anti Blade Runne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7920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out opening your books, write as many CONVENTIONS of film trailers you can think of on the post-it n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7200" spc="-1" strike="noStrike">
                <a:solidFill>
                  <a:srgbClr val="808080"/>
                </a:solidFill>
                <a:latin typeface="Agency FB"/>
              </a:rPr>
              <a:t>‘</a:t>
            </a:r>
            <a:r>
              <a:rPr b="0" i="1" lang="en-GB" sz="7200" spc="-1" strike="noStrike">
                <a:solidFill>
                  <a:srgbClr val="000000"/>
                </a:solidFill>
                <a:latin typeface="Agency FB"/>
              </a:rPr>
              <a:t>Star Wars’</a:t>
            </a:r>
            <a:br>
              <a:rPr sz="72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(1977)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George Lu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16548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should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able to answer 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cial groups does the trailer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ar are their representations typical and how far are the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at ways can the representations be compared with similar kinds of text from real media/indus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(sub-) genre do you think the film is in and why (what conventions are used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http://www.ou.edu/uosa-congress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1268280"/>
            <a:ext cx="1042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ventions - Rec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6948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highlight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st b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wcas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stars/direct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visual images barely stay on screen long enough for us to recognise what we are seeing (i.e. they are often very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st pac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rsations are ofte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ne-l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ramatic camera 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y be chosen to show events or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ion is interspersed with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n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oiceo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used to tell the story and give credi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s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lays an important role in creating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it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y not appear until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iler builds to 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ima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where it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itch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a choice of genres to pitch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trailer will be for a film of this gen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ill make your poster and magazine front covers by yourselves but the trailer in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 chosen groups fo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2 groups (from all year 13 Media Studies A2 students) per genre – so give you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oic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ust work in a group to complete the pitch sheet but only need to hand in 1 p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4392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ou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r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1413000"/>
            <a:ext cx="309564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y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l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ion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re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ailer analysis of selected pitch gen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ist/Bank Robb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cean’s El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www.imdb.com/title/tt0240772/tr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rban D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ish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www.imdb.com/title/tt1232776/tra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cap of key terms and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20:21:31Z</dcterms:created>
  <dc:creator>HP registered user</dc:creator>
  <dc:description/>
  <dc:language>en-US</dc:language>
  <cp:lastModifiedBy>#</cp:lastModifiedBy>
  <dcterms:modified xsi:type="dcterms:W3CDTF">2009-09-22T13:23:23Z</dcterms:modified>
  <cp:revision>19</cp:revision>
  <dc:subject/>
  <dc:title>Critical research</dc:title>
</cp:coreProperties>
</file>