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834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3200" cy="97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7360" y="-360"/>
            <a:ext cx="29829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14120" y="728640"/>
            <a:ext cx="4854600" cy="364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30192-662F-4581-BA4E-F5AF3AA1159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match any of these to the characters in the fil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ally SYMBO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genres are too broad and are sub divided making it difficult to have one generic set of iconographic conventions. Horror and Sci-Fi for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Some genres can’t be simply identified through iconography. Why and which on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mantic comedy or the thriller are examples which do not have a particular visual iconographic look that links them all. However it is easier to list iconography for genres like the western or gangs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433A-FAF3-4060-9708-C58030639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2AAB-6088-48F9-926D-AE5735E29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6AEC-58AD-4036-8B09-0643A7814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40D9-BBAE-4D66-B9A7-375CD74C2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4E2D-CEA1-429E-83E8-ECD5B8A8F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E3CC-BDEC-46BB-A864-B7A580FFA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22B6-7152-4EE2-9404-DCF34C0BE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DAB4-0AB2-40AA-931F-1DF0C0166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5CD7-D5E7-4B13-8125-AEB86EB50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255F-5057-46F4-A336-6C99F89E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46B3-EC52-435E-B89A-55B253E8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56C0-BD94-451B-B706-4B782AB3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CD6A7-90EA-4D0A-BE48-3F3807A74B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congress.ou.edu/daily_content/images/1505033498.jpg&amp;imgrefurl=http://www.ou.edu/uosa-congress/&amp;h=193&amp;w=140&amp;sz=4&amp;tbnid=iSUVZ3WQ6YsJ:&amp;tbnh=98&amp;tbnw=71&amp;hl=en&amp;prev=/images%3Fq%3Dquestion%2Bmark%26hl%3Den%26lr%3D&amp;oi=imagesr&amp;start=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imdb.com/title/tt0240772/trailers" TargetMode="External"/><Relationship Id="rId2" Type="http://schemas.openxmlformats.org/officeDocument/2006/relationships/hyperlink" Target="http://www.imdb.com/title/tt1232776/trailers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be able to identify the key conventions of film trailers, focusing on certain gen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derstand the impact of an effective trailer upon an aud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ider approaches to cours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A Representation Reca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at is meant by represent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at is meant by demographic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at factors determine a demographic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at is meant by stereotyp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Remember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media is responsible for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‘constructing’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represent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20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200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Social- economic demographics and fil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raditionally the way of measuring social class was according to the job of the main ‘breadwinner’. The classifications are as follow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: high ranking professionals; lawyers, doctors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B: middle ranking professionals; middle managers in business, teachers et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1: ‘white collar’ office workers, clerks, semi and nurses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2: skilled manual workers; carpenters, electrici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D: semi and unskilled manual workers; drivers, labourers, cleaners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E: people on state benefits, the unemployed, pensioners et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Do these differences still exist? What might be some of the problems with this sort of classificatio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What films are aimed at A’s and what films are aimed at D’s? Is there a differenc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Is class as important to the film industry as age or gender? What do you consider to be the key elements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5" dur="2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2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0" dur="20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20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0" dur="2000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5" dur="2000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0" dur="2000"/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539640" y="76500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Repetoire of Ele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conograph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to identify genre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Narrativ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Propp, Todoro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deological them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zeitgeist, overt/cover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nd Technical aspect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cinematography, sound, editing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2" dur="2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7" dur="2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2" dur="20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7" dur="200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Iconogra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280" y="620280"/>
            <a:ext cx="828036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hat iconography can you identif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uturistic sets/other wor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igh tech weapon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nimalist clo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pace 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ndroids/rob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lien cr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ow do the Sci- Fi iconographic conventions in ‘Star Wars create meaning for the audien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problem with Star Wars iconography is that it has ‘stereotyped the genre. What does that me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1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1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10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1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1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1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arra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Non-linear or linear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narrative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ink about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Todorov’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heory of narrative structu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quilibrium – enigma – re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s there a “resolution” in your fil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re there narrative “conventions” for your chosen genre and are they always obey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6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1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4" dur="2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7" dur="2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0" dur="2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pp’s 8 spheres of 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623520"/>
            <a:ext cx="9144000" cy="62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ladimir Propp was a Russian writer who through reading hundreds of European folktales and stories came to the conclusion there were 8 main character types that a story would revolve around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h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nti hero or false he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ill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inc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help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onor or gi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ise m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a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of these character types can necessarily be applied to every folkt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deological The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erm Ideolog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system of ideas or beliefs which give some account of the social worl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relationship of these ideas or values can have an influence on the meaning of a media tex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udience and Ide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audience can ‘buy into a media texts ideological mess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 media texts have more obvious ideological messages than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is distinguished as either covert or overt ideological approa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1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Questions on iconogra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52856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hat is the problem with iconography when discussing gen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genres are too broad and are sub divided making it difficult to have one generic set of iconographic conventions. Horror and Sci-Fi for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ome genres can’t be simply identified through iconography. Why and which on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omantic comedy or the thriller are examples which do not have a particular visual iconographic look that links them all. However it is easier to list iconography for genres like the western or gang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7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2" dur="2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7" dur="2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2" dur="20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conogra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oes this sub-genre have a clear set of  identifiable iconographic conven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nk about other films or TV programmes that fit into the same sub-genre (e.g. for Dystopian Sci-Fi: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Survivors, 28 Days Later, I am Legen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uxtaposition of rural and urban – movement back to self-sufficiency (nostalgia for pre-industrialised past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ti-her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leakness - dark, dirty and decaying landsc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ymbols of more advanced future technolog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mited CGI/special effects in Children of Men – Cuaron downplays future technology (he wanted film to be “anti Blade Runner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4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9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39640" y="1412640"/>
            <a:ext cx="79200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ithout opening your books, write as many CONVENTIONS of film trailers you can think of on the post-it no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8728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7200" spc="-1" strike="noStrike">
                <a:solidFill>
                  <a:srgbClr val="808080"/>
                </a:solidFill>
                <a:latin typeface="Agency FB"/>
              </a:rPr>
              <a:t>‘</a:t>
            </a:r>
            <a:r>
              <a:rPr b="0" i="1" lang="en-GB" sz="7200" spc="-1" strike="noStrike">
                <a:solidFill>
                  <a:srgbClr val="000000"/>
                </a:solidFill>
                <a:latin typeface="Agency FB"/>
              </a:rPr>
              <a:t>Star Wars’</a:t>
            </a:r>
            <a:br>
              <a:rPr sz="7200"/>
            </a:br>
            <a:r>
              <a:rPr b="0" i="1" lang="en-GB" sz="4800" spc="-1" strike="noStrike">
                <a:solidFill>
                  <a:srgbClr val="000000"/>
                </a:solidFill>
                <a:latin typeface="Agency FB"/>
              </a:rPr>
              <a:t>(1977)</a:t>
            </a:r>
            <a:br>
              <a:rPr sz="4800"/>
            </a:br>
            <a:r>
              <a:rPr b="0" i="1" lang="en-GB" sz="4800" spc="-1" strike="noStrike">
                <a:solidFill>
                  <a:srgbClr val="000000"/>
                </a:solidFill>
                <a:latin typeface="Agency FB"/>
              </a:rPr>
              <a:t>George Luc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3165480" cy="44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95280" y="549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YOU should n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e able to answer the follow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social groups does the trailer repres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far are their representations typical and how far are they no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what ways can the representations be compared with similar kinds of text from real media/indust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(sub-) genre do you think the film is in and why (what conventions are used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http://www.ou.edu/uosa-congress/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96360" y="1268280"/>
            <a:ext cx="10429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ventions - Rec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69487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y highlight the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est bit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of the fi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owcase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stars/directo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of the fi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me visual images barely stay on screen long enough for us to recognise what we are seeing (i.e. they are often very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ast pace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versations are often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ne-li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ramatic camera angl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may be chosen to show events or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ction is interspersed with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redit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on scr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Voiceover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re used to tell the story and give credit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usi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lays an important role in creating atmosp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itl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may not appear until the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iler builds to a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limax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where it e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on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itch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1280" y="1619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have a choice of genres to pitch f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r trailer will be for a film of this gen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will make your poster and magazine front covers by yourselves but the trailer in a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have chosen groups for y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ly 2 groups (from all year 13 Media Studies A2 students) per genre – so give your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hoice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must work in a group to complete the pitch sheet but only need to hand in 1 per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1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r 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43927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roup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r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b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a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76720" y="1413000"/>
            <a:ext cx="3095640" cy="44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oup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y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ylv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ion Ti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re Cho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railer analysis of selected pitch gen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1280" y="183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eist/Bank Robb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Ocean’s Ele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http://www.imdb.com/title/tt0240772/trai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Urban Dr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Fish T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http://www.imdb.com/title/tt1232776/trai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cap of key terms and princi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20:21:31Z</dcterms:created>
  <dc:creator>HP registered user</dc:creator>
  <dc:description/>
  <dc:language>en-US</dc:language>
  <cp:lastModifiedBy>#</cp:lastModifiedBy>
  <dcterms:modified xsi:type="dcterms:W3CDTF">2009-09-22T13:23:23Z</dcterms:modified>
  <cp:revision>19</cp:revision>
  <dc:subject/>
  <dc:title>Critical research</dc:title>
</cp:coreProperties>
</file>