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2F87-0CC7-449D-803F-34255CD9DD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C35-09F4-4082-9110-5C7A34FD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88A-B70C-46B9-98CC-BE0F6A5E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00C-0C0C-4BE1-86E3-A55D18D6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057-02B0-43BA-B3EE-EF84802C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634-2638-45F9-94E3-F3E1273A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81D-9A6B-4A0B-95DD-D0C638B2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406-69A8-4CA4-99CB-04C51E89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9CE-5D99-454F-AD2B-19B0B2C2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277-54AE-4B30-B835-B1F6B32F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6AC-A7EB-4B41-97F0-90C80DD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9C1-03AD-431C-BF46-0F47F92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164-4F63-4DFD-A106-A42864EB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565-605A-4895-9E91-9D5E04EDC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mdb.com/Sections/Trailers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1208336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ble to identify the key conventions of film trailers, focusing on certain gen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impact of an effective trailer upon an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re a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ll know that genre is a means of classifying which allows us as to group together films according to narrative and film sty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in each genre we can often classify into further sub-gen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373720"/>
            <a:ext cx="748800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to name two films with sub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oire of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7715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chnical aspec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a choice of genres to pitch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ler will be for a film of this gen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make your poster and magazine front covers by yourselves but the trailer in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oups must be of 3 or 4 – no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2 groups (from all year 13 Media Studies A2 students) per genre – so give you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work in a group to complete the pitch sheet but only need to hand in 1 p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er analysis 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cean’s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ulp F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idulth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torcycle Di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mdb.com/Sections/Trailer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 cl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creenonline.org.uk/film/id/1208336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2:59:07Z</dcterms:modified>
  <cp:revision>18</cp:revision>
  <dc:subject/>
  <dc:title>Critical research</dc:title>
</cp:coreProperties>
</file>