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E52-AF07-4A52-A625-CAC13167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054-C2EE-4A1B-A80C-B4625C8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D32F9-FC76-4A3F-A794-970A1022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038B6-403D-4A74-BBB6-EE1A616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08F3A-944B-4508-9ACF-BC710507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FA0FD-ABC3-41B4-9113-7E21DB6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D9FCB-07FE-4D64-B2D8-07A3A75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7EA77-C181-4E90-B89B-B5AFF3ED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947DE-E2C1-47ED-9BB7-2B970D41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9B43-6641-4C5E-A976-75FF9CEE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4167-7D1A-4B12-AD3A-DCD512A3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101-BA84-445D-91B3-25AD375C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427-BAD5-4978-8184-BA263CE8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B443-117E-47D4-AB5D-5C12F4F9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597F-FDAC-4258-B0B6-4AE4092F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32AD-5CB9-4744-933A-16F7B1AC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2F96-B472-4DD2-9ABD-2E646F0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F3A-82A9-4A35-AA39-5004C89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04E4-759E-417C-94D3-7CC0A295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EF8-6197-4042-9198-0BA79BC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D9D-8627-40C1-A4E0-E8C8C01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849-FE8D-4289-88B1-C76ECAF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A8B7-3CA4-4AF5-B95D-355B2EF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8491-43BF-47ED-BE42-B995C0C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0A33-4ADD-4094-8EC7-7D29E413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8DF-9560-4640-BEEE-98AF3CF5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9752-73B0-4451-BA54-F133DC4D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003E-9901-4957-83AF-3C3E97C1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7385-C100-48E2-9FCE-5175C1F1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2436-52EE-4D6A-9378-121A21E3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455E-529D-472B-A983-27ED8E6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387-A2EE-49EC-842B-978571DD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EF33-7D2A-492B-BE11-197D8D19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7A0D-2914-46C6-B434-DEDAFEB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861D-5461-424B-BB26-2AC341B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D0A2-8211-453C-ABAB-ADD56098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F54B-0914-4AD1-906C-67C4E8F5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FD4E-0192-438D-8BE6-E746C10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5964-2028-4DE9-961D-D27D0EDD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B37E6-39F9-4ABC-B3D1-7CA0E33C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CFF8-A340-49A4-A4F9-93D2A7AC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1CBEE-E49B-43A7-960C-7B52EEFD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8DC-474C-4D73-8DF1-46D9D18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BF6BE-471F-4FA9-8D88-73033B3D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9A44-E968-42C7-8561-0C5EDABE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E24E-341C-415A-B54D-659A0946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4D55-D8A9-42F5-A8E7-56D8DDF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73A5-D6D6-411F-B465-7618CBA9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0401-B6B1-4CB6-BF86-26186EC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5CA9-DC0E-4096-B274-B73F5DA8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5859-BDC9-4F9C-9A6C-1D180012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BE37-C031-4DF8-BBFF-A1E71EBE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6F7A-C748-4919-BB80-5864B383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312-E005-4AC5-9183-1673F6B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5A14-70A5-4327-AC91-F87454F0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F43C-2E01-4822-B764-C746127A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0A34-4A99-4DD1-BCD7-3B9F7252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6BE8-DF6E-4D46-86B7-B829592F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E4C9-EB77-4C27-B777-FA76D4AD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EE40-18A4-4B1A-8B7F-FCF3A6A8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73428-D2ED-472F-8041-249B582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54B0-7DB9-4564-BC1A-38A25BBE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F4DD-F929-4506-8854-0FBFF510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5D6D-85C1-4C23-AF03-1A52DB90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54C-B11F-4BF8-BAEF-1C70FE1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78E0-2491-4648-804F-AC18CA9E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9882-BF55-4A87-BCD9-BF76554B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0B02-7B04-4A64-926A-121442AB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15DF-BBF1-468F-A36F-43FBC0B5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B4FF-DDFF-4E0E-8427-446D09B2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7596C-79E0-4E7D-9267-6269324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D856-1ED1-4C13-9BAD-AFE99E3D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6CD21-672A-4581-A7B1-C69F112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1042-0127-45C8-949B-41D7E77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D23D-7A4E-4C63-B127-85E1FFE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581-A625-4A4E-A37E-A10B0DA9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EEC5-8281-475F-98AF-2620F547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10580-9ABC-42A4-B6FB-5CE52226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C0CD9-CFB4-4C78-9A0E-11A83841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7368D-882F-400E-A97F-EE562309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D1A11-9EA3-4EFE-A2D3-248EE34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376E8-82B7-40FB-BA39-F82FB58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39B30-E4D7-4B6D-99EB-9C7133E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8B7CA-440B-4C1A-AAA5-AE5C844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F0DB-592D-4F4E-AC69-C8B316A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8DC18-A643-456D-A53B-FD2FB855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1CB-D874-44A4-A6CA-9CF71F4F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06DF-8276-4897-9FDF-5BFB697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C99F-5B2B-41FF-92AF-170BD7D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31BB-D115-4369-B1EB-5A68A54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2498-F8C4-482B-B17D-5E613D6C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D219C-ECBD-4A72-9FA8-3C69B337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D76E-945B-4AD8-8B93-8CC24A5A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296D1-014B-4774-B1D5-C6C26728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7B4B2-5290-4BFF-B482-128237F8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54D62-34BE-4E7E-BBA3-F59EB59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FB70-5C3C-43E9-AAEE-B83D9C3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2E7-991D-4E37-BE60-98214DF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5132-3903-478D-8112-EDB03E11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7212-865F-4F1B-9E8B-4D46898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8367A-CAA8-4194-B79B-99931BD9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D607-F4DE-4CAB-9FCA-8F51FF3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815B6-6D92-45A2-9B36-EFE05C3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74E0-9175-4CA0-9337-852F439E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12AEE-A96D-4541-B303-01F27F7F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B91DE-C519-4D9C-AAEC-6A6CF5B6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75E74-4B8C-43B9-96DF-6DDAF57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DEDDC-7260-4410-962E-B8DEE9F1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EB13-2DB3-4E10-811C-A179975DBE87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A39-BAD4-4931-90EF-4C8BF2807B9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CF92-0EC8-4E8C-8D5E-16261525F69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2ECA-10A9-4E6F-B617-A666343780F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7715-4117-405E-B4B9-27992955A6EB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F58C-180B-4E0B-9B05-B8AEA690ED35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37E1-2571-4F7A-9C75-02C887B17901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A22-A0C1-49CF-8B75-E68DD819978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38A9-7FCA-4554-ADB7-FD7DB7EF895C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File:Superbad_Poster.png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en.wikipedia.org/wiki/File:17agai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en.wikipedia.org/wiki/File:Collegeposter08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popularbiographies.files.wordpress.com/2008/03/sexy-zac-efron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fanpop.com/images/image_uploads/Hilary-Duff-hilary-duff-58649_800_600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buddytv.com/articles/Image/beauty-and-the-geek/ashton-kutcher-movie.jpg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actors.pick2web.com/pics/989575/jasonbiggs.jpg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3329"/>
                </a:solidFill>
                <a:latin typeface="Franklin Gothic Book"/>
              </a:rPr>
              <a:t>Tobi Bell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enage romantic comedies is a film genre specifically targeted at teenagers and young adul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enerally the narratives are based on the interests of teenagers, such as puberty, first love,  conflict with parents etc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ilms in this genre are often set in colleges or universities or contain characters that are of around this ag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exual themes are usually common in this genre, as are nudity and basic forms of funnine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des and conventions of the teenage romantic comedies includ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aves/clubb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liques/ social grou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osing virgin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lcoh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Pro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Relationshi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geek/ ne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Joc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Popular stud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isfit, or The Outcas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Average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New Girl/Bo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heerleading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Sport te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re are many other codes and conventions of teenage romantic film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se films are most often set in or around High School as this encourages for many different social cliques to be show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is is different in hybrid teen films, but for the classic romantic comedy teen film this is almost always the c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ude, Where's My Car?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0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cket Scienc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harlie Bartlett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7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uperbad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(2007)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Drillbit Taylor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College (2008)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Role Models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Sex Drive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8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Fired Up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4e3b30"/>
                </a:solidFill>
                <a:latin typeface="Franklin Gothic Book"/>
              </a:rPr>
              <a:t>17 Again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(2009)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upload.wikimedia.org/wikipedia/en/8/8b/Superbad_Poster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5680" y="1301760"/>
            <a:ext cx="1673280" cy="24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upload.wikimedia.org/wikipedia/en/thumb/e/e1/17again.jpg/200px-17agai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3857760"/>
            <a:ext cx="1571760" cy="23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http://upload.wikimedia.org/wikipedia/en/thumb/9/98/Collegeposter08.jpg/200px-Collegeposter08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427120"/>
            <a:ext cx="1619280" cy="242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Lindsay Loh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rake Bel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Hilary Duf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Vanessa Hudge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Corbin ble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Zac Efr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Jason Bigg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Ashton Kutc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643280"/>
            <a:ext cx="1109520" cy="75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3840" y="2357280"/>
            <a:ext cx="1071360" cy="83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43760" y="5867280"/>
            <a:ext cx="119700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3680" y="4643280"/>
            <a:ext cx="1198440" cy="789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See full size image"/>
          <p:cNvPicPr/>
          <p:nvPr/>
        </p:nvPicPr>
        <p:blipFill>
          <a:blip r:embed="rId10"/>
          <a:stretch/>
        </p:blipFill>
        <p:spPr>
          <a:xfrm>
            <a:off x="5857920" y="1214280"/>
            <a:ext cx="1143000" cy="905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See full size image"/>
          <p:cNvPicPr/>
          <p:nvPr/>
        </p:nvPicPr>
        <p:blipFill>
          <a:blip r:embed="rId11"/>
          <a:stretch/>
        </p:blipFill>
        <p:spPr>
          <a:xfrm>
            <a:off x="4929120" y="242892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See full size image"/>
          <p:cNvPicPr/>
          <p:nvPr/>
        </p:nvPicPr>
        <p:blipFill>
          <a:blip r:embed="rId12"/>
          <a:stretch/>
        </p:blipFill>
        <p:spPr>
          <a:xfrm>
            <a:off x="4857840" y="3429000"/>
            <a:ext cx="1143000" cy="941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See full size image"/>
          <p:cNvPicPr/>
          <p:nvPr/>
        </p:nvPicPr>
        <p:blipFill>
          <a:blip r:embed="rId13"/>
          <a:stretch/>
        </p:blipFill>
        <p:spPr>
          <a:xfrm>
            <a:off x="7215120" y="3357720"/>
            <a:ext cx="107784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2:45Z</dcterms:created>
  <dc:creator>Tobi</dc:creator>
  <dc:description/>
  <dc:language>en-US</dc:language>
  <cp:lastModifiedBy>Tobi</cp:lastModifiedBy>
  <dcterms:modified xsi:type="dcterms:W3CDTF">2009-11-22T17:18:35Z</dcterms:modified>
  <cp:revision>7</cp:revision>
  <dc:subject/>
  <dc:title>Teenage Romantic Comedies</dc:title>
</cp:coreProperties>
</file>