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7B0-B7D4-4006-A033-1138847F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517-D357-4DD9-B50C-76071001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97D47-D019-4BCB-B395-9CCDE5DD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0517D-FE2E-4A3F-AAF2-24B469B4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4EBE0-B559-425F-89ED-7BD04F84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DFEBC-B4A0-4D30-A341-AE97E9C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604D3-F87C-48D5-A1BB-24B77DE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CAFD3-5BEF-4033-8C4E-F72E643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AC17E-0449-4B0D-B130-92409ED5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2F109-19D7-4BC2-8BA7-554EE163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8F1FA-7B85-4B50-A640-0B5B8C0B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609-F4F4-46BB-AADB-9BE4D5F1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F11-F3EA-4A60-84CE-305837DE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F8D7-90BF-43A2-8CA6-B41FA282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678A-D2DB-4D57-A99A-665CCBA0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D0FF-145C-4DBC-AF01-3DD9FCAE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748D-10C3-412C-A5CA-41A684F0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8F91-D606-4F35-AE98-2EFD0C2B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966A-43F4-4A61-8878-28A9937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C6EC-7B75-4C20-8A33-D34EAF8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DFB-6F64-487D-843C-5184B700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FD8E-A949-429C-981F-7EFD712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A58D-4FAD-4702-A0DF-9D7AD11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F7B7-2124-474F-8AF8-413601F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B2B5-5A51-4C85-BA4C-6EF6AE2C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9848-B97B-450E-88FA-2D3B9255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3FC6-C34E-4AA2-9F4E-0FD97285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1F06-E36F-4FD5-9F63-DA147CE1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6CAB-2750-4C7B-AFAE-B9892760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9AE2-CA0B-49FA-851E-E0AB3DE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F9A2-B77D-4C3F-AC0B-6796596A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926-E0EE-4BD8-94EC-1E493647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CF27-7BFF-40A1-B438-EACDD617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3165-6B96-4A80-AB91-C4C45328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9481-9D2A-4CD6-8B61-0D9D761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C41D-C146-40C2-860F-999A1D0E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56B5-2BCC-4BA5-8535-A3F2D61E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9F88-CE01-4DDE-8F22-A27722E1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6891-CC96-4EB7-B195-CB97B2B8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B516-8C11-40A7-A365-F0692B71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D6A4-D616-48C9-9E98-82B9B7F8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F2B69-99C0-40A4-A72E-CF8EA47F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0A0-816F-47F8-B825-CA6A0290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F8AE-4937-427A-9594-E91AC4BC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3352-EC03-4B55-82B3-217FFA07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6BBD-AB0A-42B7-8936-AD77762D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5669-1F99-482E-BF20-D595BB3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6F52-69D2-46E3-87C3-19923D6F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DBBA5-A7B7-4780-BB44-AAB4D4D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0699D-E43C-460D-967F-C629AEBB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1A834-541C-44F6-B76F-AD7A48DE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1DF5-B5E4-408B-901F-C6583CC8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497E6-4CE8-4F14-A383-2D1D293E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065-17D0-4557-B270-1AE6969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6218-E070-4F5C-9806-AB2DE61E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FC43-3FA0-4721-9E6F-BFB3AEB9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8B023-10E8-4D22-A112-0775C4EC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24535-7382-439E-81D8-A10083D6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30C47-1B24-45FF-A34B-3198134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3485-4E79-49D4-BB3D-5DFC67DA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423C2-F936-4FBB-8AD9-79E1609C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2020-2ABA-44F4-86E0-1BB5EEC8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ABAD-F50B-4F58-8507-A697F49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48031-994F-4368-9D9F-92EBAC00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F8C-335C-4437-BADB-8FBDFD4C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A0BD3-16E8-46BE-961F-0A7A1048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D5264-8A71-4CB8-8CA6-FCC01CC4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FF47-8619-4CE1-AF0B-EE9851BE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030A9-B8CB-4322-AEA0-209F586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7DA21-DD55-4080-B0F7-5314303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241B2-B04D-4FCA-AE7E-C0DC5009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A81F7-641B-4EC4-A3DA-07DB934A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C015E-59C5-4BDD-BD4F-FAC7739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854A-DE8C-47F6-8957-9B691C3E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A54E6-F039-4F2D-977A-BC676A6A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8EA-0554-466B-AAB5-4B1B198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DB81E-CEAF-4D6B-A4D2-CD23042B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BC5D7-E904-4732-854B-BA2074CA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DAD94-90BE-4E73-BE48-78E05758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466EA-92CD-4594-BFC2-56D1F739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77B85-4D04-42E2-A87E-1CB3958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003C-A597-49F9-B8F2-9B7E08EE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1AB0-D5FC-4313-883C-E778FE6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66868-1A39-405F-AA08-75B6180F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366A6-7390-4E32-8EB0-B707A58A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BA82-4758-4152-8CA0-F05C4A4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2D0-D7F1-4B3E-9424-A5C9C51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FC96-5507-4CD3-B8AE-9D0FF77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DE344-2F3A-4E43-86D6-65018A7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958B1-0ECB-4213-AAC7-3D494EEB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2B031-963D-4468-9531-C4FE9C87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FA300-F022-45D2-9AC2-1E2EBA06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5DBF-7CEA-40CD-B490-262C9AE8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2303-FD68-4083-86A5-82BD0E7D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CBB4-4C49-4D13-8D23-FD8895EE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C259B-F673-47EF-A7F1-148C3F31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B9BEE-879F-4108-8F8F-2FE4A1D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1E5-ABEC-442B-ADDD-74649070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A41D0-939A-483C-840F-EB9D32F8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AA6F-25BE-4E62-ABB7-E25BFDEA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4208-0124-47A3-8E4E-F045A25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01076-B76A-4C8B-BE13-2EE9F39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C9086-5EFF-4D1D-94BC-806C152B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10259-D9BD-41F1-BB3B-3BC6A754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FED43-96FA-44A0-A751-214708FC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73606-4158-4B9F-8116-C385610E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EE75D-9177-4CA2-AEBB-666D9C6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8734C-DD10-4932-B4F9-93CFC8B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CB7A-53FA-49BD-9BD7-2D48ECDAE923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62B4-7C32-422B-A40C-48C78E74617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ADCC-B850-4A11-81BC-0A5C695BA979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6339-D9AC-4053-A792-9559B93FCEE0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1D7-F20F-4FBB-BDC9-C40046EC2F1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7F3A-A0C4-421A-81DD-0793E49625B6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218A-1C95-4800-9805-AF03CDAD361E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9330-5E67-42E9-864E-04A07E7DC6C0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3F35-CABE-43D4-9528-B4A910449D7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File:Superbad_Poster.png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en.wikipedia.org/wiki/File:17again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en.wikipedia.org/wiki/File:Collegeposter08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popularbiographies.files.wordpress.com/2008/03/sexy-zac-efro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fanpop.com/images/image_uploads/Hilary-Duff-hilary-duff-58649_800_600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buddytv.com/articles/Image/beauty-and-the-geek/ashton-kutcher-movie.jpg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actors.pick2web.com/pics/989575/jasonbiggs.jpg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3329"/>
                </a:solidFill>
                <a:latin typeface="Franklin Gothic Book"/>
              </a:rPr>
              <a:t>Tobi Bell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eenage romantic comedies is a film genre specifically targeted at teenagers and young adul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Generally the narratives are based on the interests of teenagers, such as puberty, first love,  conflict with parents etc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Films in this genre are often set in colleges or universities or contain characters that are of around this ag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Sexual themes are usually common in this genre, as are nudity and basic forms of funnines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des and conventions of the teenage romantic comedies includ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aves/clubb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liques/ social grou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osing virgin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lcoh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Pro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elationshi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geek/ ne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Joc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Popular stud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Misfit, or The Outcas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Average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New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heerleading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Sport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re are many other codes and conventions of teenage romantic film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se films are most often set in or around High School as this encourages for many different social cliques to be show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is is different in hybrid teen films, but for the classic romantic comedy teen film this is almost always the ca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ude, Where's My Car?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0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cket Scienc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harlie Bartlett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uperbad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(2007)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rillbit Taylor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ollege (2008)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le Models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ex Driv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Fired Up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17 Again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upload.wikimedia.org/wikipedia/en/8/8b/Superbad_Poster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35680" y="1301760"/>
            <a:ext cx="1673280" cy="24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://upload.wikimedia.org/wikipedia/en/thumb/e/e1/17again.jpg/200px-17agai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3857760"/>
            <a:ext cx="1571760" cy="2333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upload.wikimedia.org/wikipedia/en/thumb/9/98/Collegeposter08.jpg/200px-Collegeposter0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27120"/>
            <a:ext cx="1619280" cy="242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indsay Loh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rake Bel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Hilary Duf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Vanessa Hudge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rbin ble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Zac Efr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Jason Bigg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shton Kutch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643280"/>
            <a:ext cx="1109520" cy="752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3840" y="2357280"/>
            <a:ext cx="1071360" cy="83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43760" y="5867280"/>
            <a:ext cx="1197000" cy="99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3680" y="4643280"/>
            <a:ext cx="1198440" cy="7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See full size image"/>
          <p:cNvPicPr/>
          <p:nvPr/>
        </p:nvPicPr>
        <p:blipFill>
          <a:blip r:embed="rId10"/>
          <a:stretch/>
        </p:blipFill>
        <p:spPr>
          <a:xfrm>
            <a:off x="5857920" y="12142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See full size image"/>
          <p:cNvPicPr/>
          <p:nvPr/>
        </p:nvPicPr>
        <p:blipFill>
          <a:blip r:embed="rId11"/>
          <a:stretch/>
        </p:blipFill>
        <p:spPr>
          <a:xfrm>
            <a:off x="4929120" y="2428920"/>
            <a:ext cx="928800" cy="857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See full size image"/>
          <p:cNvPicPr/>
          <p:nvPr/>
        </p:nvPicPr>
        <p:blipFill>
          <a:blip r:embed="rId12"/>
          <a:stretch/>
        </p:blipFill>
        <p:spPr>
          <a:xfrm>
            <a:off x="4857840" y="3429000"/>
            <a:ext cx="1143000" cy="941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See full size image"/>
          <p:cNvPicPr/>
          <p:nvPr/>
        </p:nvPicPr>
        <p:blipFill>
          <a:blip r:embed="rId13"/>
          <a:stretch/>
        </p:blipFill>
        <p:spPr>
          <a:xfrm>
            <a:off x="7215120" y="3357720"/>
            <a:ext cx="107784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12:45Z</dcterms:created>
  <dc:creator>Tobi</dc:creator>
  <dc:description/>
  <dc:language>en-US</dc:language>
  <cp:lastModifiedBy>Tobi</cp:lastModifiedBy>
  <dcterms:modified xsi:type="dcterms:W3CDTF">2009-11-22T17:18:35Z</dcterms:modified>
  <cp:revision>7</cp:revision>
  <dc:subject/>
  <dc:title>Teenage Romantic Comedies</dc:title>
</cp:coreProperties>
</file>