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8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B09B-9259-47F2-A4F1-F47561B0E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E526-FE2B-4910-A2B8-ACB894E4E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A2C579-0875-46AB-B4E9-47179D26A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FD28FB-E35F-493B-96C0-3E494AE47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7F14A1-C5B2-462A-939D-B8B25AB8A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60AE4C-04A7-426D-9721-3ECBEC9DC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32B115-9AD3-460A-B583-A41A6E600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22EB78-156C-43A3-A1DD-F38B162A4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2072A8-D2D8-4774-881B-14DC7D5DE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DAF7D7-1C42-48BA-8C95-0508C2080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727589-2A68-4CD1-9681-C3060703A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5549-A181-4F8D-8691-F51A372BD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CB96-546C-48EB-A0A9-EDD1E2D66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54757-4E32-48BE-A219-B1AC92056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D7924-52B4-4A88-8DAD-69EC49375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E3797-8D43-4BDF-8F75-CDCE394E1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616C7-698C-4FD8-992D-E18694F16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49F55-0216-4742-B724-16EFB7D3F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0922D-C206-45A7-A201-DC83E52AD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1114C-19F6-4DE5-B400-0AC34E314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9EBB-467D-4E6E-B1B8-7AE9E0247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28D53-6942-4F47-A726-2B98AA702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67B3C-2CE0-4A62-8A62-68DDD758A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303F4-9633-4E35-9C6D-D66FB7513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066C4-E21E-47C3-A6E7-56E0BD945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15A70-7121-41A0-B0FD-E3A2AD301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F4B10-2DA0-4CDF-808B-3F6D9396A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3A552-F383-4767-971B-F83D7E7BB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6443F-E056-49F9-AA48-3CA3FF7E1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FBF99-50D9-4938-A5ED-C98057FE7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65AB1-62C4-48CA-B318-4D0CA67E6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2786-6616-4911-99D3-5E478814F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9B81E-DA7D-461F-8200-CA6C13430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8A173-7BF1-41FC-84DA-E91BC357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B2337-90AA-4227-9D8B-60BE2573E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9D697-CCAC-4E73-93E5-98580D250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F01A5-026B-4E1D-8F1B-B46F11A40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DF06B-E138-4656-82D1-120D17CA1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E2D59-9E1E-4581-AE9A-06630BD25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4D91D2-2CB0-4A25-ABBA-C068C7888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273C8-4262-4FB4-BD10-71435AAE2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3AA66-C071-427E-AB36-426E77805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625A-7896-419D-A4C9-7DDAF38C1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1185E-5366-4904-8974-E4A52D836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117BC3-8CE6-4D63-820B-96A76AA65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031B9-C182-456E-8766-EBED9087A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147BE-E260-4F33-AFD7-912FE3179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72C8B-B47D-47B1-A7CB-16EC6DB16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58768-A9D0-4085-B20C-30EC422FA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47ECC-81D3-47F4-AA64-F1546FD9B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18811-23BC-45C3-9506-EE54ACE50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CFD288-FD1A-42C8-9151-62BC14D3E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E06B87-757E-4D3A-B609-E65223AE6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BC8D-23D8-4299-8794-B33AE9DB6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ECC25D-032E-42C8-BAF9-B6E38B436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C5EB0F-AD3C-4F49-8D73-27D0C4343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A64519-0868-411B-956B-B8C6AD962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3009AE-2CED-41AB-B319-258C5BB9B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C7A3FE-4143-4A4F-9173-850A9784A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668FE9-2B62-49CF-9F8D-0123FBCC9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4B1676-E251-4D4B-A1EB-613F5DD26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1491CE-F0BB-4B47-AB1F-D711DA430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00D968-BD97-4879-9FC2-665770A0D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6774C8-7C98-480D-8D88-3AE23941F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6301-10BC-4ACE-9BC1-1BD04E3A9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F79129-431A-442D-B0F3-59490177D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410316-5D9F-4F7F-9111-6D701562E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8E0D8B-EB03-4D43-96CA-0EDCD1F39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43B3E2-717A-4D92-8A05-C402E9CBD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C4A4DE-700E-4ED8-A3D3-43D312F5E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ACC98F-6913-4888-B7F2-7610EAE55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35D50C-8000-4084-9FC8-A84C6BDD4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62F8C5-2445-4275-97CB-845CA6DCE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1C95DB-D3D1-4071-B313-18FD9D26F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A27D40-5F62-4934-A364-0D0FEE30D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09AA-0023-46B0-BBBE-04851C598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E117E7-9612-4D6C-A2B3-5690F29BD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0E4ADC-0E48-4839-A1F2-A28B6704C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F4BE2F-FC88-4C2E-A644-81B04023E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CE30C3-7906-45A1-A515-225E3AAB8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695595-136F-4E9F-9CEE-1E9586B18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CEA306-C060-40C4-8EA4-7E6063C21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6AA527-6056-499E-A80E-47556049F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24DDDB-785B-4119-9D2D-0C730DB10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2ACAD7-6849-41F4-9CF5-1FD4A03C8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B5AB6E-020F-413C-8B98-998923154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2DAF-6402-4895-8388-2922A65D1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48F232-BE61-499B-8E56-2E2CECAD4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6D51F8-9618-4F73-886F-5C46244AC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1C0C62-D1C6-4DC1-BF92-612EFA6D0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5B6948-2736-4164-BC1F-C2384B0C2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28878E-F8E9-4BD1-B786-2B763B73F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80CC94-FB07-4110-B77A-CF572716B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A51B95-185E-4200-A47C-54375C8E9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C058A4-F65D-433C-9797-DAE092A68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BED981-32E4-4B17-A4C8-8D2609877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32DB7C-FBA0-45C6-AE98-98E724023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55AF-2375-427A-BF69-5630E3311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D5A4F4-B4BD-4B58-A325-2E168F530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011746-45FE-4CDC-B327-390D87772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25E0F8-861A-4DEA-97B8-22F31E8E9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0043A3-1898-4A12-9394-3C21EB560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DF4DD4-E99C-41F2-B205-4D282C13F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D9AF54-E8C1-4E7B-8F61-972A80976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8E4117-5FE9-414D-895F-20A877602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A564C8-FD1F-46A3-93A3-F5C604CAA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F41991-F57F-4007-BE73-404D3D9D2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E8DEC5-F659-4A80-972C-D6FBA0F7C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3A2E8-84D4-42ED-9CE5-E0CAFFACC1FE}" type="slidenum">
              <a:rPr b="0" lang="en-GB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EDD1B-D8F6-4336-8D58-67C8111424CF}" type="slidenum">
              <a:rPr b="0" lang="en-GB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00361-FCAF-4CA7-A2B2-8FEDD9611F11}" type="slidenum">
              <a:rPr b="0" lang="en-GB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0E071-D67C-4F7D-AF3D-A725EE6E3A83}" type="slidenum">
              <a:rPr b="0" lang="en-GB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17965-D805-4A87-BFF9-6FC7EA8AB3D5}" type="slidenum">
              <a:rPr b="0" lang="en-GB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8165B-D99D-4639-9DB6-AA6BFBA22E14}" type="slidenum">
              <a:rPr b="0" lang="en-GB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84657-E74E-4894-AAD9-C5ED0C4B05A3}" type="slidenum">
              <a:rPr b="0" lang="en-GB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E2635-7971-442C-995D-3872F862802A}" type="slidenum">
              <a:rPr b="0" lang="en-GB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EDA59-C982-4162-88AA-2AB53D4A71AF}" type="slidenum">
              <a:rPr b="0" lang="en-GB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en.wikipedia.org/wiki/File:Superbad_Poster.png" TargetMode="External"/><Relationship Id="rId3" Type="http://schemas.openxmlformats.org/officeDocument/2006/relationships/image" Target="../media/image11.png"/><Relationship Id="rId4" Type="http://schemas.openxmlformats.org/officeDocument/2006/relationships/hyperlink" Target="http://en.wikipedia.org/wiki/File:17again.jpg" TargetMode="External"/><Relationship Id="rId5" Type="http://schemas.openxmlformats.org/officeDocument/2006/relationships/image" Target="../media/image12.jpeg"/><Relationship Id="rId6" Type="http://schemas.openxmlformats.org/officeDocument/2006/relationships/hyperlink" Target="http://en.wikipedia.org/wiki/File:Collegeposter08.jpg" TargetMode="External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popularbiographies.files.wordpress.com/2008/03/sexy-zac-efron.jpg" TargetMode="External"/><Relationship Id="rId3" Type="http://schemas.openxmlformats.org/officeDocument/2006/relationships/image" Target="../media/image15.jpeg"/><Relationship Id="rId4" Type="http://schemas.openxmlformats.org/officeDocument/2006/relationships/hyperlink" Target="http://images.fanpop.com/images/image_uploads/Hilary-Duff-hilary-duff-58649_800_600.jpg" TargetMode="External"/><Relationship Id="rId5" Type="http://schemas.openxmlformats.org/officeDocument/2006/relationships/image" Target="../media/image16.jpeg"/><Relationship Id="rId6" Type="http://schemas.openxmlformats.org/officeDocument/2006/relationships/hyperlink" Target="http://images.buddytv.com/articles/Image/beauty-and-the-geek/ashton-kutcher-movie.jpg" TargetMode="External"/><Relationship Id="rId7" Type="http://schemas.openxmlformats.org/officeDocument/2006/relationships/image" Target="../media/image17.jpeg"/><Relationship Id="rId8" Type="http://schemas.openxmlformats.org/officeDocument/2006/relationships/hyperlink" Target="http://actors.pick2web.com/pics/989575/jasonbiggs.jpg" TargetMode="External"/><Relationship Id="rId9" Type="http://schemas.openxmlformats.org/officeDocument/2006/relationships/image" Target="../media/image18.jpeg"/><Relationship Id="rId10" Type="http://schemas.openxmlformats.org/officeDocument/2006/relationships/image" Target="../media/image19.jpeg"/><Relationship Id="rId11" Type="http://schemas.openxmlformats.org/officeDocument/2006/relationships/image" Target="../media/image20.jpeg"/><Relationship Id="rId12" Type="http://schemas.openxmlformats.org/officeDocument/2006/relationships/image" Target="../media/image21.jpeg"/><Relationship Id="rId13" Type="http://schemas.openxmlformats.org/officeDocument/2006/relationships/image" Target="../media/image22.jpeg"/><Relationship Id="rId1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Title 1" descr=""/>
          <p:cNvPicPr/>
          <p:nvPr/>
        </p:nvPicPr>
        <p:blipFill>
          <a:blip r:embed="rId1"/>
          <a:stretch/>
        </p:blipFill>
        <p:spPr>
          <a:xfrm>
            <a:off x="182520" y="4761000"/>
            <a:ext cx="8663040" cy="132228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43329"/>
                </a:solidFill>
                <a:latin typeface="Franklin Gothic Book"/>
              </a:rPr>
              <a:t>Tobi Bello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Teenage romantic comedies is a film genre specifically targeted at teenagers and young adults.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Generally the narratives are based on the interests of teenagers, such as puberty, first love,  conflict with parents etc.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Films in this genre are often set in colleges or universities or contain characters that are of around this age.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Sexual themes are usually common in this genre, as are nudity and basic forms of funniness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Codes and conventions of the teenage romantic comedies include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Raves/clubbing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Cliques/ social group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Losing virginity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Alcoho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Prom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Relationship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Title 1" descr=""/>
          <p:cNvPicPr/>
          <p:nvPr/>
        </p:nvPicPr>
        <p:blipFill>
          <a:blip r:embed="rId1"/>
          <a:stretch/>
        </p:blipFill>
        <p:spPr>
          <a:xfrm>
            <a:off x="133200" y="450720"/>
            <a:ext cx="8864640" cy="106056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The geek/ nerd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The Jock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The Popular student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The Misfit, or The Outcast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The Average Girl/Boy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The New Girl/Boy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Cheerleading team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Sport team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There are many other codes and conventions of teenage romantic films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These films are most often set in or around High School as this encourages for many different social cliques to be shown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This is different in hybrid teen films, but for the classic romantic comedy teen film this is almost always the case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500" spc="-1" strike="noStrike">
                <a:solidFill>
                  <a:srgbClr val="4e3b30"/>
                </a:solidFill>
                <a:latin typeface="Franklin Gothic Book"/>
              </a:rPr>
              <a:t>Dude, Where's My Car? </a:t>
            </a:r>
            <a:r>
              <a:rPr b="0" lang="en-GB" sz="2500" spc="-1" strike="noStrike">
                <a:solidFill>
                  <a:srgbClr val="4e3b30"/>
                </a:solidFill>
                <a:latin typeface="Franklin Gothic Book"/>
              </a:rPr>
              <a:t>(2000) 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500" spc="-1" strike="noStrike">
                <a:solidFill>
                  <a:srgbClr val="4e3b30"/>
                </a:solidFill>
                <a:latin typeface="Franklin Gothic Book"/>
              </a:rPr>
              <a:t>Rocket Science </a:t>
            </a:r>
            <a:r>
              <a:rPr b="0" lang="en-GB" sz="2500" spc="-1" strike="noStrike">
                <a:solidFill>
                  <a:srgbClr val="4e3b30"/>
                </a:solidFill>
                <a:latin typeface="Franklin Gothic Book"/>
              </a:rPr>
              <a:t>(2007)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500" spc="-1" strike="noStrike">
                <a:solidFill>
                  <a:srgbClr val="4e3b30"/>
                </a:solidFill>
                <a:latin typeface="Franklin Gothic Book"/>
              </a:rPr>
              <a:t>Charlie Bartlett </a:t>
            </a:r>
            <a:r>
              <a:rPr b="0" lang="en-GB" sz="2500" spc="-1" strike="noStrike">
                <a:solidFill>
                  <a:srgbClr val="4e3b30"/>
                </a:solidFill>
                <a:latin typeface="Franklin Gothic Book"/>
              </a:rPr>
              <a:t>(2007)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500" spc="-1" strike="noStrike">
                <a:solidFill>
                  <a:srgbClr val="4e3b30"/>
                </a:solidFill>
                <a:latin typeface="Franklin Gothic Book"/>
              </a:rPr>
              <a:t>Superbad</a:t>
            </a:r>
            <a:r>
              <a:rPr b="0" lang="en-GB" sz="2500" spc="-1" strike="noStrike">
                <a:solidFill>
                  <a:srgbClr val="4e3b30"/>
                </a:solidFill>
                <a:latin typeface="Franklin Gothic Book"/>
              </a:rPr>
              <a:t> (2007)  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500" spc="-1" strike="noStrike">
                <a:solidFill>
                  <a:srgbClr val="4e3b30"/>
                </a:solidFill>
                <a:latin typeface="Franklin Gothic Book"/>
              </a:rPr>
              <a:t>Drillbit Taylor </a:t>
            </a:r>
            <a:r>
              <a:rPr b="0" lang="en-GB" sz="2500" spc="-1" strike="noStrike">
                <a:solidFill>
                  <a:srgbClr val="4e3b30"/>
                </a:solidFill>
                <a:latin typeface="Franklin Gothic Book"/>
              </a:rPr>
              <a:t>(2008) 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500" spc="-1" strike="noStrike">
                <a:solidFill>
                  <a:srgbClr val="4e3b30"/>
                </a:solidFill>
                <a:latin typeface="Franklin Gothic Book"/>
              </a:rPr>
              <a:t>College (2008)</a:t>
            </a:r>
            <a:r>
              <a:rPr b="0" lang="en-GB" sz="25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500" spc="-1" strike="noStrike">
                <a:solidFill>
                  <a:srgbClr val="4e3b30"/>
                </a:solidFill>
                <a:latin typeface="Franklin Gothic Book"/>
              </a:rPr>
              <a:t>Role Models </a:t>
            </a:r>
            <a:r>
              <a:rPr b="0" lang="en-GB" sz="2500" spc="-1" strike="noStrike">
                <a:solidFill>
                  <a:srgbClr val="4e3b30"/>
                </a:solidFill>
                <a:latin typeface="Franklin Gothic Book"/>
              </a:rPr>
              <a:t>(2008)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500" spc="-1" strike="noStrike">
                <a:solidFill>
                  <a:srgbClr val="4e3b30"/>
                </a:solidFill>
                <a:latin typeface="Franklin Gothic Book"/>
              </a:rPr>
              <a:t>Sex Drive </a:t>
            </a:r>
            <a:r>
              <a:rPr b="0" lang="en-GB" sz="2500" spc="-1" strike="noStrike">
                <a:solidFill>
                  <a:srgbClr val="4e3b30"/>
                </a:solidFill>
                <a:latin typeface="Franklin Gothic Book"/>
              </a:rPr>
              <a:t>(2008)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500" spc="-1" strike="noStrike">
                <a:solidFill>
                  <a:srgbClr val="4e3b30"/>
                </a:solidFill>
                <a:latin typeface="Franklin Gothic Book"/>
              </a:rPr>
              <a:t>Fired Up </a:t>
            </a:r>
            <a:r>
              <a:rPr b="0" lang="en-GB" sz="2500" spc="-1" strike="noStrike">
                <a:solidFill>
                  <a:srgbClr val="4e3b30"/>
                </a:solidFill>
                <a:latin typeface="Franklin Gothic Book"/>
              </a:rPr>
              <a:t>(2009)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500" spc="-1" strike="noStrike">
                <a:solidFill>
                  <a:srgbClr val="4e3b30"/>
                </a:solidFill>
                <a:latin typeface="Franklin Gothic Book"/>
              </a:rPr>
              <a:t>17 Again </a:t>
            </a:r>
            <a:r>
              <a:rPr b="0" lang="en-GB" sz="2500" spc="-1" strike="noStrike">
                <a:solidFill>
                  <a:srgbClr val="4e3b30"/>
                </a:solidFill>
                <a:latin typeface="Franklin Gothic Book"/>
              </a:rPr>
              <a:t>(2009)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1" name="Picture 2" descr="http://upload.wikimedia.org/wikipedia/en/8/8b/Superbad_Poster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35680" y="1301760"/>
            <a:ext cx="1673280" cy="248436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http://upload.wikimedia.org/wikipedia/en/thumb/e/e1/17again.jpg/200px-17again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858000" y="3857760"/>
            <a:ext cx="1571760" cy="233352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6" descr="http://upload.wikimedia.org/wikipedia/en/thumb/9/98/Collegeposter08.jpg/200px-Collegeposter08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572000" y="2427120"/>
            <a:ext cx="1619280" cy="2421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" dur="250" autoRev="1" fill="hold"/>
                                        <p:tgtEl>
                                          <p:spTgt spid="4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Title 1" descr=""/>
          <p:cNvPicPr/>
          <p:nvPr/>
        </p:nvPicPr>
        <p:blipFill>
          <a:blip r:embed="rId1"/>
          <a:stretch/>
        </p:blipFill>
        <p:spPr>
          <a:xfrm>
            <a:off x="133200" y="268200"/>
            <a:ext cx="8864640" cy="148752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Lindsay Lohan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Drake Bel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Hilary Duff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Vanessa Hudgen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Corbin bleu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Zac Efron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Jason Bigg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Ashton Kutcher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6" name="Picture 2" descr="See full 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358040" y="4643280"/>
            <a:ext cx="1109520" cy="75276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4" descr="See full size imag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143840" y="2357280"/>
            <a:ext cx="1071360" cy="83376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6" descr="See full size image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143760" y="5867280"/>
            <a:ext cx="1197000" cy="99072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8" descr="See full size image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873680" y="4643280"/>
            <a:ext cx="1198440" cy="7891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0" descr="See full size image"/>
          <p:cNvPicPr/>
          <p:nvPr/>
        </p:nvPicPr>
        <p:blipFill>
          <a:blip r:embed="rId10"/>
          <a:stretch/>
        </p:blipFill>
        <p:spPr>
          <a:xfrm>
            <a:off x="5857920" y="1214280"/>
            <a:ext cx="1143000" cy="9050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2" descr="See full size image"/>
          <p:cNvPicPr/>
          <p:nvPr/>
        </p:nvPicPr>
        <p:blipFill>
          <a:blip r:embed="rId11"/>
          <a:stretch/>
        </p:blipFill>
        <p:spPr>
          <a:xfrm>
            <a:off x="4929120" y="2428920"/>
            <a:ext cx="928800" cy="85716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4" descr="See full size image"/>
          <p:cNvPicPr/>
          <p:nvPr/>
        </p:nvPicPr>
        <p:blipFill>
          <a:blip r:embed="rId12"/>
          <a:stretch/>
        </p:blipFill>
        <p:spPr>
          <a:xfrm>
            <a:off x="4857840" y="3429000"/>
            <a:ext cx="1143000" cy="94140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16" descr="See full size image"/>
          <p:cNvPicPr/>
          <p:nvPr/>
        </p:nvPicPr>
        <p:blipFill>
          <a:blip r:embed="rId13"/>
          <a:stretch/>
        </p:blipFill>
        <p:spPr>
          <a:xfrm>
            <a:off x="7215120" y="3357720"/>
            <a:ext cx="1077840" cy="85716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2T16:12:45Z</dcterms:created>
  <dc:creator>Tobi</dc:creator>
  <dc:description/>
  <dc:language>en-US</dc:language>
  <cp:lastModifiedBy>Tobi</cp:lastModifiedBy>
  <dcterms:modified xsi:type="dcterms:W3CDTF">2009-11-22T17:18:35Z</dcterms:modified>
  <cp:revision>7</cp:revision>
  <dc:subject/>
  <dc:title>Teenage Romantic Comedies</dc:title>
</cp:coreProperties>
</file>