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77D0-8661-47CF-BBCB-EE0477579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C3F7-292C-4902-BB3B-E52B5731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0BE212-5323-4CD7-B3B0-99ECEE9EA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2305EB-C4B6-4306-8FDA-6AEF117CE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687897-7337-4B06-BB61-6E839CCFC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C7A6FB-EBF2-4FD8-8DC6-726E9F23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08C309-C48F-40ED-B81C-422BBB52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475E41-1E95-4161-975B-B5BA993B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098159-DCEC-4C1C-A502-20D725AE2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189176-3D6B-4E4E-B38C-510D5738B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DBE7FE-329D-4C80-8572-D034F09A1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5EFA-EBE7-4FFB-BB72-627B8CF96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ABC6-9416-4015-857F-FA356DEB3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5F237-F7FA-4136-AC25-1DECD87EB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4AFA2-DD2A-40CD-AA9E-015B075F7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5C819-319F-4C1B-B4F4-C01CB33B2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03DFD-E129-45F1-989E-8CA53771C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90CCB-0F34-474F-87DD-6BAED6778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CA982-E9F0-49B5-9B89-43F0083B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6E0CE-BB7C-44E1-888D-B8407EFB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FA1E-5054-4563-BD50-4C42FAEA3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63904-48AD-456E-88D2-800090BD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D0D49-3101-4F2C-A4E1-1FC7BECE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DA526-CDC8-4854-99C8-194FB737B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99173-7E43-42F7-A3FD-5131D4DAF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968EE-713E-4C08-9821-1909BFD0D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A1007-0D98-475B-B4EA-F93C8067E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AA44C-57E9-45B5-847A-A1450158F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4E7A6-6881-45E8-90A8-E273922EA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AEBFB-FC07-409A-8F15-4F97CF7CF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04DCD-7433-406E-ACDB-53F68EB48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5121-77C0-4E25-B1CF-C10B58452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25486-8EAD-46EA-B1CC-BE2574B57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96C0A-29F3-468C-B347-7F1005E2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FAE6A-B578-4078-B4C6-E51F7054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24717-D6FE-4433-B0D0-E7526C0C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E14CF-4D5E-44AB-8154-04119058A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775D0-D687-4CBA-893E-062F67ED7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16E9F-4099-4D48-83CC-E84D65FC8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F97ED-A1EF-4888-A80B-106F25F51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EF7AD-93FE-4AB1-A53E-D799D1E57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79282-7F03-44D2-9992-EE6F358ED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28C1-8D78-4E43-82C6-93D33D9A7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5D715-80E3-4A74-8016-362938B40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7C821-6E68-4887-81E3-BCE65D55C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3EF00-B8B4-4DBD-99D7-415AC28BB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2E4EC-3704-4E2C-AB8B-5998B1A8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605A8-6625-4B37-9FA5-2AFF5B09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A915B-BBAA-4B11-96BB-AC153A53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17897-0EC7-440D-A10B-C9BFB458F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40CE2-73EF-441E-B649-590C2C328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36975-5F34-4BC9-8215-BBAFF00EB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02AFFB-BF27-44A4-8B50-CFBE20EC8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D0C5-5190-48A3-A15C-2B469D13F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FB9A0-777E-4E74-81BC-1117F4220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AA6AA-AEDA-4004-B3D1-4B89A566D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1A92A-3E38-485E-BF9F-9FFEDFF1C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24264-57D6-49E0-A272-E3CE5C90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1CC12-2E4C-48E3-A344-43ACA511E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3776B-B789-42F4-BC21-A34FC1B5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A0D97-59A9-45EB-ADBD-357501BA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977B4-B912-4165-BB52-4E12B527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AEAEC-DBE1-4807-8C18-DA1B1DD8E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5BE24-A87D-4F61-A5A4-A798C41B3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E453-C79E-45D0-B89C-7DBA2C4E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BCCD8-A246-4379-979C-D4DD325AA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6F10D-92F8-4BC8-8FFC-EAA3F8A5C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D63320-CB85-43E1-BDAD-3B3E34A32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E7160-F182-4A13-B3E8-5842525AB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5BB8B-A051-4C7F-8ADC-66D9ABFFD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19F4F-7E5A-42C1-975E-55F3562F8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395820-54A4-4169-98C1-28F0DB019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C43D5-2040-4A07-B166-970A68F1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18CB3-731D-4748-B665-CDD458E9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E2767-315B-448D-ADBA-21D5C665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2BB0-4F87-43F8-B153-66084295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3CEAF-5131-47A5-B8F8-ACC093A0A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A0513E-D0D4-4FF4-A769-0393BEA99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3DD6D-4A5C-424E-AD6C-DA76CDBDD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E193A-C2E7-4CDE-AE83-7432B5536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48663-28D7-4F85-AA5E-287442FA5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412C3-E559-45E7-A892-050129DAC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6CC60-96BD-4A43-814C-94C6C35A7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DC65DB-1270-4364-A87A-63A70385D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AB1511-6D0D-4A2F-BB85-644E3F313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244DB7-2F08-4BCA-8BFB-707D070C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4501-C1CF-424D-B215-DB462207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39D44-228F-4117-A325-27EB3C60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9A473B-F314-4E94-AE5C-37B48B40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D807B-78CD-49CE-9377-D1122CB87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C83DFF-AECC-48E8-A7AE-94BBE0305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CABF2C-5E92-4069-918A-314B52EE4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53453-7588-4195-A3C9-E20F26678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43EBA9-9E12-488C-96A9-F26255823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1A371A-28A5-45FA-82BA-EC50BC997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C908E5-FC55-4DF5-9967-A0C35A958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F77084-3879-4B24-9EA5-B670C9048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5F9E-C317-4BAC-9574-DDEF8DEB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E0A99-3BAF-4C1C-B7ED-3129F9FEE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24A32D-16DA-4843-AC11-CC2ED350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5A47BA-1A0C-4D38-A176-7AD352C7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75E64F-0AB5-4173-8F85-7D9F2B20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A64C2A-B34C-4032-AD20-58BEB2F40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76CCD8-F127-4BD3-9145-E5ECD88B8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03D5D5-8684-4C48-8A3C-FDE37945C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7A4C93-3A1D-4DE8-9DB9-D59DF2040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5FC98B-674E-408B-B8AF-DF609F683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FE2BB4-47EB-4DC0-95DE-934BEA689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31275-8A87-48E4-8F90-4D1868CAD674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DA475-8E3C-4BBC-AA58-3B33F7F33EFE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6CD50-50F5-441B-80D9-62CD3B36DADE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D74DA-AC8B-4D6C-9D7E-724D6C21C700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9B2F5-7BA7-4EF9-A898-EEF585A9DC9F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8238A-DD96-4F27-A6CE-BF24A1A2AB7B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DE6DB-2716-41CB-B9C0-105FEDC2A7E4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9DD90-16C5-4634-B30C-8D0409AD1D9D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B6F64-9F4A-4997-91D7-26611EC5FFDF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en.wikipedia.org/wiki/File:Superbad_Poster.png" TargetMode="External"/><Relationship Id="rId3" Type="http://schemas.openxmlformats.org/officeDocument/2006/relationships/image" Target="../media/image11.png"/><Relationship Id="rId4" Type="http://schemas.openxmlformats.org/officeDocument/2006/relationships/hyperlink" Target="http://en.wikipedia.org/wiki/File:17again.jpg" TargetMode="External"/><Relationship Id="rId5" Type="http://schemas.openxmlformats.org/officeDocument/2006/relationships/image" Target="../media/image12.jpeg"/><Relationship Id="rId6" Type="http://schemas.openxmlformats.org/officeDocument/2006/relationships/hyperlink" Target="http://en.wikipedia.org/wiki/File:Collegeposter08.jpg" TargetMode="External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popularbiographies.files.wordpress.com/2008/03/sexy-zac-efron.jpg" TargetMode="External"/><Relationship Id="rId3" Type="http://schemas.openxmlformats.org/officeDocument/2006/relationships/image" Target="../media/image15.jpeg"/><Relationship Id="rId4" Type="http://schemas.openxmlformats.org/officeDocument/2006/relationships/hyperlink" Target="http://images.fanpop.com/images/image_uploads/Hilary-Duff-hilary-duff-58649_800_600.jpg" TargetMode="External"/><Relationship Id="rId5" Type="http://schemas.openxmlformats.org/officeDocument/2006/relationships/image" Target="../media/image16.jpeg"/><Relationship Id="rId6" Type="http://schemas.openxmlformats.org/officeDocument/2006/relationships/hyperlink" Target="http://images.buddytv.com/articles/Image/beauty-and-the-geek/ashton-kutcher-movie.jpg" TargetMode="External"/><Relationship Id="rId7" Type="http://schemas.openxmlformats.org/officeDocument/2006/relationships/image" Target="../media/image17.jpeg"/><Relationship Id="rId8" Type="http://schemas.openxmlformats.org/officeDocument/2006/relationships/hyperlink" Target="http://actors.pick2web.com/pics/989575/jasonbiggs.jpg" TargetMode="External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image" Target="../media/image20.jpeg"/><Relationship Id="rId12" Type="http://schemas.openxmlformats.org/officeDocument/2006/relationships/image" Target="../media/image21.jpeg"/><Relationship Id="rId13" Type="http://schemas.openxmlformats.org/officeDocument/2006/relationships/image" Target="../media/image22.jpeg"/><Relationship Id="rId1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182520" y="4761000"/>
            <a:ext cx="8663040" cy="13222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3329"/>
                </a:solidFill>
                <a:latin typeface="Franklin Gothic Book"/>
              </a:rPr>
              <a:t>Tobi Bello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Teenage romantic comedies is a film genre specifically targeted at teenagers and young adults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Generally the narratives are based on the interests of teenagers, such as puberty, first love,  conflict with parents etc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Films in this genre are often set in colleges or universities or contain characters that are of around this age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Sexual themes are usually common in this genre, as are nudity and basic forms of funniness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Codes and conventions of the teenage romantic comedies include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Raves/clubbing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Cliques/ social group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Losing virginit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Alcoho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Prom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Relationship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1" descr=""/>
          <p:cNvPicPr/>
          <p:nvPr/>
        </p:nvPicPr>
        <p:blipFill>
          <a:blip r:embed="rId1"/>
          <a:stretch/>
        </p:blipFill>
        <p:spPr>
          <a:xfrm>
            <a:off x="133200" y="450720"/>
            <a:ext cx="8864640" cy="106056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The geek/ nerd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The Jock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The Popular student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The Misfit, or The Outcast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The Average Girl/Boy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The New Girl/Boy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Cheerleading team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Sport team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There are many other codes and conventions of teenage romantic films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These films are most often set in or around High School as this encourages for many different social cliques to be shown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This is different in hybrid teen films, but for the classic romantic comedy teen film this is almost always the case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500" spc="-1" strike="noStrike">
                <a:solidFill>
                  <a:srgbClr val="4e3b30"/>
                </a:solidFill>
                <a:latin typeface="Franklin Gothic Book"/>
              </a:rPr>
              <a:t>Dude, Where's My Car? </a:t>
            </a:r>
            <a:r>
              <a:rPr b="0" lang="en-GB" sz="2500" spc="-1" strike="noStrike">
                <a:solidFill>
                  <a:srgbClr val="4e3b30"/>
                </a:solidFill>
                <a:latin typeface="Franklin Gothic Book"/>
              </a:rPr>
              <a:t>(2000) 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500" spc="-1" strike="noStrike">
                <a:solidFill>
                  <a:srgbClr val="4e3b30"/>
                </a:solidFill>
                <a:latin typeface="Franklin Gothic Book"/>
              </a:rPr>
              <a:t>Rocket Science </a:t>
            </a:r>
            <a:r>
              <a:rPr b="0" lang="en-GB" sz="2500" spc="-1" strike="noStrike">
                <a:solidFill>
                  <a:srgbClr val="4e3b30"/>
                </a:solidFill>
                <a:latin typeface="Franklin Gothic Book"/>
              </a:rPr>
              <a:t>(2007)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500" spc="-1" strike="noStrike">
                <a:solidFill>
                  <a:srgbClr val="4e3b30"/>
                </a:solidFill>
                <a:latin typeface="Franklin Gothic Book"/>
              </a:rPr>
              <a:t>Charlie Bartlett </a:t>
            </a:r>
            <a:r>
              <a:rPr b="0" lang="en-GB" sz="2500" spc="-1" strike="noStrike">
                <a:solidFill>
                  <a:srgbClr val="4e3b30"/>
                </a:solidFill>
                <a:latin typeface="Franklin Gothic Book"/>
              </a:rPr>
              <a:t>(2007)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500" spc="-1" strike="noStrike">
                <a:solidFill>
                  <a:srgbClr val="4e3b30"/>
                </a:solidFill>
                <a:latin typeface="Franklin Gothic Book"/>
              </a:rPr>
              <a:t>Superbad</a:t>
            </a:r>
            <a:r>
              <a:rPr b="0" lang="en-GB" sz="2500" spc="-1" strike="noStrike">
                <a:solidFill>
                  <a:srgbClr val="4e3b30"/>
                </a:solidFill>
                <a:latin typeface="Franklin Gothic Book"/>
              </a:rPr>
              <a:t> (2007)  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500" spc="-1" strike="noStrike">
                <a:solidFill>
                  <a:srgbClr val="4e3b30"/>
                </a:solidFill>
                <a:latin typeface="Franklin Gothic Book"/>
              </a:rPr>
              <a:t>Drillbit Taylor </a:t>
            </a:r>
            <a:r>
              <a:rPr b="0" lang="en-GB" sz="2500" spc="-1" strike="noStrike">
                <a:solidFill>
                  <a:srgbClr val="4e3b30"/>
                </a:solidFill>
                <a:latin typeface="Franklin Gothic Book"/>
              </a:rPr>
              <a:t>(2008) 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500" spc="-1" strike="noStrike">
                <a:solidFill>
                  <a:srgbClr val="4e3b30"/>
                </a:solidFill>
                <a:latin typeface="Franklin Gothic Book"/>
              </a:rPr>
              <a:t>College (2008)</a:t>
            </a:r>
            <a:r>
              <a:rPr b="0" lang="en-GB" sz="25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500" spc="-1" strike="noStrike">
                <a:solidFill>
                  <a:srgbClr val="4e3b30"/>
                </a:solidFill>
                <a:latin typeface="Franklin Gothic Book"/>
              </a:rPr>
              <a:t>Role Models </a:t>
            </a:r>
            <a:r>
              <a:rPr b="0" lang="en-GB" sz="2500" spc="-1" strike="noStrike">
                <a:solidFill>
                  <a:srgbClr val="4e3b30"/>
                </a:solidFill>
                <a:latin typeface="Franklin Gothic Book"/>
              </a:rPr>
              <a:t>(2008)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500" spc="-1" strike="noStrike">
                <a:solidFill>
                  <a:srgbClr val="4e3b30"/>
                </a:solidFill>
                <a:latin typeface="Franklin Gothic Book"/>
              </a:rPr>
              <a:t>Sex Drive </a:t>
            </a:r>
            <a:r>
              <a:rPr b="0" lang="en-GB" sz="2500" spc="-1" strike="noStrike">
                <a:solidFill>
                  <a:srgbClr val="4e3b30"/>
                </a:solidFill>
                <a:latin typeface="Franklin Gothic Book"/>
              </a:rPr>
              <a:t>(2008)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500" spc="-1" strike="noStrike">
                <a:solidFill>
                  <a:srgbClr val="4e3b30"/>
                </a:solidFill>
                <a:latin typeface="Franklin Gothic Book"/>
              </a:rPr>
              <a:t>Fired Up </a:t>
            </a:r>
            <a:r>
              <a:rPr b="0" lang="en-GB" sz="2500" spc="-1" strike="noStrike">
                <a:solidFill>
                  <a:srgbClr val="4e3b30"/>
                </a:solidFill>
                <a:latin typeface="Franklin Gothic Book"/>
              </a:rPr>
              <a:t>(2009)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500" spc="-1" strike="noStrike">
                <a:solidFill>
                  <a:srgbClr val="4e3b30"/>
                </a:solidFill>
                <a:latin typeface="Franklin Gothic Book"/>
              </a:rPr>
              <a:t>17 Again </a:t>
            </a:r>
            <a:r>
              <a:rPr b="0" lang="en-GB" sz="2500" spc="-1" strike="noStrike">
                <a:solidFill>
                  <a:srgbClr val="4e3b30"/>
                </a:solidFill>
                <a:latin typeface="Franklin Gothic Book"/>
              </a:rPr>
              <a:t>(2009)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1" name="Picture 2" descr="http://upload.wikimedia.org/wikipedia/en/8/8b/Superbad_Poster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35680" y="1301760"/>
            <a:ext cx="1673280" cy="24843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http://upload.wikimedia.org/wikipedia/en/thumb/e/e1/17again.jpg/200px-17again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858000" y="3857760"/>
            <a:ext cx="1571760" cy="23335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6" descr="http://upload.wikimedia.org/wikipedia/en/thumb/9/98/Collegeposter08.jpg/200px-Collegeposter08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572000" y="2427120"/>
            <a:ext cx="1619280" cy="2421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250" autoRev="1" fill="hold"/>
                                        <p:tgtEl>
                                          <p:spTgt spid="4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Title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64640" cy="14875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Lindsay Loha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Drake Bel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Hilary Duff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Vanessa Hudgen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Corbin bleu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Zac Efro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Jason Bigg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Ashton Kutcher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6" name="Picture 2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358040" y="4643280"/>
            <a:ext cx="1109520" cy="7527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4" descr="See full size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143840" y="2357280"/>
            <a:ext cx="1071360" cy="8337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6" descr="See full size imag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143760" y="5867280"/>
            <a:ext cx="1197000" cy="9907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8" descr="See full size image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873680" y="4643280"/>
            <a:ext cx="1198440" cy="7891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0" descr="See full size image"/>
          <p:cNvPicPr/>
          <p:nvPr/>
        </p:nvPicPr>
        <p:blipFill>
          <a:blip r:embed="rId10"/>
          <a:stretch/>
        </p:blipFill>
        <p:spPr>
          <a:xfrm>
            <a:off x="5857920" y="1214280"/>
            <a:ext cx="1143000" cy="9050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2" descr="See full size image"/>
          <p:cNvPicPr/>
          <p:nvPr/>
        </p:nvPicPr>
        <p:blipFill>
          <a:blip r:embed="rId11"/>
          <a:stretch/>
        </p:blipFill>
        <p:spPr>
          <a:xfrm>
            <a:off x="4929120" y="2428920"/>
            <a:ext cx="928800" cy="85716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4" descr="See full size image"/>
          <p:cNvPicPr/>
          <p:nvPr/>
        </p:nvPicPr>
        <p:blipFill>
          <a:blip r:embed="rId12"/>
          <a:stretch/>
        </p:blipFill>
        <p:spPr>
          <a:xfrm>
            <a:off x="4857840" y="3429000"/>
            <a:ext cx="1143000" cy="9414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6" descr="See full size image"/>
          <p:cNvPicPr/>
          <p:nvPr/>
        </p:nvPicPr>
        <p:blipFill>
          <a:blip r:embed="rId13"/>
          <a:stretch/>
        </p:blipFill>
        <p:spPr>
          <a:xfrm>
            <a:off x="7215120" y="3357720"/>
            <a:ext cx="1077840" cy="85716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2T16:12:45Z</dcterms:created>
  <dc:creator>Tobi</dc:creator>
  <dc:description/>
  <dc:language>en-US</dc:language>
  <cp:lastModifiedBy>Tobi</cp:lastModifiedBy>
  <dcterms:modified xsi:type="dcterms:W3CDTF">2009-11-22T17:18:35Z</dcterms:modified>
  <cp:revision>7</cp:revision>
  <dc:subject/>
  <dc:title>Teenage Romantic Comedies</dc:title>
</cp:coreProperties>
</file>