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DABED-5208-4226-AE3B-B24D74087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26961-E6E6-4B1E-8919-84F18EEB3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CCFBB-C4B5-4C88-A01C-F370F0E17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7745D-C482-41FF-80A9-96D980C8E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02700-C9FE-42C1-B1A0-E54DC5282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72736-2229-40F8-A635-568D382F5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55708-CE4D-40FF-935D-B5BA0A254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B4B1C-F591-4457-ADDF-9C9297F00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43BC1-6078-4663-AA62-82C0C544A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C9416-5924-438A-9858-C18713169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803EF-9B2D-42A0-9037-E4992ECA1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452A5-441E-49AD-9B90-8005CFA25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9CE73-C658-4093-9761-96155CB91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5EE01-E0BD-4F92-8155-3854215CB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01644-2B8E-4D85-839B-A0BF3A6DF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873B8-934D-462C-886C-AE2DAB921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1B6A0-43F8-4499-9F75-530942A8F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90E868C-0C83-4C1E-8465-9DC2680DD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29E758-48B3-4878-BD0D-749D68C26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4987DB-9ACB-4B8B-AC7E-2B1C640AA1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2580D9-9309-4D5A-B093-41EB94FC2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F03523-28A1-4247-BE5B-8820DAE564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9EC3-8668-4B1F-A537-8E2043800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3A0AFA-E04F-4636-9832-C561E7D42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5F79F9-01B4-493F-A8CD-3DF4596A8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778EC8-DB54-441A-B45F-F1973E2E3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5D6808-076C-4FA6-8CC7-7B8541B30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5566AA-1767-436C-B767-CDA768002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51A0950-223A-44B2-945C-5FADA759F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665A1EF-41A3-488E-95C8-0711F7359A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E83A14-2B83-4B41-843A-7E9874C202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991D7-C9A7-4E6F-9480-01C195F25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4DDAA5-0056-4141-B601-AC53540E3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512CD-F256-4B85-A01D-BA6D17091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06F23-8E25-4C03-8799-E977355A7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0FC718-92AF-49E4-A179-1394382912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07365-C9D3-4A4F-9748-C675C9482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12C18-B86E-49D8-BE2A-199BEC2C5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84D049-B2E1-4DA7-A837-112958D01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61456-CB6C-49BD-9FD0-5A8CC60DA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FB5D96-31A4-42C5-94F8-7CCBE986F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BDEB15-CB04-4DDD-B700-476C553967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D1D1B5-16A9-4C46-A89E-7D87078136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ADA31E-84B2-4C84-B1CC-F57C6FDB9A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5FC8E-7006-4BE6-904A-571AAF1C1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001C2F-FC29-4004-8F1D-5FFF6AACF7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0F2C57-0955-4EAE-8FF5-926052C64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4DB46F-D931-41EB-8CB6-98096D176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9CDE90-8D2E-42EB-8011-CEEACC0FD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CDC1B8-C3B6-4DB6-A668-A8E97EAAA4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C05CC2-D2CF-4212-BBCD-CF797ED46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120D34-6F3B-4BBB-9434-0BC7A79D8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8A408C-D381-4863-A7E7-DA26293B5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BFB8E5-04F9-4BD3-A284-42B027FED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19C67A4-93DB-4233-A994-A12CA37593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F5C40-0D93-4A08-BDE6-CFE6D0FE8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CCCC2C-B92B-4DCB-9BB5-3C765D4A36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93DDA74-EF04-4CA2-97A6-07F0E5149D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F1C5A3A-459D-4C31-B749-E0416DE39D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65A7AAB-FA13-4011-A97A-600EA82279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4AE71F9-6A73-49DC-99FC-C5276F29EC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6E30962-AF97-409D-9FDD-CDDC884776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74A2C1D-B1FF-4074-9122-1874F4363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5483A1-6463-48EE-B7FF-2D249B611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D63F60C-C09D-4137-B2F0-0422379B7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29297C-AE1B-43DE-A4DB-CC87A45E5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49240-9F5B-4502-AC42-D4734ADA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1AEEE71-98CD-406E-81BB-D7A3530B69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F7BFCD5-49B9-4E11-9F6A-43080449D2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940D509-FBE0-4D65-BFA4-5BF2C7F2B2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F826EEB-10E6-44DF-94C5-3376BDD990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09A34E-9A37-478C-9B10-4F8E777B75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345B32-93B5-4F95-9395-8625C0E07D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A78BF72-05E4-4466-BDC1-3384C4C7F0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1CCCBF3-1D29-48A9-8145-0B0562D850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7359CAA-FF3A-48C1-9B9C-E77671BAFB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C9AF6E-509E-4A3A-88FC-1274B668C3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4D2D-082F-4C6E-8CB9-C53CBB121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B7C25F-58F6-4BAC-8A3A-0B7B6D1120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E69A75-D992-4491-8CD2-B55B26AED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EB8AC1E-742A-4430-ACF1-D33003CADA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3FD7D91-C18B-41D7-B914-9A961762EE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7D6392D-2E4B-4221-B706-BC40E6714A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86BE4-6B56-486A-9437-1EC14ED2F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13A0-D151-4E34-B27A-9B8F42DEC78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8365-C7EF-40AA-8913-493DC64BFEF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4D37-A235-430B-A202-B22FF3FEEFF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2E17-FBC1-45A8-AA5F-F6EDF5268E6F}"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5272-1C01-4510-91DA-3C612F0D35CB}"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9C32-F174-437E-81F3-CD48B3BD1C2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679E-3FB3-42EE-B452-26CDF82E491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QUESTIONNAIRE ANALYSI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By Tobi Bello</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DO YOU A LIST ACTORS ARE INFLUENTIAL IN GETTING THE TARGET AUDIENCE TO GO AND WATCH A FILM?</a:t>
            </a:r>
            <a:endParaRPr b="0" lang="en-US" sz="2700" spc="-1" strike="noStrike">
              <a:solidFill>
                <a:srgbClr val="575f6d"/>
              </a:solidFill>
              <a:latin typeface="Century Schoolbook"/>
            </a:endParaRPr>
          </a:p>
        </p:txBody>
      </p:sp>
      <p:pic>
        <p:nvPicPr>
          <p:cNvPr id="376" name="Content Placeholder 3" descr=""/>
          <p:cNvPicPr/>
          <p:nvPr/>
        </p:nvPicPr>
        <p:blipFill>
          <a:blip r:embed="rId1"/>
          <a:stretch/>
        </p:blipFill>
        <p:spPr>
          <a:xfrm>
            <a:off x="428760" y="1785960"/>
            <a:ext cx="4572000" cy="3857760"/>
          </a:xfrm>
          <a:prstGeom prst="rect">
            <a:avLst/>
          </a:prstGeom>
          <a:ln w="0">
            <a:noFill/>
          </a:ln>
        </p:spPr>
      </p:pic>
      <p:sp>
        <p:nvSpPr>
          <p:cNvPr id="377" name="TextBox 4"/>
          <p:cNvSpPr/>
          <p:nvPr/>
        </p:nvSpPr>
        <p:spPr>
          <a:xfrm>
            <a:off x="5500800" y="1714680"/>
            <a:ext cx="2928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most people believed that A list actors (stars)  was more likely to draw people into going to watch a film. However the few that said no felt that there were other factors that contributed to people going to watch a film for example the genre of the film.</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READ ANY FILM MAGAZINES?</a:t>
            </a:r>
            <a:endParaRPr b="0" lang="en-US" sz="3000" spc="-1" strike="noStrike">
              <a:solidFill>
                <a:srgbClr val="575f6d"/>
              </a:solidFill>
              <a:latin typeface="Century Schoolbook"/>
            </a:endParaRPr>
          </a:p>
        </p:txBody>
      </p:sp>
      <p:pic>
        <p:nvPicPr>
          <p:cNvPr id="379" name="Content Placeholder 3" descr=""/>
          <p:cNvPicPr/>
          <p:nvPr/>
        </p:nvPicPr>
        <p:blipFill>
          <a:blip r:embed="rId1"/>
          <a:stretch/>
        </p:blipFill>
        <p:spPr>
          <a:xfrm>
            <a:off x="428760" y="1571760"/>
            <a:ext cx="4572000" cy="4643280"/>
          </a:xfrm>
          <a:prstGeom prst="rect">
            <a:avLst/>
          </a:prstGeom>
          <a:ln w="0">
            <a:noFill/>
          </a:ln>
        </p:spPr>
      </p:pic>
      <p:sp>
        <p:nvSpPr>
          <p:cNvPr id="380" name="TextBox 4"/>
          <p:cNvSpPr/>
          <p:nvPr/>
        </p:nvSpPr>
        <p:spPr>
          <a:xfrm>
            <a:off x="5715000" y="200016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indicates that all of my respondents apart from one person don’t read any film magazin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OFTEN DO YOU READ FILM MAGAZINES?</a:t>
            </a:r>
            <a:endParaRPr b="0" lang="en-US" sz="3000" spc="-1" strike="noStrike">
              <a:solidFill>
                <a:srgbClr val="575f6d"/>
              </a:solidFill>
              <a:latin typeface="Century Schoolbook"/>
            </a:endParaRPr>
          </a:p>
        </p:txBody>
      </p:sp>
      <p:pic>
        <p:nvPicPr>
          <p:cNvPr id="382"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Y RESPONDENT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My questionnaire was given out to people of different ages from age 16 to 45 in order to get a wide range of different perspectives on the questions being asked. I had the advantage of having my fellow students and my teachers answer the questionnaire whilst I was in college.</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 asked 20 people to take part in the questionnaire 10 being male the other female. It was a reliable questionnaire with all the candidates answering with complete honesty but I feel the questionnaire lacked representativeness. It didn’t represent certain age groups enough as the majority of people that answered the questionnaire was from the 16-24 categor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RE YOU MALE OR FEMALE</a:t>
            </a:r>
            <a:endParaRPr b="0" lang="en-US" sz="3000" spc="-1" strike="noStrike">
              <a:solidFill>
                <a:srgbClr val="575f6d"/>
              </a:solidFill>
              <a:latin typeface="Century Schoolbook"/>
            </a:endParaRPr>
          </a:p>
        </p:txBody>
      </p:sp>
      <p:sp>
        <p:nvSpPr>
          <p:cNvPr id="356" name=""/>
          <p:cNvSpPr txBox="1"/>
          <p:nvPr/>
        </p:nvSpPr>
        <p:spPr>
          <a:xfrm>
            <a:off x="457200" y="1600200"/>
            <a:ext cx="7758000" cy="4829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hart shows that the questionnaire was fair in asking the same amount of males and females to answer the questionnaire.</a:t>
            </a:r>
            <a:endParaRPr b="0" lang="en-US" sz="2400" spc="-1" strike="noStrike">
              <a:solidFill>
                <a:srgbClr val="000000"/>
              </a:solidFill>
              <a:latin typeface="Century Schoolbook"/>
            </a:endParaRPr>
          </a:p>
        </p:txBody>
      </p:sp>
      <p:pic>
        <p:nvPicPr>
          <p:cNvPr id="357" name="Chart 3" descr=""/>
          <p:cNvPicPr/>
          <p:nvPr/>
        </p:nvPicPr>
        <p:blipFill>
          <a:blip r:embed="rId1"/>
          <a:stretch/>
        </p:blipFill>
        <p:spPr>
          <a:xfrm>
            <a:off x="1071720" y="3143160"/>
            <a:ext cx="4143240" cy="32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59" name="Content Placeholder 5" descr=""/>
          <p:cNvPicPr/>
          <p:nvPr/>
        </p:nvPicPr>
        <p:blipFill>
          <a:blip r:embed="rId1"/>
          <a:stretch/>
        </p:blipFill>
        <p:spPr>
          <a:xfrm>
            <a:off x="714240" y="2000160"/>
            <a:ext cx="4357800" cy="4071960"/>
          </a:xfrm>
          <a:prstGeom prst="rect">
            <a:avLst/>
          </a:prstGeom>
          <a:ln w="0">
            <a:noFill/>
          </a:ln>
        </p:spPr>
      </p:pic>
      <p:sp>
        <p:nvSpPr>
          <p:cNvPr id="360" name="TextBox 3"/>
          <p:cNvSpPr/>
          <p:nvPr/>
        </p:nvSpPr>
        <p:spPr>
          <a:xfrm>
            <a:off x="5429160" y="2214720"/>
            <a:ext cx="2571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the majority of people that answered the questionnaire was from the 16-24 category making it unrepresentative of the other age groups.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LIKE TEENAGE ROMANTIC COMEDIES?</a:t>
            </a:r>
            <a:endParaRPr b="0" lang="en-US" sz="3000" spc="-1" strike="noStrike">
              <a:solidFill>
                <a:srgbClr val="575f6d"/>
              </a:solidFill>
              <a:latin typeface="Century Schoolbook"/>
            </a:endParaRPr>
          </a:p>
        </p:txBody>
      </p:sp>
      <p:pic>
        <p:nvPicPr>
          <p:cNvPr id="362" name="Content Placeholder 9" descr=""/>
          <p:cNvPicPr/>
          <p:nvPr/>
        </p:nvPicPr>
        <p:blipFill>
          <a:blip r:embed="rId1"/>
          <a:stretch/>
        </p:blipFill>
        <p:spPr>
          <a:xfrm>
            <a:off x="142920" y="2143080"/>
            <a:ext cx="3000240" cy="3000600"/>
          </a:xfrm>
          <a:prstGeom prst="rect">
            <a:avLst/>
          </a:prstGeom>
          <a:ln w="0">
            <a:noFill/>
          </a:ln>
        </p:spPr>
      </p:pic>
      <p:sp>
        <p:nvSpPr>
          <p:cNvPr id="363" name="TextBox 4"/>
          <p:cNvSpPr/>
          <p:nvPr/>
        </p:nvSpPr>
        <p:spPr>
          <a:xfrm>
            <a:off x="4929120" y="1928880"/>
            <a:ext cx="278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oughly about ¼ of the people I asked liked teenage romantic comedies the others preferred other genr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ARTICULAR FILM GENRES DO YOU LIKE?</a:t>
            </a:r>
            <a:endParaRPr b="0" lang="en-US" sz="3000" spc="-1" strike="noStrike">
              <a:solidFill>
                <a:srgbClr val="575f6d"/>
              </a:solidFill>
              <a:latin typeface="Century Schoolbook"/>
            </a:endParaRPr>
          </a:p>
        </p:txBody>
      </p:sp>
      <p:pic>
        <p:nvPicPr>
          <p:cNvPr id="365" name="Content Placeholder 3" descr=""/>
          <p:cNvPicPr/>
          <p:nvPr/>
        </p:nvPicPr>
        <p:blipFill>
          <a:blip r:embed="rId1"/>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57120" y="142560"/>
            <a:ext cx="8229600" cy="136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SEX DO YOU THINK TEENAGE ROMANTIC COMEDIES ARE TARGETED AT?</a:t>
            </a:r>
            <a:endParaRPr b="0" lang="en-US" sz="3000" spc="-1" strike="noStrike">
              <a:solidFill>
                <a:srgbClr val="575f6d"/>
              </a:solidFill>
              <a:latin typeface="Century Schoolbook"/>
            </a:endParaRPr>
          </a:p>
        </p:txBody>
      </p:sp>
      <p:pic>
        <p:nvPicPr>
          <p:cNvPr id="367" name="Content Placeholder 3" descr=""/>
          <p:cNvPicPr/>
          <p:nvPr/>
        </p:nvPicPr>
        <p:blipFill>
          <a:blip r:embed="rId1"/>
          <a:stretch/>
        </p:blipFill>
        <p:spPr>
          <a:xfrm>
            <a:off x="428760" y="1714680"/>
            <a:ext cx="4143240" cy="4143240"/>
          </a:xfrm>
          <a:prstGeom prst="rect">
            <a:avLst/>
          </a:prstGeom>
          <a:ln w="0">
            <a:noFill/>
          </a:ln>
        </p:spPr>
      </p:pic>
      <p:sp>
        <p:nvSpPr>
          <p:cNvPr id="368" name="TextBox 4"/>
          <p:cNvSpPr/>
          <p:nvPr/>
        </p:nvSpPr>
        <p:spPr>
          <a:xfrm>
            <a:off x="5643720" y="2071800"/>
            <a:ext cx="2643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Every respondent felt teenage romantic comedies wasn’t targeted at boys but was targeted at girls or both sex more. Simply because they felt teenage romantic comedies will appeal more to girls than boy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DO YOU THINK FILM TRAILERS ENCOURAGE PEOPLE TO GO AND WATCH A FILM?</a:t>
            </a:r>
            <a:endParaRPr b="0" lang="en-US" sz="3000" spc="-1" strike="noStrike">
              <a:solidFill>
                <a:srgbClr val="575f6d"/>
              </a:solidFill>
              <a:latin typeface="Century Schoolbook"/>
            </a:endParaRPr>
          </a:p>
        </p:txBody>
      </p:sp>
      <p:pic>
        <p:nvPicPr>
          <p:cNvPr id="370" name="Content Placeholder 3" descr=""/>
          <p:cNvPicPr/>
          <p:nvPr/>
        </p:nvPicPr>
        <p:blipFill>
          <a:blip r:embed="rId1"/>
          <a:stretch/>
        </p:blipFill>
        <p:spPr>
          <a:xfrm>
            <a:off x="457200" y="1600200"/>
            <a:ext cx="4329000" cy="3400560"/>
          </a:xfrm>
          <a:prstGeom prst="rect">
            <a:avLst/>
          </a:prstGeom>
          <a:ln w="0">
            <a:noFill/>
          </a:ln>
        </p:spPr>
      </p:pic>
      <p:sp>
        <p:nvSpPr>
          <p:cNvPr id="371" name="TextBox 4"/>
          <p:cNvSpPr/>
          <p:nvPr/>
        </p:nvSpPr>
        <p:spPr>
          <a:xfrm>
            <a:off x="5357880" y="1500120"/>
            <a:ext cx="285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19 of the respondents said yes but the one person who said no felt that posters and billboards encouraged people to go and watch a film as it would attract target audience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PIECE OF FILM MARKETING IS THE BEST?</a:t>
            </a:r>
            <a:endParaRPr b="0" lang="en-US" sz="3000" spc="-1" strike="noStrike">
              <a:solidFill>
                <a:srgbClr val="575f6d"/>
              </a:solidFill>
              <a:latin typeface="Century Schoolbook"/>
            </a:endParaRPr>
          </a:p>
        </p:txBody>
      </p:sp>
      <p:pic>
        <p:nvPicPr>
          <p:cNvPr id="373" name="Content Placeholder 7" descr=""/>
          <p:cNvPicPr/>
          <p:nvPr/>
        </p:nvPicPr>
        <p:blipFill>
          <a:blip r:embed="rId1"/>
          <a:stretch/>
        </p:blipFill>
        <p:spPr>
          <a:xfrm>
            <a:off x="785880" y="1643040"/>
            <a:ext cx="4500360" cy="4357800"/>
          </a:xfrm>
          <a:prstGeom prst="rect">
            <a:avLst/>
          </a:prstGeom>
          <a:ln w="0">
            <a:noFill/>
          </a:ln>
        </p:spPr>
      </p:pic>
      <p:sp>
        <p:nvSpPr>
          <p:cNvPr id="374" name="TextBox 3"/>
          <p:cNvSpPr/>
          <p:nvPr/>
        </p:nvSpPr>
        <p:spPr>
          <a:xfrm>
            <a:off x="5214960" y="1643040"/>
            <a:ext cx="32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chart shows that posters was the most popular piece of film marketing. Reason bieng an effective poster would make potential viewers want to learn more about the film.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2T17:13:43Z</dcterms:created>
  <dc:creator>Tobi</dc:creator>
  <dc:description/>
  <dc:language>en-US</dc:language>
  <cp:lastModifiedBy>Tobi</cp:lastModifiedBy>
  <dcterms:modified xsi:type="dcterms:W3CDTF">2009-11-19T21:04:45Z</dcterms:modified>
  <cp:revision>25</cp:revision>
  <dc:subject/>
  <dc:title>Questionnaire Analysis</dc:title>
</cp:coreProperties>
</file>