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987-3E32-4A9B-B439-F05EDB1F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89B-12FF-4102-9F53-ABBAC799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D19-E305-48C9-B33C-A18DAE0B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FA5-FD73-4BA4-B292-4C931A08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ABD-8DA6-466A-AE61-834115D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DEE-FFFE-4470-B34E-173B1BA4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27E-F800-4157-91D7-3C9E45FA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FBA-E43B-4794-92AD-48281EC2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00F-2C25-4562-B246-7316A16B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999-3B65-48D7-8519-2D2CDDFB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CFA-193B-4FE3-AA94-20B1C4E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F19-6718-4C3F-B8F0-9E0E0BB9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6680-AB81-4C75-8057-55E046EE32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and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7148" t="21752" r="38465" b="17830"/>
          <a:stretch/>
        </p:blipFill>
        <p:spPr>
          <a:xfrm>
            <a:off x="257184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428920" y="1285920"/>
            <a:ext cx="3929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9:50Z</dcterms:created>
  <dc:creator>BELLO</dc:creator>
  <dc:description/>
  <dc:language>en-US</dc:language>
  <cp:lastModifiedBy>BELLO</cp:lastModifiedBy>
  <dcterms:modified xsi:type="dcterms:W3CDTF">2009-12-16T14:58:34Z</dcterms:modified>
  <cp:revision>5</cp:revision>
  <dc:subject/>
  <dc:title>Film Poster and Magazine drafts</dc:title>
</cp:coreProperties>
</file>