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08A-13E3-4079-A8BF-D2FC29A8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69B-B549-4820-8F87-9FB49867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E3D-F547-4462-9655-38945E7D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628-27D2-4F14-BF74-976C16A2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835-86D0-4CB2-9D34-5AE4013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493-B370-423B-BC19-35B5E813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278-0E0C-41D6-8CAD-86A7C8F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B15-DADC-47F7-A099-5FB1786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758-4237-4DD5-B9C5-2B711CB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631-6C5E-4E5D-A268-F42931A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192-B79B-4317-BC4B-34D0D42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396-3C35-42C8-827E-0CB08C5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DACD-E5B3-4B16-8D7F-B55FDCB1BC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and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Po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7148" t="21752" r="38465" b="17830"/>
          <a:stretch/>
        </p:blipFill>
        <p:spPr>
          <a:xfrm>
            <a:off x="257184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428920" y="1285920"/>
            <a:ext cx="3929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09:50Z</dcterms:created>
  <dc:creator>BELLO</dc:creator>
  <dc:description/>
  <dc:language>en-US</dc:language>
  <cp:lastModifiedBy>BELLO</cp:lastModifiedBy>
  <dcterms:modified xsi:type="dcterms:W3CDTF">2009-12-16T14:58:34Z</dcterms:modified>
  <cp:revision>5</cp:revision>
  <dc:subject/>
  <dc:title>Film Poster and Magazine drafts</dc:title>
</cp:coreProperties>
</file>