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E8D-10BA-43B7-B1A6-AF801876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526-E65F-4BA0-9EA0-08AF19B6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53C-AB3D-41BF-81C1-F61A699A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5AF-C92F-41A0-910F-D7F19CF5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FD9-5BF2-4145-A30C-ABABF60C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20C-12F6-4BDB-9893-3149D5AC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AFB-46B0-4F27-8B1F-53FC7ED2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25F-4348-4C93-AD12-579C1AD8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627-51F9-4D81-909D-2E7067B6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CEA-1A55-4B4B-97B1-D9D811F3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31B-CDC6-485C-A441-1777A778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AF5-3D84-4286-A521-607D12D0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41A3-6DBD-4EFB-A171-0988414733E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Poster and Magazine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obi Be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Pos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rcRect l="37148" t="21752" r="38465" b="17830"/>
          <a:stretch/>
        </p:blipFill>
        <p:spPr>
          <a:xfrm>
            <a:off x="2571840" y="1571760"/>
            <a:ext cx="3929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Magaz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36691" t="15999" r="38036" b="12736"/>
          <a:stretch/>
        </p:blipFill>
        <p:spPr>
          <a:xfrm>
            <a:off x="2428920" y="1285920"/>
            <a:ext cx="3929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09:50Z</dcterms:created>
  <dc:creator>BELLO</dc:creator>
  <dc:description/>
  <dc:language>en-US</dc:language>
  <cp:lastModifiedBy>BELLO</cp:lastModifiedBy>
  <dcterms:modified xsi:type="dcterms:W3CDTF">2009-12-16T14:58:34Z</dcterms:modified>
  <cp:revision>5</cp:revision>
  <dc:subject/>
  <dc:title>Film Poster and Magazine drafts</dc:title>
</cp:coreProperties>
</file>