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997D-202D-4D87-BFFC-5C27F4FC2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5821-EFEA-47F0-9B32-10766689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94F1-A087-4CA6-BCAD-80642C525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A1EF-429B-43A1-8205-571EC892F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31CD-2D8A-41D1-A077-4F61FF0E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2A72-9DE9-4170-9488-B8A36107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D2CD-A298-4351-BCFD-86D34BDB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A615-858E-420D-B895-CBE4034A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9309-CA46-443A-8810-586507C8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6624-FFF1-421E-8403-EF87C399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12B6-FEB0-44DC-AF89-ECFB954B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3887-6078-4CE6-B05D-9DB5EDF5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E328-E627-4627-BA67-6D8ECD9168A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lm Poster and Magazine draf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obi Bel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lm Post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rcRect l="37148" t="21752" r="38465" b="17830"/>
          <a:stretch/>
        </p:blipFill>
        <p:spPr>
          <a:xfrm>
            <a:off x="2571840" y="1571760"/>
            <a:ext cx="39290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lm Magaz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rcRect l="36691" t="15999" r="38036" b="12736"/>
          <a:stretch/>
        </p:blipFill>
        <p:spPr>
          <a:xfrm>
            <a:off x="2428920" y="1285920"/>
            <a:ext cx="39290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4:09:50Z</dcterms:created>
  <dc:creator>BELLO</dc:creator>
  <dc:description/>
  <dc:language>en-US</dc:language>
  <cp:lastModifiedBy>BELLO</cp:lastModifiedBy>
  <dcterms:modified xsi:type="dcterms:W3CDTF">2009-12-16T14:58:34Z</dcterms:modified>
  <cp:revision>5</cp:revision>
  <dc:subject/>
  <dc:title>Film Poster and Magazine drafts</dc:title>
</cp:coreProperties>
</file>