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DFB-8B42-44E2-B29D-E5177BD2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646-B7A9-4E88-8A55-D3E02659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C15-68C1-4D77-92A6-C79B97F3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727-E3C2-4948-86D0-8ADD460C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1432-F3FD-4322-9BAA-099F18FA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8F90-1478-4523-9EE9-4CEF3800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2A1B-BF13-433C-9837-4B84C8E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ED10-4413-4E97-9B47-B74A3F0D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2471-39BB-42BD-A8B2-7AB0D25B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A06B-9836-43D9-AC86-F0A19DC2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89FB-1E23-4B0A-95C4-7D3197F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167-1AF4-42DB-957B-A935182F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2CAD-FD0D-45A3-A000-0BF19EF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DFA7-D929-4D12-B582-D107EA24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410F-8D11-43BD-8B0E-C484538D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BEEF-330E-44CF-95E9-6B05D75C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C18D-04AC-42D3-9D4E-18A39CBA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57DB-E07C-4E26-B281-08F056F4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5BD7-7CF7-44AD-B705-3E7322D4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7C0B-7CEE-4BD2-8757-B62A2CA2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FE65-7954-4647-902E-7ECCED2A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3173-DAB1-4616-ACCB-45C5578D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FA2-FC66-413F-A3A7-A5D11597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59AC-F4B9-4979-A926-BA0318AC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52B4-6E49-450F-8120-0C66E06F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8408-5B87-41EC-AE34-59DF1DE0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2672-5F1F-4147-B46A-3037733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C1AC-2E3B-44FF-B760-8100E5A3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DD2F-98FE-4CE5-BE21-A866E875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D05A-AD7E-4849-8938-DB403F53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A019-0D60-4481-8544-8632CC37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AF0D-7AFF-44AB-B100-3CB7CCE9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C7FA-4C95-4CB6-9C87-3718A2DA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334-7C23-4A59-8384-8FF1F5C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1520-659D-40B8-9266-4BE6384C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8233-6622-4C2F-81A6-D29E0B87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2A40-041A-4772-B4AE-05E13DFF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65A9C-529D-4BA7-80EA-2782694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72DB-D052-4316-8AAD-484DE59A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2F28-D6A7-4F38-B7E3-405A6629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39EC2-6E68-48B2-9EA7-05275539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3343-B02B-4B99-8CB4-C57D8E80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AA22-F9B3-434D-BD62-59D8B729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4FC9-CC75-4971-85A9-EC8AF375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BE6-5F5A-4444-AE4F-FAAB14FB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73A9-891E-48CF-9BBF-CD749998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4DF2-994C-4DDB-AFEB-8D7C628A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FE52-6B0C-47C8-A57D-4D7B9574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6248F-0D79-4E31-A446-CD1E5501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076D5-4D29-49A2-B085-2A265A8F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6585-F63B-495C-85AC-9D18CA79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E24C1-012F-408C-9576-1421216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C88A-9CF5-4EBE-80C7-D57C507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70FA3-D209-4C95-988D-CAFD8B84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F666-ADB5-459F-B1A2-63E0F5DD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BE0-0A26-4B1D-8B2A-E50160AB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B1B8-8942-4E4B-8906-B7B0D56B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2FD7F-FCE2-44BF-AC64-0F2FB49C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594C0-56C2-4591-AC40-1769AFAF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C5DB0-00EF-4798-B66D-68504A8A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F2C8-ACC0-45D5-A1E1-E32771A0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C9AF-4103-4EAE-A60C-3BC8AB7E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76F63-41AF-4068-BF7A-E80D20F1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C0499-D46C-4CC7-A93D-DB20FC4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09A75-11F8-4FD6-B09A-887ED33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00AE1-9F7F-497D-90F0-9BE210A9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364-291C-459C-B4C3-FA15D48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8C969-D892-4BCD-BE2B-CFB66056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C4350-7AEB-46C6-A948-3AB7687D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0B36A-4382-4450-BAD9-DBEF7B6F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38E3E-7404-406B-B222-B57A1EF5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9FEF6-E2F5-466B-9F98-974D7C9D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A5CA-0C4C-426D-A5DE-4725158B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BAA72-9296-4F87-A85C-E8EA409D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B6C4B-FE72-4283-B7DE-E15BE01A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58C1E-F620-43A7-A9B7-3EBF821A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E5095-84F6-492A-956F-63EB0282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364-4A64-49FB-AD93-608B8705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570CA-BA50-4D4C-83B7-03654DA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B15CF-E752-4283-BC04-DEC4AF52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8822C-D27F-4A9B-AB78-E1D47179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E2FF8-87AD-4881-B0A5-68C57797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E9514-48B0-4031-8AA8-527D39FE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EAA-2C4D-4A52-B95F-AAD2FAF0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A371-D118-40E2-BD74-11262A8908D4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E399-B57C-4402-BB7E-7E687FAA6646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80F4-3883-4219-A903-4A7E08709673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C986-1534-4C43-A4BF-9FD9FDFC483B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F419-1FC7-44D6-906B-908F115A1A35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D77E-485E-463F-AC98-E624B3FB0480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F8E1-2268-4040-A81D-FEFCF6BC6A09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Film Poster Draf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Tobi Bell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714680"/>
            <a:ext cx="3443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929040" y="1714680"/>
            <a:ext cx="35006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37151" t="21284" r="38083" b="18676"/>
          <a:stretch/>
        </p:blipFill>
        <p:spPr>
          <a:xfrm>
            <a:off x="3643200" y="1643040"/>
            <a:ext cx="35719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571920" y="1714680"/>
            <a:ext cx="36432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500120"/>
            <a:ext cx="31431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3:37:35Z</dcterms:created>
  <dc:creator>Tobi</dc:creator>
  <dc:description/>
  <dc:language>en-US</dc:language>
  <cp:lastModifiedBy>Tobi</cp:lastModifiedBy>
  <dcterms:modified xsi:type="dcterms:W3CDTF">2009-12-17T23:57:56Z</dcterms:modified>
  <cp:revision>2</cp:revision>
  <dc:subject/>
  <dc:title>Film Poster Drafts</dc:title>
</cp:coreProperties>
</file>