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DBA5-7AC5-4793-915A-572DA47E8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CFDC-CA40-4E4D-AFA1-13A829F8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F24F-0C61-49F8-B816-8F977D203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25B6-D475-4878-A50C-BD3C41827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BFB2-911B-416A-AD95-9C2A8FBAA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CCC6-8CE8-4702-A868-6A478B9A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F04E-55CA-4994-88B0-E2EE7BDF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6F8B-75D8-490C-AAA0-0A1BA29D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77FA-6B0E-462F-BB67-47DC57D1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A60E-DD08-45EB-A526-80C174C4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E53A-0A09-43C0-9EA3-B46C3EB3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729D-3EE1-4E53-B6C4-E0536BA4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15A8-3D72-4BA5-B85A-69E32F9F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1413-761C-4D20-BFFF-1E4FE204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8998-ECA1-4817-8831-02E10E04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5074-BE27-4F8E-ACE9-A42674503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28B5-D52E-440E-93CB-14798F021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93FC7-AAEE-4D56-8559-5A2713A65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97AE7-BF4B-47C7-A62A-AA1DE523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D58B9-B9C1-41E5-A416-68F4EE07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7BCE6-0F85-4EE4-A3A2-E3062ABB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3EC27-872F-4B22-9510-56537F01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C0C7-E960-4698-9775-E2F2A1DC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C8B63-317B-4D16-A5D3-592961F1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A6D80-3576-44DA-9AC4-6778BCE3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B0BEE-6AB5-4D34-9810-AA83BC76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1EF6B-A72B-4614-B1EE-16890209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34874-8C5C-45BA-A679-3C249F27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976F6-793C-412E-B9E5-0B0CCBF80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476DD-890D-4A0D-86D2-AFF83E16E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95BFC-4BF4-4E18-AE51-F53201A8E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D1C4F-C8B3-4962-AC59-981CAB22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10982-DE2F-40A4-97C2-1BF60876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FC7E-417D-42CB-B788-1666086C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7E791-B805-46A7-AFFF-B3F8582D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B0A99-F1FE-42AC-AF6E-1FDE6AE5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27B42-ACBC-46A7-8DF9-A667E9C3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7CA7F-E483-4F8A-9761-9DB2CBC5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20BF8-AAC4-4710-8FEC-88E1B274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36AA1-2C10-4136-852B-80DA34DD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B1B71-9C42-497F-A36B-3880644D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85524-96D4-4500-AFA1-18E85A9A8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910AA-5A1D-4FBF-9F20-FE6DFBC8F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5FD6B-8DC9-487B-9E9B-D83DEB082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BF1A-46C9-4D79-B4A3-5BD744FB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7A583-7348-4F55-A4E1-9F8B144E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2E8C6-5220-4988-8842-BCC946D0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0A03E-F603-459C-88FC-120D6876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40037-B57D-4858-A979-6D70E823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2EF4F-1473-40B4-8906-23725443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C3DA6-A06F-49B2-96F3-47F670A0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C24AE-DBEE-4C9B-869E-2B5AF8C8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56D8C-5E14-456A-A7F3-7C1E5559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B2F28-0166-41E9-92B2-488646CB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B928F-DFB7-4BCD-A725-1667A507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8118-F06E-467E-904B-A38F1CE2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E0E32-93A2-416B-B2B9-9A8EA78E0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B905A-B9D4-40D0-B7A0-F3700B893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841AE-0C56-454C-9460-F90FCFC2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9BF15-5D31-46EE-A74D-24EEA17E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2AFE4-F1D6-43C8-B1E8-A5958566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26155-9AD7-4EC9-98AE-0C89395A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BE824-0B3B-4D38-9FA2-B0459481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3AC86-12B8-4F02-BA04-F1D26923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43D18-2E35-4F70-885B-4ACCFAF2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8BE68-2E41-4C68-A8F2-33DC6BC7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6B52-B5CA-416E-96D9-7815833C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BD56E-AA60-47E8-A6A5-F6A0EF23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5EA0A-500D-4C8D-9D6E-13B898736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3CC60-37E7-4E14-B747-E72EE145C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801DA-63E0-44E2-B126-B073660A5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CF91B-981E-4BBD-8658-F865C1FC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91582-C0B4-4859-9996-F4DE6B72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2EA89-9910-433F-94F7-5EB64366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7DD4B-E0BF-4798-8569-6E4E7841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DE3E7-124E-4422-AF3F-AFEBEE3E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18770-8F66-43CD-8E3E-2E5C0470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646D-0915-414C-BF5C-7D66C97B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D3290-1FD8-44D5-A121-65B7F0CA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09D24-B2EB-4AB6-8986-21FC8697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0E992-F124-4B91-BEE9-63BCD6CD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D14A7-30EA-4345-9ADE-A0F6EC6F1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2B66C-A6CA-4C50-8099-A45A9BD80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38A5-6A5C-4C71-AAB3-FF16D6EF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4D6B-9F0E-44A5-B46E-3B2FD21E1C31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B328-917C-4D83-B90D-8A8F808C7293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E525-AD65-4BA3-9FD8-FDC09E456580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DD50-294F-4CCE-952E-2318061EA228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D5EF-DEDF-4D9A-9663-25FDE3C5CD9E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577E-7166-4759-A128-032D8E460DBB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BAAD-2F6A-498C-B77A-7036CC40F294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572314"/>
                </a:solidFill>
                <a:latin typeface="Gill Sans MT"/>
              </a:rPr>
              <a:t>Film Poster Draf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20e04"/>
                </a:solidFill>
                <a:latin typeface="Gill Sans MT"/>
              </a:rPr>
              <a:t>Tobi Bell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rcRect l="37068" t="21422" r="38169" b="17584"/>
          <a:stretch/>
        </p:blipFill>
        <p:spPr>
          <a:xfrm>
            <a:off x="3714840" y="1714680"/>
            <a:ext cx="34430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rcRect l="37068" t="21422" r="38169" b="17584"/>
          <a:stretch/>
        </p:blipFill>
        <p:spPr>
          <a:xfrm>
            <a:off x="3929040" y="1714680"/>
            <a:ext cx="350064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1"/>
          <a:srcRect l="37151" t="21284" r="38083" b="18676"/>
          <a:stretch/>
        </p:blipFill>
        <p:spPr>
          <a:xfrm>
            <a:off x="3643200" y="1643040"/>
            <a:ext cx="357192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rcRect l="37068" t="21422" r="38169" b="17584"/>
          <a:stretch/>
        </p:blipFill>
        <p:spPr>
          <a:xfrm>
            <a:off x="3571920" y="1714680"/>
            <a:ext cx="364320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rcRect l="37068" t="21422" r="38169" b="17584"/>
          <a:stretch/>
        </p:blipFill>
        <p:spPr>
          <a:xfrm>
            <a:off x="3714840" y="1500120"/>
            <a:ext cx="314316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23:37:35Z</dcterms:created>
  <dc:creator>Tobi</dc:creator>
  <dc:description/>
  <dc:language>en-US</dc:language>
  <cp:lastModifiedBy>Tobi</cp:lastModifiedBy>
  <dcterms:modified xsi:type="dcterms:W3CDTF">2009-12-17T23:57:56Z</dcterms:modified>
  <cp:revision>2</cp:revision>
  <dc:subject/>
  <dc:title>Film Poster Drafts</dc:title>
</cp:coreProperties>
</file>