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029-DDCC-4F6A-AED6-86786674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47C-2ED4-451E-97E7-C3F90A2F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0244-223B-49E8-9BF5-2AD4EF8A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D5A-7C4C-4695-AEBB-8885643E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F7A-2F06-46F2-A4DC-8726953E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063-B4EC-4550-942F-4765ED30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8CFD-CDAE-41F6-A73A-2E71526A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1FA-E813-4EF9-9C4A-32715D04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1BF-FE65-4CA6-ACBA-8D77D5AE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0C42-4A1E-4F72-B00B-64389D45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4ED-0052-4429-99AE-B4B3866A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C67-F762-48C5-84B4-04193CE7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41C8-2D31-4996-880D-0B07D358234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Magazine Draf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obi Be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36691" t="16048" r="37577" b="12343"/>
          <a:stretch/>
        </p:blipFill>
        <p:spPr>
          <a:xfrm>
            <a:off x="2571840" y="1214280"/>
            <a:ext cx="3714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rcRect l="36691" t="15999" r="38036" b="12736"/>
          <a:stretch/>
        </p:blipFill>
        <p:spPr>
          <a:xfrm>
            <a:off x="2714760" y="1428840"/>
            <a:ext cx="36147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rcRect l="36691" t="16048" r="37577" b="12343"/>
          <a:stretch/>
        </p:blipFill>
        <p:spPr>
          <a:xfrm>
            <a:off x="2786040" y="1143000"/>
            <a:ext cx="3714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21:19:52Z</dcterms:created>
  <dc:creator>Tobi</dc:creator>
  <dc:description/>
  <dc:language>en-US</dc:language>
  <cp:lastModifiedBy>Tobi</cp:lastModifiedBy>
  <dcterms:modified xsi:type="dcterms:W3CDTF">2009-12-17T22:40:08Z</dcterms:modified>
  <cp:revision>8</cp:revision>
  <dc:subject/>
  <dc:title>Film Magazine Drafts</dc:title>
</cp:coreProperties>
</file>