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095E-920B-4505-845A-8E3037C0D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E94B-25B6-40C0-B01F-18424B7D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F6C4-930F-40F7-A0D1-839D31630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8FCA-C870-447A-98A7-CF0F50B1D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4C82-BF56-44F6-AA28-D88D6598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248A-101E-4406-AFB3-3F5C2DAF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647C-039E-4FA3-8DED-E5AFEEA0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A7FA-95F7-4118-BC5E-B38A9571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8B9F-BF1D-425E-A6B5-0CB97AA6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D979-E712-40E2-85F7-097C423A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D2FF-FF52-4444-B9F0-8A8CEC3B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6C97-DD87-4A95-87C1-03744EEF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64D0-0F23-4D6D-84FB-F11D02A1E90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lm Magazine Draf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obi Bel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raft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rcRect l="36691" t="16048" r="37577" b="12343"/>
          <a:stretch/>
        </p:blipFill>
        <p:spPr>
          <a:xfrm>
            <a:off x="2571840" y="1214280"/>
            <a:ext cx="3714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raf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rcRect l="36691" t="15999" r="38036" b="12736"/>
          <a:stretch/>
        </p:blipFill>
        <p:spPr>
          <a:xfrm>
            <a:off x="2714760" y="1428840"/>
            <a:ext cx="36147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raft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rcRect l="36691" t="16048" r="37577" b="12343"/>
          <a:stretch/>
        </p:blipFill>
        <p:spPr>
          <a:xfrm>
            <a:off x="2786040" y="1143000"/>
            <a:ext cx="3714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21:19:52Z</dcterms:created>
  <dc:creator>Tobi</dc:creator>
  <dc:description/>
  <dc:language>en-US</dc:language>
  <cp:lastModifiedBy>Tobi</cp:lastModifiedBy>
  <dcterms:modified xsi:type="dcterms:W3CDTF">2009-12-17T22:40:08Z</dcterms:modified>
  <cp:revision>8</cp:revision>
  <dc:subject/>
  <dc:title>Film Magazine Drafts</dc:title>
</cp:coreProperties>
</file>