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F07-A9F6-467B-9925-D08C1F08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3D7-8172-45C5-A83D-9B6419D0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AEE-6712-4303-8196-A8712BE4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246-F5DD-45EB-8657-AE4646C6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FFC-84CF-4949-B791-553FBD03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10A-399F-4520-BE88-B3EE0558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5E4-86CD-46EF-AADE-3F2AF9CD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859-710B-4E15-A59E-D06E0F02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F5C-FC3E-4EF2-9A6A-D006574C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DD6-139B-4AC0-BF93-754CFD3D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1A8-E05B-4D52-96BD-0E8DB53A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C42-27C7-4960-9754-8D4E3363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429E-AEC8-416B-B756-CAACF4A6FD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Magazine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obi B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6691" t="16048" r="37577" b="12343"/>
          <a:stretch/>
        </p:blipFill>
        <p:spPr>
          <a:xfrm>
            <a:off x="2571840" y="1214280"/>
            <a:ext cx="3714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6691" t="15999" r="38036" b="12736"/>
          <a:stretch/>
        </p:blipFill>
        <p:spPr>
          <a:xfrm>
            <a:off x="2714760" y="1428840"/>
            <a:ext cx="3614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36691" t="16048" r="37577" b="12343"/>
          <a:stretch/>
        </p:blipFill>
        <p:spPr>
          <a:xfrm>
            <a:off x="2786040" y="1143000"/>
            <a:ext cx="3714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1:19:52Z</dcterms:created>
  <dc:creator>Tobi</dc:creator>
  <dc:description/>
  <dc:language>en-US</dc:language>
  <cp:lastModifiedBy>Tobi</cp:lastModifiedBy>
  <dcterms:modified xsi:type="dcterms:W3CDTF">2009-12-17T22:40:08Z</dcterms:modified>
  <cp:revision>8</cp:revision>
  <dc:subject/>
  <dc:title>Film Magazine Drafts</dc:title>
</cp:coreProperties>
</file>