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6C9-418A-48F4-8A60-EA47A235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D16-16BE-457D-8EF1-6DA75CC7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2FC-E467-4678-B48F-E83B1B27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68C6-E06D-438A-964F-A30FD3AE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980-E5E9-458E-81D7-EB4969A0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72C-7D07-44C8-92AD-99AFBDBC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DA8-9609-4070-BEAC-38F48BB8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782-1DC5-4801-9225-FB3C531F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F84-36B4-4D55-B447-E7C9B53E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BAB-B9A9-4DE6-896E-865E42E9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70C-6E0C-4764-8297-4ADE19F9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55B-EE3C-4D89-A236-B23AF8B4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77C5-09BB-4D5F-BEAD-54886A2468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Magazine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obi Be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36691" t="16048" r="37577" b="12343"/>
          <a:stretch/>
        </p:blipFill>
        <p:spPr>
          <a:xfrm>
            <a:off x="2571840" y="1214280"/>
            <a:ext cx="3714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36691" t="15999" r="38036" b="12736"/>
          <a:stretch/>
        </p:blipFill>
        <p:spPr>
          <a:xfrm>
            <a:off x="2714760" y="1428840"/>
            <a:ext cx="36147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36691" t="16048" r="37577" b="12343"/>
          <a:stretch/>
        </p:blipFill>
        <p:spPr>
          <a:xfrm>
            <a:off x="2786040" y="1143000"/>
            <a:ext cx="3714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21:19:52Z</dcterms:created>
  <dc:creator>Tobi</dc:creator>
  <dc:description/>
  <dc:language>en-US</dc:language>
  <cp:lastModifiedBy>Tobi</cp:lastModifiedBy>
  <dcterms:modified xsi:type="dcterms:W3CDTF">2009-12-17T22:40:08Z</dcterms:modified>
  <cp:revision>8</cp:revision>
  <dc:subject/>
  <dc:title>Film Magazine Drafts</dc:title>
</cp:coreProperties>
</file>