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7CA-3F85-436D-A3E6-D5151591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9AE-19CD-4073-8255-D15F115B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58D07-174D-47DF-A4B1-3780EFEC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A2FE7-531B-4C9A-B796-CE3619DC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0FF3D-2483-469C-9092-A77D5292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7B3CF-0270-436A-A16E-73F6CC3E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3FCFF-A98C-45D0-AC21-D688D049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D10FE-4B26-4859-A454-40E8A379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95F73-2E42-4F43-BE42-F86648DC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151E1-A5B2-4290-8A2E-0DFA5277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86C3F-B740-4A03-8DFD-0E147E3F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63D-EBBF-44CD-8CD4-4CFAB89B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C8A-2D6E-4822-9B74-F9181B47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C14B-8418-4C12-A656-1F92DE32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6936-1C31-4F8B-98B3-1AFD46C4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78D4-0BB3-44EF-8795-F859D54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7273-9E46-4DD4-844A-76DD24CC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04F9-B7C8-4DEE-AE9B-9CD9867E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5699-53C5-4747-AF7F-4295B130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F747-10D5-46A9-88B8-30FB648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EC0-E8F0-47A3-897B-35EB4A7E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9F97-BE8B-4EA0-874F-27788ECE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3CE3-C02B-48AF-B527-F71A2961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50A8-1861-4714-B0AC-A1E5881E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DFD0-630A-497D-B8CF-4E589007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92AC-04DC-4C4D-993A-3F10C1E9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DD3F-CEEE-4C42-840F-29981320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042A-354C-48C9-90E8-B8494389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97D6-9033-4B52-966B-710E877B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C783-BDDD-4BF0-ABFA-4BA2C2F0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6647-92DD-4721-B33C-548286B9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6ED-9556-4DD7-A12D-4D882109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D6C0-2AC9-4D91-9374-E0C6D97D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B05D-A4F5-4B16-A1B9-DEE34093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142C-AFBD-4F8D-98A5-A2D21096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2787-999F-4D26-B005-9FDFFE5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704E-91B3-480C-9AFB-6D4EE431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4233-8459-4F7C-92E1-ECD94B9B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67B1-01DF-45C9-8B11-6F044972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3C86-3023-4AF8-A15E-23FBA037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6EAD-2B91-4055-9999-2C465CD6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64C53-9403-4D8C-B9D8-5E182D6B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A14-E521-487C-817C-9BA697B0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1CAE1-F2F8-43B4-97A0-B44A4D3A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A575-C104-4B63-AE1D-3BDB0576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B3A62-3525-49AA-9C71-855A23AF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EEA6A-CDE3-4727-8FCD-347D8AC1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0DFB-D12B-4534-B265-0E554DC3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9A5B7-B115-4268-8EBE-F5DB57D1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045B-77DE-4CF3-90E4-97E2E8C3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E502-420E-44A5-80FD-EAA6AAA2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D464-2BC0-478A-9488-15D68571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1D51-0CD4-48DA-95A8-0D3207C6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13A-BE73-410C-8986-A00CFB49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1EFC-AC25-453F-A2FA-894ABCF9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58FA8-F938-471F-AE83-478FC1BA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FF42A-D75E-4758-9C7A-BF1E42D3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B209A-615F-4444-9083-ED23C4FB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D24D-0721-40F5-9D2E-827DB3D2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E8AB1-47C3-4B08-8089-B9CDA4C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D3FAE-ED22-497B-8DFE-2E4373F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B244D-604C-43D7-84B4-928514B9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C1FF3-8D7E-470C-ACF5-FF47CD3A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8CCA3-0F97-4C0D-8F24-F416831D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424-1073-4601-8D2B-7EB2EA7D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5C4DE-55E3-4018-9D14-F569E87E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90D73-21CB-465F-AE81-7FFB982E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9E0A2-EAB3-45C5-8A07-E06EA698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C61CF-2A59-43D1-86FE-BC3BFA51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13968-3D26-40E9-8566-7CD46E52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1CEE0-50C5-4E4C-8C80-A01522BD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E6B91-D8C6-4D6B-8C9C-329E9D27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DFE42-0DA3-4AFA-8DFE-830C0A5E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70528-28A0-42E8-8752-AA632E5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57A3-0EC6-4882-A906-954A0527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8F5-7BB7-42BC-945C-233C30CB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9667F-ACD1-4958-920A-BABA56F4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DFEA-B168-4BF1-9BCC-F8335CEA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1DB9F-EE35-4E2F-8477-C176790D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93D8A-D405-4F61-956D-9BD54422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79336-573A-4BFE-B59E-D658FF33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56DF-2CF6-4B4A-BFB3-6D966625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EB44D-AFDE-45A8-A35D-5325E574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6CE29-83B8-44B2-8186-A2C3B594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50531-0938-4B7B-ADC5-0A9020DA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779E-6B28-4B38-9A40-77B86D2E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44C-9BE4-48F3-969A-FFBC874F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6BF5C-9A72-4FB6-8C01-232A1B1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7274-2BCA-4DBE-A1F6-7806B1AF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B94F4-7491-455B-B730-84E1BAA8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A0B79-32B6-4DCD-AA0C-33AEA14E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A2DE9-FEA3-4F10-A9D1-61733BC8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C9BA-4D57-404B-A489-8C3A016C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45107-1FA1-4685-AAEE-64FD8BF8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60C26-7A70-44F5-BDC9-8D65A6C7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192E9-30D0-43E4-B4F6-25B6BEFC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3160B-9A26-4B68-876D-EACEBF4B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F2D-BC97-4A54-8717-E81C10F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00B9B-6D9E-429F-9BB9-FE2E0E17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6EBDE-43F7-439D-BBE0-5E45E9F6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6FF3F-8D28-4035-B045-E756A51C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83476-5F84-4EFC-A894-6063EED8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691B3-1122-4263-A76C-0DA00184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A786A-F481-446D-BC39-F4CD7887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44F5D-1445-4A3B-A6AC-EBBDA31C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2E9A8-CC55-4FD3-B3EC-9D3E71D6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022DE-E6CB-4F6C-B84A-8BDEF1C2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EDC27-CC08-44F7-8351-A654376E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6849-099A-4724-9226-C0A7D0AFB454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171F-99F6-4273-AF34-9A404701EEE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9E94-6E48-44BE-971E-6EFDA6FC4B1D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BF4C-61B2-43B3-956D-2A5BF0C22FD5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8946-DB91-4FA3-B454-70FA9E8DC064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719E-0D3F-4BB4-AB23-4E3C5A21531A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9ADA-B9DD-4BD5-8E5C-A56BE4F50090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9D6D-A156-4803-B673-77EB5B5AA21D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A2E6-8C95-47BB-A888-9C0541356CD3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File:Superbad_Poster.png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en.wikipedia.org/wiki/File:17again.jpg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en.wikipedia.org/wiki/File:Collegeposter08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popularbiographies.files.wordpress.com/2008/03/sexy-zac-efron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ages.fanpop.com/images/image_uploads/Hilary-Duff-hilary-duff-58649_800_600.jpg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buddytv.com/articles/Image/beauty-and-the-geek/ashton-kutcher-movie.jpg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actors.pick2web.com/pics/989575/jasonbiggs.jpg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3329"/>
                </a:solidFill>
                <a:latin typeface="Franklin Gothic Book"/>
              </a:rPr>
              <a:t>Tobi Bell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eenage romantic comedies is a film genre specifically targeted at teenagers and young adul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Generally the narratives are based on the interests of teenagers, such as puberty, first love,  conflict with parents etc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Films in this genre are often set in colleges or universities or contain characters that are of around this ag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Sexual themes are usually common in this genre, as are nudity and basic forms of funnines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des and conventions of the teenage romantic comedies include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aves/clubb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liques/ social grou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osing virgin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lcoho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Pro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elationshi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geek/ ner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Joc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Popular stud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Misfit, or The Outcas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Average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New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heerleading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Sport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re are many other codes and conventions of teenage romantic film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se films are most often set in or around High School as this encourages for many different social cliques to be show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is is different in hybrid teen films, but for the classic romantic comedy teen film this is almost always the ca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ude, Where's My Car?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0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cket Scienc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harlie Bartlett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uperbad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(2007)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rillbit Taylor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ollege (2008)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le Models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ex Driv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Fired Up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17 Again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http://upload.wikimedia.org/wikipedia/en/8/8b/Superbad_Poster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35680" y="1301760"/>
            <a:ext cx="1673280" cy="24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http://upload.wikimedia.org/wikipedia/en/thumb/e/e1/17again.jpg/200px-17agai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3857760"/>
            <a:ext cx="1571760" cy="2333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://upload.wikimedia.org/wikipedia/en/thumb/9/98/Collegeposter08.jpg/200px-Collegeposter08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27120"/>
            <a:ext cx="1619280" cy="242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indsay Loha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Drake Bel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Hilary Duf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Vanessa Hudge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rbin ble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Zac Efr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Jason Bigg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shton Kutch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643280"/>
            <a:ext cx="1109520" cy="752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3840" y="2357280"/>
            <a:ext cx="1071360" cy="83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43760" y="5867280"/>
            <a:ext cx="1197000" cy="99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3680" y="4643280"/>
            <a:ext cx="1198440" cy="7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0" descr="See full size image"/>
          <p:cNvPicPr/>
          <p:nvPr/>
        </p:nvPicPr>
        <p:blipFill>
          <a:blip r:embed="rId10"/>
          <a:stretch/>
        </p:blipFill>
        <p:spPr>
          <a:xfrm>
            <a:off x="5857920" y="12142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See full size image"/>
          <p:cNvPicPr/>
          <p:nvPr/>
        </p:nvPicPr>
        <p:blipFill>
          <a:blip r:embed="rId11"/>
          <a:stretch/>
        </p:blipFill>
        <p:spPr>
          <a:xfrm>
            <a:off x="4929120" y="2428920"/>
            <a:ext cx="928800" cy="857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See full size image"/>
          <p:cNvPicPr/>
          <p:nvPr/>
        </p:nvPicPr>
        <p:blipFill>
          <a:blip r:embed="rId12"/>
          <a:stretch/>
        </p:blipFill>
        <p:spPr>
          <a:xfrm>
            <a:off x="4857840" y="3429000"/>
            <a:ext cx="1143000" cy="941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See full size image"/>
          <p:cNvPicPr/>
          <p:nvPr/>
        </p:nvPicPr>
        <p:blipFill>
          <a:blip r:embed="rId13"/>
          <a:stretch/>
        </p:blipFill>
        <p:spPr>
          <a:xfrm>
            <a:off x="7215120" y="3357720"/>
            <a:ext cx="1077840" cy="857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12:45Z</dcterms:created>
  <dc:creator>Tobi</dc:creator>
  <dc:description/>
  <dc:language>en-US</dc:language>
  <cp:lastModifiedBy>Tobi</cp:lastModifiedBy>
  <dcterms:modified xsi:type="dcterms:W3CDTF">2009-11-22T17:18:35Z</dcterms:modified>
  <cp:revision>7</cp:revision>
  <dc:subject/>
  <dc:title>Teenage Romantic Comedies</dc:title>
</cp:coreProperties>
</file>