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7EA-CD87-4D13-881E-1BE3502B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600-6272-44BA-B809-4760E988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992FE-5B7E-4874-B759-A1BF14C8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5B5F7-FB39-4EAA-83D7-45716753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AC655-2B00-4D7D-8875-0699CB3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179A7-45E2-4055-B66F-92210408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61890-4C1E-45B3-9D44-410A7A9A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6DCAC-17D2-4D56-839F-D5DD0A1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EF95-3514-4E00-8408-2CF44A2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E105E-43A2-4421-A759-1BCBF438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61C54-79DE-4C76-A012-213C9D02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14B-3FAF-4F15-A863-413483B3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B89-8E28-4FA3-AD3F-006BEA8E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7497-964E-45BC-8024-2B0A48DE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5271-0F0E-4D2C-A606-D66B0571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2450-3047-4875-9228-4D67BA2C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D76-C956-493A-82F6-B4A9A10F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0950-26E9-4FC0-A97C-78D7F676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4DCC-B888-401F-81DD-62F912AF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C629-3AA9-4AA8-83A1-38C77D3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881-499E-4CC9-B916-56DED262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BAF2-6D46-4C84-ABA6-6BC3974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60F5-F6AF-429B-A03A-4AE0BC0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38F2-B14D-4C41-A49B-9B50F0A9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A78-5129-4AC5-B06B-FBAFEB1C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360F-3855-407E-9B52-3BB474C8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8279-5258-4877-9522-7F14971A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BABE-16D0-46F4-B59E-C4988AB3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8F51-10E2-4AE8-B255-B75EE102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2CE0-8694-4FDB-9CA7-155C8668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4E2B-5422-4F35-B7C4-11AFBF0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0E4-9C43-4A42-813B-888598C4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7AE2-8075-42A3-A9A2-BBACC6D4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0992F-CF6F-46EF-A7C2-FB11F82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6B6C-BDA6-4473-8690-26445A3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8BF9-65C7-48D3-B9F6-7AC46F9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6071-E78C-4827-B042-D1FAF76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77AB-11E0-4E17-9F2C-AD7CE076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D4BC-0402-4101-B17B-33F024A7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04A7-5858-4CE6-BC1C-956C07DF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B2B6-071A-4523-A18E-5399022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ECEE-39E8-4F9F-8A58-1E14FFFF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A45-1645-4B6B-A0AC-EA909AEC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8287-91BC-44E4-BBEC-B9F60A5C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F207-3A26-4593-AD1A-2865A3CA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7523-7F4C-4CC6-B864-26DD8B60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C3BA-B34C-4531-968C-D95F7E2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85887-2647-4153-9789-707D75D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EDDC-D6C8-4BE6-BA54-B4DCE2E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0B02-6C14-410B-B1E5-CABF54A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D5FC-639B-4B42-9428-ED19C6B9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03AC-C596-425B-9510-23A654D1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C1739-CC5C-4ACB-B6FB-030784F7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2DB-5DB7-4652-B1AE-44DC48A4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EB5CB-AACA-402C-8529-A9B0D7B8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2419-18BE-472A-81BB-18DCCB8D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6247-3A48-41BF-8ACC-0FD956A5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4EA3-FFE3-4AC0-86B0-87181F0E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CADDF-00ED-41DA-ACF2-616299C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9A360-05E6-45F1-BDD0-EF4FE61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CFD7C-BAB9-4FFE-A936-5CDA7E3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0BA0-C5A3-490A-81DA-5826C02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F9F38-9F86-498D-A0CB-4FC4B65F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1FCE-2AD3-465E-AED3-C7BDCEDD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5C7-AEDA-48BE-9499-D0BC1BEC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433A-45D7-4024-998B-48673D1B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243B-033D-4335-B7CC-EC4CEB67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001B8-38B6-4C2B-8B3D-6912E5D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253AB-E3EF-4401-A1FF-952582A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EDCD-B5EB-439B-843B-4E0E4905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A6430-6958-4143-A5CD-8C66DC79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B5DC9-BA83-49AA-B773-0A7881D6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3136-4B79-4328-A07C-A65A1A3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9D850-ADA5-4BB7-A096-240EB180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823DE-BB68-4B17-8D4E-E35445F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432-F537-4461-96D0-5A12F67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2B835-74F8-4E69-AC94-11D8629A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A6A3E-AE69-4FE4-BD7E-C9E98D35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51DD-A561-4946-8989-B9480FB8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BC7B6-7994-4E7D-8595-5D29D9D9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AAAB-4D69-4564-809D-8EB14C1E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D4891-7BB1-44EA-B158-D40F3B1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58A9A-25B8-487A-A253-16E150C1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42D22-C334-47AA-971D-FFD622E4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F2A1-3474-4805-942C-5276F58C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37948-1D50-4D66-ABC3-CA0950CD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372-1393-4828-8382-39CBD7D1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6B841-CF70-4789-B9CE-96CFC25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64F9D-E225-423B-B9B2-57DB90D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EE411-FB9C-4E67-B942-B447CF9D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FF470-49E4-4118-98DF-589B64D8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8469-9608-4916-9EC3-D127DB98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DE15F-5B31-4B20-91C0-40181277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30C73-D211-4EB0-AF51-98B1D744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8B93E-7B86-4DA9-A4DC-4C59D075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895F-904F-4B48-95EA-371644CA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3672B-AF18-47D5-BCD4-D1B11B7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AF0-ABB9-4799-B3FB-ECCD524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7F685-CC07-48C2-83CC-5300CF2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013F-3DEC-4239-92BC-932489A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BA6ED-6AD0-4DCD-B18C-1581A01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88629-BD3D-48D8-868F-AE834293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728BD-8F48-422D-98C6-09AE4560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6F354-8ACC-4785-A211-72734914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EB96-FE9B-4E9D-9968-71211A95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509FF-6659-4141-A9FA-74194E05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E6E2F-03EF-4764-8A3D-440A14E4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EF004-B5A0-483D-B067-F08ADAC2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E610-4064-46E8-B018-B99AD2B02911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06B-92FE-43AB-B12C-CECB246238B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250A-E3B7-43A8-8C22-3FDC9CDDBE04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E37A-6F35-4093-9533-9246D02D603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6853-193B-423B-83DF-E8C7A4CA5CC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77DB-CD0F-489B-9333-EC258712DBF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85C0-AC2C-4906-ADB5-EC8EBD14578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201-B39B-4433-A826-6212B8F98A0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EF58-5117-46CD-BDB0-74ABF860D2D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File:Superbad_Poster.png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en.wikipedia.org/wiki/File:17agai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en.wikipedia.org/wiki/File:Collegeposter08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popularbiographies.files.wordpress.com/2008/03/sexy-zac-efr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fanpop.com/images/image_uploads/Hilary-Duff-hilary-duff-58649_800_600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buddytv.com/articles/Image/beauty-and-the-geek/ashton-kutcher-movie.jpg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actors.pick2web.com/pics/989575/jasonbiggs.jpg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3329"/>
                </a:solidFill>
                <a:latin typeface="Franklin Gothic Book"/>
              </a:rPr>
              <a:t>Tobi Bell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enage romantic comedies is a film genre specifically targeted at teenagers and young adul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enerally the narratives are based on the interests of teenagers, such as puberty, first love,  conflict with parents etc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ilms in this genre are often set in colleges or universities or contain characters that are of around this ag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exual themes are usually common in this genre, as are nudity and basic forms of funnine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des and conventions of the teenage romantic comedies includ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aves/clubb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liques/ social grou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osing virgin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lcoh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Pro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geek/ ne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Joc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Popular stud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isfit, or The Outcas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Average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New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heerleading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Sport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re are many other codes and conventions of teenage romantic film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se films are most often set in or around High School as this encourages for many different social cliques to be show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is is different in hybrid teen films, but for the classic romantic comedy teen film this is almost always the c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ude, Where's My Car?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0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cket Scienc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harlie Bartlett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uperbad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(2007)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rillbit Taylor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ollege (2008)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le Models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ex Driv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Fired Up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17 Again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upload.wikimedia.org/wikipedia/en/8/8b/Superbad_Poster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5680" y="1301760"/>
            <a:ext cx="1673280" cy="24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upload.wikimedia.org/wikipedia/en/thumb/e/e1/17again.jpg/200px-17ag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3857760"/>
            <a:ext cx="1571760" cy="2333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upload.wikimedia.org/wikipedia/en/thumb/9/98/Collegeposter08.jpg/200px-Collegeposter0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27120"/>
            <a:ext cx="1619280" cy="242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indsay Loh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rake Bel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Hilary Duf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Vanessa Hudge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rbin ble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Zac Efr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Jason Bigg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shton Kutc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643280"/>
            <a:ext cx="1109520" cy="75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2357280"/>
            <a:ext cx="1071360" cy="83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43760" y="5867280"/>
            <a:ext cx="119700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3680" y="4643280"/>
            <a:ext cx="1198440" cy="7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See full size image"/>
          <p:cNvPicPr/>
          <p:nvPr/>
        </p:nvPicPr>
        <p:blipFill>
          <a:blip r:embed="rId10"/>
          <a:stretch/>
        </p:blipFill>
        <p:spPr>
          <a:xfrm>
            <a:off x="5857920" y="12142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See full size image"/>
          <p:cNvPicPr/>
          <p:nvPr/>
        </p:nvPicPr>
        <p:blipFill>
          <a:blip r:embed="rId11"/>
          <a:stretch/>
        </p:blipFill>
        <p:spPr>
          <a:xfrm>
            <a:off x="4929120" y="2428920"/>
            <a:ext cx="928800" cy="857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See full size image"/>
          <p:cNvPicPr/>
          <p:nvPr/>
        </p:nvPicPr>
        <p:blipFill>
          <a:blip r:embed="rId12"/>
          <a:stretch/>
        </p:blipFill>
        <p:spPr>
          <a:xfrm>
            <a:off x="4857840" y="342900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See full size image"/>
          <p:cNvPicPr/>
          <p:nvPr/>
        </p:nvPicPr>
        <p:blipFill>
          <a:blip r:embed="rId13"/>
          <a:stretch/>
        </p:blipFill>
        <p:spPr>
          <a:xfrm>
            <a:off x="7215120" y="3357720"/>
            <a:ext cx="107784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12:45Z</dcterms:created>
  <dc:creator>Tobi</dc:creator>
  <dc:description/>
  <dc:language>en-US</dc:language>
  <cp:lastModifiedBy>Tobi</cp:lastModifiedBy>
  <dcterms:modified xsi:type="dcterms:W3CDTF">2009-11-22T17:18:35Z</dcterms:modified>
  <cp:revision>7</cp:revision>
  <dc:subject/>
  <dc:title>Teenage Romantic Comedies</dc:title>
</cp:coreProperties>
</file>