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54F9-F644-4069-A190-A5375843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993-BA70-405B-A075-1852A6B8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12D9-C691-458B-B822-A6799F53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48A-F20A-4293-BA98-149E227F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E76-D9C6-41F4-84C2-F478C431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42E-4F0C-4B8D-BE04-44F1FB33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DDF-E4EB-4BA5-A40E-4B9D3C84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A28-9776-4F8C-8710-0C183D68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408-5CF5-49EB-899B-FEACF9FC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988-B1BB-4E92-A497-3141FED2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57A-E2F7-4EDF-BB1C-89C72E23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6CD-27B2-43D2-9FE6-F119F140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44C2-1AA4-4ED2-90A0-51D7E466248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Poster and Magazine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obi Be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Pos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rcRect l="37148" t="21752" r="38465" b="17830"/>
          <a:stretch/>
        </p:blipFill>
        <p:spPr>
          <a:xfrm>
            <a:off x="2571840" y="1571760"/>
            <a:ext cx="3929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Magaz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36691" t="15999" r="38036" b="12736"/>
          <a:stretch/>
        </p:blipFill>
        <p:spPr>
          <a:xfrm>
            <a:off x="2428920" y="1285920"/>
            <a:ext cx="3929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09:50Z</dcterms:created>
  <dc:creator>BELLO</dc:creator>
  <dc:description/>
  <dc:language>en-US</dc:language>
  <cp:lastModifiedBy>BELLO</cp:lastModifiedBy>
  <dcterms:modified xsi:type="dcterms:W3CDTF">2009-12-16T14:58:34Z</dcterms:modified>
  <cp:revision>5</cp:revision>
  <dc:subject/>
  <dc:title>Film Poster and Magazine drafts</dc:title>
</cp:coreProperties>
</file>