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536D-8877-4470-8722-42D204AE8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0367-6EC1-451D-9409-52EB9775E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E41A-6615-4457-A7C8-21F452EA9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78DC-1D24-4FFB-984F-A309BE19D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6057-DBCE-4056-ACAB-18CCE79BC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4C70-2722-431E-8C6A-06AA4D9D8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1930-F67A-4D53-B1B3-4809CF8B0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AC8D-8385-4A51-86BB-B0AE6D2E2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1A56-965C-4B54-844F-AA29E4209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5ACC-4509-4DC2-ACE9-CACF07C07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0659-A8B3-4D56-B023-10E44C877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C7A2-4CB0-4AEA-AA28-71EE151AB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49A4D-F6B7-412D-8763-DE37E1C4BD7F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lm Poster and Magazine draf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Tobi Bell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lm Poster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3" descr=""/>
          <p:cNvPicPr/>
          <p:nvPr/>
        </p:nvPicPr>
        <p:blipFill>
          <a:blip r:embed="rId1"/>
          <a:srcRect l="37148" t="21752" r="38465" b="17830"/>
          <a:stretch/>
        </p:blipFill>
        <p:spPr>
          <a:xfrm>
            <a:off x="2571840" y="1571760"/>
            <a:ext cx="392904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lm Magaz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rcRect l="36691" t="15999" r="38036" b="12736"/>
          <a:stretch/>
        </p:blipFill>
        <p:spPr>
          <a:xfrm>
            <a:off x="2428920" y="1285920"/>
            <a:ext cx="392904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6T14:09:50Z</dcterms:created>
  <dc:creator>BELLO</dc:creator>
  <dc:description/>
  <dc:language>en-US</dc:language>
  <cp:lastModifiedBy>BELLO</cp:lastModifiedBy>
  <dcterms:modified xsi:type="dcterms:W3CDTF">2009-12-16T14:58:34Z</dcterms:modified>
  <cp:revision>5</cp:revision>
  <dc:subject/>
  <dc:title>Film Poster and Magazine drafts</dc:title>
</cp:coreProperties>
</file>