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A075-BBE9-4DC1-A783-2F3CE5BAC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9E07-FC1E-4C37-9A1E-402B2938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999C-69AE-48A6-AB4A-CE43EBCC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07E5-C4BF-45BE-A86D-70F50C4D2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825C-22EB-4839-ADA8-0F0DCE86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2AC5-4169-4942-9690-34884D31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AF0C-2DFC-4187-B068-028BB35B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0675-193E-4757-A86E-6DE570FA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665F-73CC-4193-BE01-61857CD6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AEBE-CD64-4DF7-89CB-5AB840DE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33D6-0F7B-42CB-871A-CC6225FF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99D7-2B36-4149-A5E9-935F7734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7851-39B9-4013-BFFD-C00CF964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47CB-2853-4C90-BE5D-A33F658B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80A9-850F-4B47-805A-EE45DC06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8C63-61A0-4F4B-B197-183FB50BE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73A2-3E6F-49C5-89DE-2421D33AB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0BF20-5A3C-4012-9B50-81FB3856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1C8FD-DDAF-44B0-ACF6-0247BD4E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89AB2-1BB6-4D13-9D38-1ACDFE9C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3C868-41E6-4FA6-AC41-D651FEAD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6BC8A-EAFF-4643-9D4F-6ED358BE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A053-24A9-42CE-B2ED-BA590164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B4BEC-D050-4B90-9AAF-6A88607D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EE471-1FB2-4505-B97F-2270FE83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84C0F-DF0F-4389-824C-B2F041A6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2436C-CFAE-491E-B289-301ADB3D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A799D-1B3A-4F47-9460-8519E70E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71555-DEFE-4842-9373-DEC483C8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1E6D4-3550-4A00-A18C-AD54519CD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D1AE4-B179-4AC0-803A-D9756697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50DC4-0AC1-480D-80D1-2ACC3469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C81B4-61B1-466A-853B-6485B5CF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ADE8-676F-4E40-9475-362FBB49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7E38D-42E3-4A2E-B5D6-36F8B397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91386-39B2-4F92-90AB-8BE35A5F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6A32E-3CFD-4145-B192-36236E8F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21E4B-DE6B-47EF-B718-23E5C9F3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73BBD-70FE-4EF8-98DF-19D594C5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8533C-7465-423C-920B-0034F4D3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28921-C4A3-4283-A2B4-C82452CC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F105F-5847-4527-BD4F-1B308E57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A3F1F-8AF5-4BCA-A796-949E5754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F9CF4-EC52-4028-8DFF-BB529CBA8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BD30-FEB7-43DE-A2E6-15CEE4C4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4D5A5-A858-4B68-ADE3-9A66D767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7D2EE-5AAD-45E0-8472-02FC6F34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32EBE-EF5A-46B2-88E0-9F9621D0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12023-1B2E-41AC-B64C-C8266927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2551F-6151-4818-A039-5C74A6C2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AFA8F-6F8E-4BF5-80EE-459D88F0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2E063-5B54-4BA7-8C11-4B5EE544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A35B6-6F88-4D08-86A0-5B5085D9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89166-2D86-4D02-AFE6-BA0946D6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17C60-8153-4ED9-87EA-4681B9DC5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433C-617A-482A-BFBE-5BD0802C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A277F-B720-413B-A40D-83D38220B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68351-B728-4706-9ED9-9C932705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FDC09-88C5-413C-9579-AC5E7CB6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9B440-7C14-46D7-98F9-AD16B5D2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7D9F8-5F83-4B7F-8645-F6D3328A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E0622-62E3-4E70-9635-3CB227DF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B7C21-3FD4-46A4-9D9A-46615411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1C983-1ADD-47D5-976F-0AF837A1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619F4-A1E3-4A6A-9A40-C5AEEE39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D9D12-DCEB-43DC-A815-E8B1ED79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8C89-5C97-455E-895A-B5802B06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46AE9-1922-4A9C-ABD4-9EE60BBE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6649A-31C7-411C-88FB-8BCA19FBE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E199C-F289-4D96-B2A1-3E1CC0EA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4C26C-8F51-40C4-B953-1F984A2A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62654-B6BB-4A3E-8D9C-33F58908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45E6F-DE1B-42C9-8054-98E5B38C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D6520-BD5C-4077-8A51-1C5B28F8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70675-403B-4410-A45D-EE44294D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5FD89-4C74-483E-90D6-3810E27C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D146C-0D5D-4C87-AE90-82A7EA6D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6583-144D-4B21-8925-AAE78531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F4B36-EBD6-4CF3-9762-B7740ACC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91850-86BE-4148-9E31-931DF21A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F9FF1-DEC1-4D0C-B64F-F11C6D29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C64DC-8F25-4E7F-A8D6-B83A3E137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95CA2-DC10-4983-BEB9-1C11ABA7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6972-E145-430B-8C39-AC8E4213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6C51-5596-471F-8CD4-F2FCD2728B9D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27DE-AF6A-4447-A19B-C23C063FD003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0A17-780B-4921-9BA8-2E5992E4ECD0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0A5D-4F74-4C0A-BB17-3A6980202D87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035A-55DB-4A00-A92D-5EC8E8B920BA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BF4E-26B2-4478-9149-AA0494E0B529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EBDA-7A44-4F40-AFDC-5D69A50F95DE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Film Poster Draf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20e04"/>
                </a:solidFill>
                <a:latin typeface="Gill Sans MT"/>
              </a:rPr>
              <a:t>Tobi Bell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rcRect l="37068" t="21422" r="38169" b="17584"/>
          <a:stretch/>
        </p:blipFill>
        <p:spPr>
          <a:xfrm>
            <a:off x="3714840" y="1714680"/>
            <a:ext cx="34430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rcRect l="37068" t="21422" r="38169" b="17584"/>
          <a:stretch/>
        </p:blipFill>
        <p:spPr>
          <a:xfrm>
            <a:off x="3929040" y="1714680"/>
            <a:ext cx="350064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rcRect l="37151" t="21284" r="38083" b="18676"/>
          <a:stretch/>
        </p:blipFill>
        <p:spPr>
          <a:xfrm>
            <a:off x="3643200" y="1643040"/>
            <a:ext cx="35719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rcRect l="37068" t="21422" r="38169" b="17584"/>
          <a:stretch/>
        </p:blipFill>
        <p:spPr>
          <a:xfrm>
            <a:off x="3571920" y="1714680"/>
            <a:ext cx="364320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rcRect l="37068" t="21422" r="38169" b="17584"/>
          <a:stretch/>
        </p:blipFill>
        <p:spPr>
          <a:xfrm>
            <a:off x="3714840" y="1500120"/>
            <a:ext cx="314316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23:37:35Z</dcterms:created>
  <dc:creator>Tobi</dc:creator>
  <dc:description/>
  <dc:language>en-US</dc:language>
  <cp:lastModifiedBy>Tobi</cp:lastModifiedBy>
  <dcterms:modified xsi:type="dcterms:W3CDTF">2009-12-17T23:57:56Z</dcterms:modified>
  <cp:revision>2</cp:revision>
  <dc:subject/>
  <dc:title>Film Poster Drafts</dc:title>
</cp:coreProperties>
</file>