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F6C-E41B-4287-AC63-027E549F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DE3-2757-491A-955C-56883F7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A8B-3258-4448-A126-08F6EF1F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48C-EB96-4EFA-9711-D7278AEE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CFEF-74C3-414C-B60E-A3CF039F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3455-17ED-4D92-AA8B-4E5B869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591F-AEB5-4F20-B788-E38B175A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7AE8-558E-44AE-AB20-764727B0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770-BC08-4C5E-B124-52F2BFB0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9DDC-5C20-4048-BE92-DFAA529D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4FA6-2563-4E21-91BF-F0EAA6A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2CB-9620-4391-BE61-2D8C2BB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174-3BDE-4A95-ADE3-DE4BD96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63EF-A15A-4F6D-BDDC-1557F0D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581A-FA7C-4984-BB90-E02938C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45B9-EC47-4EDA-B874-852BF218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76C0-00FC-45A8-B8AC-CAAA4452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251D-4447-4CFF-A42F-57FAAA07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3831-0F9E-47F5-B6ED-972CA28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F961-0DCC-4748-92BD-D2FE3A0C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A70D-4F12-471B-92D5-6638FF2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3C7A-71F9-4536-A608-800143B1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C92-A357-48AF-8FFD-4FD7EB31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6627-993B-416A-944C-3C0B1BA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0B49-1CC1-4DDF-BF92-9378487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3DE3-202C-48A6-8711-07E8BFD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DEBF-1DB5-4E67-A35C-E0B2C272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346F-6B03-48F7-A674-9E484D66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D53A-289B-48D6-A6BC-20CCD331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1B24-2B92-4EA7-AF37-589CB397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520A-0649-4D9C-9C32-BCE1A4E7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D66F-8342-4459-BD90-C296B33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3425-2CE0-4413-B2E3-4C355DDE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436-A1B8-4520-A35A-07CB2389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94AE-27F4-4299-85A2-5C47BBF5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8E69-A71A-4F40-99E4-3E915CD8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7E7B-410A-49F2-B207-AEF278C7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D744-2516-4BCB-A593-E8B2AB7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46D9-41AF-4F6F-B16D-0E6165A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5468-9AB7-4BCA-B051-6FF0206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78D5-6139-4C4A-9967-9C3AEA7E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FBBB-B34A-4C9F-A9A1-B727A079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7E92-FE47-4C0F-94CB-24EE7124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64B5-A414-4ED8-BFB4-889F219B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C27-6C8B-490A-B37E-5FB2797E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5724-2600-4159-8959-24A56BE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592D-99B2-4837-A4B2-606CD9C4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B2BB-7903-405A-AFA3-48162D3C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6719-A65F-48B7-A961-F077A2D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3A85-6C0E-4BBA-8734-2D7A52A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AD93-F295-4D96-BC75-0ACF2DE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9E96-BF1E-4E59-B66C-CDA40AD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D7B1-7670-48E7-8EA8-84DD911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5E71-E6A7-47CD-B041-BD36A733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919C-B3C9-4998-B0A6-111760D4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144-14F9-4E08-A9C6-FF2E4BD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2D9F0-394F-4C1A-B739-2A493A1F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6285-4C7A-4C95-A37D-9CCB2607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0D1D-0CC2-45C3-90E9-8D85FCE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1190B-0628-42FE-B5AC-C0D9EB50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3903-2598-4D1B-A64B-FA14B810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AFA47-8F2C-41F0-A2D0-23169E1C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D546-BA9F-48A1-95DC-4BDB3945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A23FD-5E0C-43F6-B487-0F6F7B2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B376-EE83-425A-8E65-E3EDBA1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9CB6-2C15-4057-B093-3BF902DA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C91-D236-44D7-8323-CC0A1C53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BC9F-E1B5-4BF4-8C99-240824F4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2FA8-53E6-4E9E-8F6E-CC89CB28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0290-B5B3-4263-A5A7-3B6A5FA8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C8DA-8A4F-43DC-B0B2-7B318F7D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02548-73CC-4511-AD3C-4F745419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AF15-1C56-4785-AFE3-F712CB2F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D2B0-8088-4172-9578-4A2B612F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D74E5-2314-4EE2-B5A5-BF3DD60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A4AF-4A26-4066-BBD3-2C68E9B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549E-1865-4DA8-84D1-BA99ADC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7AA-9351-4C59-B7FC-E4E6647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E303-1F05-43E2-A2F0-E4CF871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00DB-CAD2-457D-BCBF-1749757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A8A73-18C9-45CD-897E-FAF5D31C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CDAB-2FE9-4FF3-8503-3311B8DD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7186-46B2-448F-91E9-F5717B86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EBB-C0DF-40CF-A36D-76075F0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5DB7-BA58-4EC2-A2C6-B48C39FB3CC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68DA-11FB-4933-B54D-F6A7E90DD42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08A-1C47-40BB-BAD4-151795D2C6A7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8CC-F139-4B68-AC22-6CABFAEDB167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6E4A-5C5D-4135-9A1B-CCCCE8851317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DBC-D912-4C7B-B47B-B1D2A77DEB4A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EB9-4F20-4855-A935-0AF6F3F5B869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Film Poster Draf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Tobi Bel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714680"/>
            <a:ext cx="3443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929040" y="1714680"/>
            <a:ext cx="3500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37151" t="21284" r="38083" b="18676"/>
          <a:stretch/>
        </p:blipFill>
        <p:spPr>
          <a:xfrm>
            <a:off x="3643200" y="1643040"/>
            <a:ext cx="35719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571920" y="1714680"/>
            <a:ext cx="3643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500120"/>
            <a:ext cx="31431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3:37:35Z</dcterms:created>
  <dc:creator>Tobi</dc:creator>
  <dc:description/>
  <dc:language>en-US</dc:language>
  <cp:lastModifiedBy>Tobi</cp:lastModifiedBy>
  <dcterms:modified xsi:type="dcterms:W3CDTF">2009-12-17T23:57:56Z</dcterms:modified>
  <cp:revision>2</cp:revision>
  <dc:subject/>
  <dc:title>Film Poster Drafts</dc:title>
</cp:coreProperties>
</file>