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AFC3-9197-4C5A-AE66-A62C763AA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49B4-91AE-4BE3-B81C-E07520AA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C4CD-C3E8-4861-A6A9-25FBB1AA0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214A-8695-43EF-ACF6-6B8EC6C8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EF45-D6C0-4152-9EA1-4BA392FA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7EC8-5182-438E-8590-F0B02444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D001-6E2F-4568-B0E6-34B9043B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D30E-660F-4BAD-A70C-123035EB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ADA3-3BEA-4C57-A88C-BC789538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7B32-B249-48C4-B171-B6C28441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A82A-AF5D-42EC-8007-9491C611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55E4-BF51-4D4F-839E-E7255015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0274-A08B-468C-88CF-A1060EE95CC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lm Magazine Draf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obi Bel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raft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rcRect l="36691" t="16048" r="37577" b="12343"/>
          <a:stretch/>
        </p:blipFill>
        <p:spPr>
          <a:xfrm>
            <a:off x="2571840" y="1214280"/>
            <a:ext cx="3714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raf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rcRect l="36691" t="15999" r="38036" b="12736"/>
          <a:stretch/>
        </p:blipFill>
        <p:spPr>
          <a:xfrm>
            <a:off x="2714760" y="1428840"/>
            <a:ext cx="36147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raft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rcRect l="36691" t="16048" r="37577" b="12343"/>
          <a:stretch/>
        </p:blipFill>
        <p:spPr>
          <a:xfrm>
            <a:off x="2786040" y="1143000"/>
            <a:ext cx="3714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21:19:52Z</dcterms:created>
  <dc:creator>Tobi</dc:creator>
  <dc:description/>
  <dc:language>en-US</dc:language>
  <cp:lastModifiedBy>Tobi</cp:lastModifiedBy>
  <dcterms:modified xsi:type="dcterms:W3CDTF">2009-12-17T22:40:08Z</dcterms:modified>
  <cp:revision>8</cp:revision>
  <dc:subject/>
  <dc:title>Film Magazine Drafts</dc:title>
</cp:coreProperties>
</file>