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67DB-0525-49F0-9D91-CE0BDEF8F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25A0-5225-421A-AB8E-C967395A3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AE28-8AF8-4E01-8E2C-A8B8B96AC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4E88-7D14-4060-825D-6526BC95A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ACC1-B883-4F12-BBEA-2EF27A7CA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19D7-11A8-4BF7-B581-BE1126D3D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87AA-7E03-4F91-84D1-862DA8F69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9A39-5026-4501-BCE6-1F4C51C98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CAE2-B96A-4878-8859-A58FE7B64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F5BA-57C1-456D-8F5A-DF1027D0A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31FF-2478-4532-946E-143867B6A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0EA7-4947-46E7-A319-B92B33097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A1D26-0C12-4481-B19F-03BE7A7C0330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lm Magazine Draf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Tobi Bell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draft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1"/>
          <a:srcRect l="36691" t="16048" r="37577" b="12343"/>
          <a:stretch/>
        </p:blipFill>
        <p:spPr>
          <a:xfrm>
            <a:off x="2571840" y="1214280"/>
            <a:ext cx="371484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draf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rcRect l="36691" t="15999" r="38036" b="12736"/>
          <a:stretch/>
        </p:blipFill>
        <p:spPr>
          <a:xfrm>
            <a:off x="2714760" y="1428840"/>
            <a:ext cx="361476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draft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rcRect l="36691" t="16048" r="37577" b="12343"/>
          <a:stretch/>
        </p:blipFill>
        <p:spPr>
          <a:xfrm>
            <a:off x="2786040" y="1143000"/>
            <a:ext cx="371484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7T21:19:52Z</dcterms:created>
  <dc:creator>Tobi</dc:creator>
  <dc:description/>
  <dc:language>en-US</dc:language>
  <cp:lastModifiedBy>Tobi</cp:lastModifiedBy>
  <dcterms:modified xsi:type="dcterms:W3CDTF">2009-12-17T22:40:08Z</dcterms:modified>
  <cp:revision>8</cp:revision>
  <dc:subject/>
  <dc:title>Film Magazine Drafts</dc:title>
</cp:coreProperties>
</file>