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3C8-3207-4663-943B-C040F7C4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DCE-B070-4131-83D3-6D47E722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3FF-F171-411C-804B-0C2A993D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479-F702-4DB2-8FF7-708DBB0F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4EE-6A42-47B6-9101-925720F8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0C6-7D99-49AB-AED4-3ED20DAC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24C8-C7DF-470A-BF3D-AD7C2517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DD6-79C7-4DCB-B554-4A1079A2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8DF-6D32-4B93-98D9-DFE41468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5C8-7A27-4547-BBAE-BB031406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05E-BEEC-4DBA-BB94-7C1F3D0E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C52-2BBA-4614-B521-BF7CA7BD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9EF3-7C40-449E-BD84-638776557F1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57120" y="1428840"/>
            <a:ext cx="878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alibri"/>
              </a:rPr>
              <a:t>Research into director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55600" y="235728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c000"/>
                </a:solidFill>
                <a:latin typeface="Calibri"/>
              </a:rPr>
              <a:t>Horror (stalker</a:t>
            </a:r>
            <a:r>
              <a:rPr b="0" i="1" lang="en-GB" sz="18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1" i="1" lang="en-GB" sz="1800" spc="-1" strike="noStrike">
                <a:solidFill>
                  <a:srgbClr val="ffc000"/>
                </a:solidFill>
                <a:latin typeface="Calibri"/>
              </a:rPr>
              <a:t>slasher) gen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429240" y="264312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By Sylvia R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newfrontier.com/asheville/movie-director.jpg"/>
          <p:cNvPicPr/>
          <p:nvPr/>
        </p:nvPicPr>
        <p:blipFill>
          <a:blip r:embed="rId1"/>
          <a:stretch/>
        </p:blipFill>
        <p:spPr>
          <a:xfrm>
            <a:off x="1316160" y="2139840"/>
            <a:ext cx="3762360" cy="453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static.howstuffworks.com/gif/movie-director-6.jpg"/>
          <p:cNvPicPr/>
          <p:nvPr/>
        </p:nvPicPr>
        <p:blipFill>
          <a:blip r:embed="rId2"/>
          <a:stretch/>
        </p:blipFill>
        <p:spPr>
          <a:xfrm>
            <a:off x="3681360" y="2419200"/>
            <a:ext cx="3822840" cy="2549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adyadrian.files.wordpress.com/2009/02/movie_director.jpg"/>
          <p:cNvPicPr/>
          <p:nvPr/>
        </p:nvPicPr>
        <p:blipFill>
          <a:blip r:embed="rId3"/>
          <a:stretch/>
        </p:blipFill>
        <p:spPr>
          <a:xfrm>
            <a:off x="3382920" y="3780000"/>
            <a:ext cx="398160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johneaves.files.wordpress.com/2010/01/johncarpenter1.jpg"/>
          <p:cNvPicPr/>
          <p:nvPr/>
        </p:nvPicPr>
        <p:blipFill>
          <a:blip r:embed="rId1"/>
          <a:stretch/>
        </p:blipFill>
        <p:spPr>
          <a:xfrm>
            <a:off x="1177920" y="928800"/>
            <a:ext cx="3394080" cy="4500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214280" y="5500800"/>
            <a:ext cx="335772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John Carpe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786200" y="905040"/>
            <a:ext cx="392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 American film director, producer, actor, screenwriter, composer commonly associated with horror and science fiction mov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gan filming horror shorts on 8 mm film even before entering high schoo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s films are characterized by minimalist lighting and photography, static cameras, use of steadicam, and distinctive synthesized scores -usually self-compos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e of his most successful horror movies is Halloween (197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upload.wikimedia.org/wikipedia/en/8/87/Halloween_cover.jpg"/>
          <p:cNvPicPr/>
          <p:nvPr/>
        </p:nvPicPr>
        <p:blipFill>
          <a:blip r:embed="rId1"/>
          <a:stretch/>
        </p:blipFill>
        <p:spPr>
          <a:xfrm>
            <a:off x="2643120" y="285840"/>
            <a:ext cx="1471680" cy="2232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57120" y="2556000"/>
            <a:ext cx="5643720" cy="3981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ffffff"/>
                </a:solidFill>
                <a:latin typeface="Calibri"/>
              </a:rPr>
              <a:t>Halloween (1978)</a:t>
            </a: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 is an American independent horror film directed by John Carpenter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It was a smash hit on release and helped give birth to the </a:t>
            </a:r>
            <a:r>
              <a:rPr b="0" i="1" lang="en-GB" sz="1700" spc="-1" strike="noStrike">
                <a:solidFill>
                  <a:srgbClr val="ffffff"/>
                </a:solidFill>
                <a:latin typeface="Calibri"/>
              </a:rPr>
              <a:t>slasher film genr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Was produced on a budget of $320,000 and grossed $60 million at the box office in the United States becoming one of the most profitable independent film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Carpenter relied upon taut suspense rather than the excessive gore that would define later slasher film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Carpenter's self-composed "Halloween Theme" remains a recognizable film music theme to this day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rcRect l="20834" t="30940" r="47267" b="34686"/>
          <a:stretch/>
        </p:blipFill>
        <p:spPr>
          <a:xfrm>
            <a:off x="6215040" y="928800"/>
            <a:ext cx="2502000" cy="168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rcRect l="25783" t="32815" r="52541" b="15623"/>
          <a:stretch/>
        </p:blipFill>
        <p:spPr>
          <a:xfrm>
            <a:off x="6215040" y="2786040"/>
            <a:ext cx="25002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rcRect l="25783" t="32815" r="53713" b="16564"/>
          <a:stretch/>
        </p:blipFill>
        <p:spPr>
          <a:xfrm>
            <a:off x="6215040" y="4714920"/>
            <a:ext cx="2502000" cy="16430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6143760" y="785880"/>
            <a:ext cx="2643120" cy="57862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0" y="24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Calibri"/>
              </a:rPr>
              <a:t>Other horror movies directed by John Carpe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John Carpenter's Ghosts of Mars Poster"/>
          <p:cNvPicPr/>
          <p:nvPr/>
        </p:nvPicPr>
        <p:blipFill>
          <a:blip r:embed="rId1"/>
          <a:stretch/>
        </p:blipFill>
        <p:spPr>
          <a:xfrm>
            <a:off x="1101600" y="1928880"/>
            <a:ext cx="2113200" cy="3143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1000080" y="514044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hosts Of Ma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200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28800" y="1785960"/>
            <a:ext cx="7429320" cy="41432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The Fog"/>
          <p:cNvPicPr/>
          <p:nvPr/>
        </p:nvPicPr>
        <p:blipFill>
          <a:blip r:embed="rId2"/>
          <a:stretch/>
        </p:blipFill>
        <p:spPr>
          <a:xfrm>
            <a:off x="3500280" y="1928880"/>
            <a:ext cx="2214720" cy="3214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3357720" y="514368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Fo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19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http://www.wrongsideoftheart.com/wp-content/gallery/posters-t/thing_poster_01.jpg"/>
          <p:cNvPicPr/>
          <p:nvPr/>
        </p:nvPicPr>
        <p:blipFill>
          <a:blip r:embed="rId3"/>
          <a:srcRect l="6235" t="2775" r="4432" b="0"/>
          <a:stretch/>
        </p:blipFill>
        <p:spPr>
          <a:xfrm>
            <a:off x="5929200" y="1928880"/>
            <a:ext cx="2214720" cy="3214800"/>
          </a:xfrm>
          <a:prstGeom prst="rect">
            <a:avLst/>
          </a:prstGeom>
          <a:ln w="0">
            <a:noFill/>
          </a:ln>
        </p:spPr>
      </p:pic>
      <p:sp>
        <p:nvSpPr>
          <p:cNvPr id="67" name="TextBox 9"/>
          <p:cNvSpPr/>
          <p:nvPr/>
        </p:nvSpPr>
        <p:spPr>
          <a:xfrm>
            <a:off x="5786280" y="51436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in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198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yuddy.com/articleimages/wes%20cravenNzM4.jpg"/>
          <p:cNvPicPr/>
          <p:nvPr/>
        </p:nvPicPr>
        <p:blipFill>
          <a:blip r:embed="rId1"/>
          <a:stretch/>
        </p:blipFill>
        <p:spPr>
          <a:xfrm>
            <a:off x="1214280" y="1000080"/>
            <a:ext cx="3394080" cy="4400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214280" y="5500800"/>
            <a:ext cx="335772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Wes Crav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714920" y="1328760"/>
            <a:ext cx="37861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Is an American film director and writer that is best known as the creator of many horror film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roke into film as a sound editor for Sean Cunningham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is work tends to share a common exploration of the nature of reality, For example ‘A Nightmare On Elm Street’ dealt with the consequences of dreams in real life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imagecache2.allposters.com/images/19/SCREAMREPR.JPG"/>
          <p:cNvPicPr/>
          <p:nvPr/>
        </p:nvPicPr>
        <p:blipFill>
          <a:blip r:embed="rId1"/>
          <a:stretch/>
        </p:blipFill>
        <p:spPr>
          <a:xfrm>
            <a:off x="2500200" y="285840"/>
            <a:ext cx="1563840" cy="2268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285840" y="2571840"/>
            <a:ext cx="5786280" cy="39344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Scream’ (1996) is one of a series of horror movies directed by Wes Carven that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involves a psychopathic serial killer wearing a Halloween costume attempting to kill Sidney Prescott and various other characters involved in her lif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It revitalized the slasher film genre in the mid 1990s by using a standard concept with a tongue-in-cheek approach that successfully combined straightforward scares with dialogue that satirized slasher film conventions and was highly acclaimed by many critics worldwide, who appreciated the approach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Was a smash hit, earning over $100 million domestically and spawning two popular sequels, which Craven also dire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http://www.starz.com/titles/Scream/PublishingImages/scream_1996_685x385.jpg"/>
          <p:cNvPicPr/>
          <p:nvPr/>
        </p:nvPicPr>
        <p:blipFill>
          <a:blip r:embed="rId2"/>
          <a:srcRect l="8883" t="0" r="5716" b="0"/>
          <a:stretch/>
        </p:blipFill>
        <p:spPr>
          <a:xfrm>
            <a:off x="6215040" y="782640"/>
            <a:ext cx="2502000" cy="1646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mos.totalfilm.com/images/9/90-second-expert-slasher-flicks-05-429-75.jpg"/>
          <p:cNvPicPr/>
          <p:nvPr/>
        </p:nvPicPr>
        <p:blipFill>
          <a:blip r:embed="rId3"/>
          <a:stretch/>
        </p:blipFill>
        <p:spPr>
          <a:xfrm>
            <a:off x="6215040" y="2610000"/>
            <a:ext cx="2502000" cy="1819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www.unfilteredsmoke.com/wp-content/uploads/2009/10/scream1.jpg"/>
          <p:cNvPicPr/>
          <p:nvPr/>
        </p:nvPicPr>
        <p:blipFill>
          <a:blip r:embed="rId4"/>
          <a:srcRect l="6862" t="0" r="19969" b="0"/>
          <a:stretch/>
        </p:blipFill>
        <p:spPr>
          <a:xfrm>
            <a:off x="6215040" y="4667400"/>
            <a:ext cx="2502000" cy="17618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6143760" y="714240"/>
            <a:ext cx="2643120" cy="58579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0" y="24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Calibri"/>
              </a:rPr>
              <a:t>Other horror movies directed by Wes Carv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upload.wikimedia.org/wikipedia/en/thumb/7/7c/Hillshaveeyesposter.jpg/200px-Hillshaveeyesposter.jpg"/>
          <p:cNvPicPr/>
          <p:nvPr/>
        </p:nvPicPr>
        <p:blipFill>
          <a:blip r:embed="rId1"/>
          <a:stretch/>
        </p:blipFill>
        <p:spPr>
          <a:xfrm>
            <a:off x="1071720" y="1874880"/>
            <a:ext cx="2143080" cy="3268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1143000" y="5211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hills have eyes (197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Promotional photo of Freddy Krueger for A Nightmare on Elm Street 2: Freddy's Revenge"/>
          <p:cNvPicPr/>
          <p:nvPr/>
        </p:nvPicPr>
        <p:blipFill>
          <a:blip r:embed="rId2"/>
          <a:stretch/>
        </p:blipFill>
        <p:spPr>
          <a:xfrm>
            <a:off x="3500280" y="1909800"/>
            <a:ext cx="2214720" cy="3233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3500280" y="5140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nightmare on elm street (198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http://upload.wikimedia.org/wikipedia/en/thumb/d/dc/Vampire_in_brooklyn.jpg/200px-Vampire_in_brooklyn.jpg"/>
          <p:cNvPicPr/>
          <p:nvPr/>
        </p:nvPicPr>
        <p:blipFill>
          <a:blip r:embed="rId3"/>
          <a:stretch/>
        </p:blipFill>
        <p:spPr>
          <a:xfrm>
            <a:off x="6072120" y="1928880"/>
            <a:ext cx="2143080" cy="3182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6000840" y="5140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ampire in Brooklyn (199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28800" y="1785960"/>
            <a:ext cx="7429320" cy="41432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57168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alibri"/>
              </a:rPr>
              <a:t>Thank you for watching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6:22:31Z</dcterms:created>
  <dc:creator> </dc:creator>
  <dc:description/>
  <dc:language>en-US</dc:language>
  <cp:lastModifiedBy> </cp:lastModifiedBy>
  <dcterms:modified xsi:type="dcterms:W3CDTF">2010-03-20T19:27:53Z</dcterms:modified>
  <cp:revision>36</cp:revision>
  <dc:subject/>
  <dc:title>Slide 1</dc:title>
</cp:coreProperties>
</file>