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88C-9E77-4D15-AB12-4B50997B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107-CB7D-4B1D-9621-F98A1DA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311-9D02-47C8-8F5A-3A5DEFCF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667-52DE-48BD-BC5D-D607AC55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E75-EB05-4F9C-B45C-AE3E858E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90C-B39A-460B-973D-2544B965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235-4BA4-4223-97FD-A2054E6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73B-6599-43D5-9227-3E9FDD3A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8E6-2C9E-4D66-AFAE-C23EE6C7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D56-9818-400D-899B-ECD99EF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A8A-BE05-48D1-9790-5E1C1229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1A3-C768-4099-8103-0AC0D5C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DE1D-B759-4162-BC6A-3616E03ADC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9080" y="3571920"/>
            <a:ext cx="450072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ror poster draf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3360" y="3928680"/>
            <a:ext cx="28573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68400" y="2357280"/>
            <a:ext cx="76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The Absolu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oster Drafts\Draft 2.jpg"/>
          <p:cNvPicPr/>
          <p:nvPr/>
        </p:nvPicPr>
        <p:blipFill>
          <a:blip r:embed="rId1"/>
          <a:stretch/>
        </p:blipFill>
        <p:spPr>
          <a:xfrm>
            <a:off x="250020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Poster Drafts\Sylvia Rogo-Film Poster Draft 1 (The Absolution).jpg"/>
          <p:cNvPicPr/>
          <p:nvPr/>
        </p:nvPicPr>
        <p:blipFill>
          <a:blip r:embed="rId1"/>
          <a:stretch/>
        </p:blipFill>
        <p:spPr>
          <a:xfrm>
            <a:off x="2214720" y="214200"/>
            <a:ext cx="44798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Poster Drafts\Sylvia Rogo-Film Poster Draft 2 (The Absolution).jpg"/>
          <p:cNvPicPr/>
          <p:nvPr/>
        </p:nvPicPr>
        <p:blipFill>
          <a:blip r:embed="rId1"/>
          <a:stretch/>
        </p:blipFill>
        <p:spPr>
          <a:xfrm>
            <a:off x="2428920" y="142920"/>
            <a:ext cx="4632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oster Drafts\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Sylvia Rogo-film poster- 'THE ABSOLUTION' Final draft.jpg"/>
          <p:cNvPicPr/>
          <p:nvPr/>
        </p:nvPicPr>
        <p:blipFill>
          <a:blip r:embed="rId1"/>
          <a:stretch/>
        </p:blipFill>
        <p:spPr>
          <a:xfrm>
            <a:off x="2500200" y="142920"/>
            <a:ext cx="4632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0:58:49Z</dcterms:created>
  <dc:creator> </dc:creator>
  <dc:description/>
  <dc:language>en-US</dc:language>
  <cp:lastModifiedBy> </cp:lastModifiedBy>
  <dcterms:modified xsi:type="dcterms:W3CDTF">2010-04-25T21:08:29Z</dcterms:modified>
  <cp:revision>1</cp:revision>
  <dc:subject/>
  <dc:title>Horror poster drafts </dc:title>
</cp:coreProperties>
</file>