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A70-B599-46A4-876F-06C05E84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D19-BD69-44B8-9FA3-F778FBBA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792-A8BC-4AF8-93D3-88CD59D2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BF7-59B0-4AD8-99AD-9C724C9F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3D8-041D-4AA9-ADF2-949FC709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66E-82D8-43EE-9188-2D5C704D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81C-4C26-4673-84D1-96D60736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95E-4811-4F44-8F18-78ADBB34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428-54EF-4721-A294-0E21701F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5B7-2197-4B47-A7BD-89BA5E6A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04B-840B-4554-85FE-8AEDAFCF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FAD-1612-41A5-8606-7F488F3A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2CE4-A562-4268-9A6F-45E8862E21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9080" y="3571920"/>
            <a:ext cx="450072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ror poster draf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3360" y="3928680"/>
            <a:ext cx="28573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68400" y="2357280"/>
            <a:ext cx="764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The Absolu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oster Drafts\Draft 2.jpg"/>
          <p:cNvPicPr/>
          <p:nvPr/>
        </p:nvPicPr>
        <p:blipFill>
          <a:blip r:embed="rId1"/>
          <a:stretch/>
        </p:blipFill>
        <p:spPr>
          <a:xfrm>
            <a:off x="250020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Poster Drafts\Sylvia Rogo-Film Poster Draft 1 (The Absolution).jpg"/>
          <p:cNvPicPr/>
          <p:nvPr/>
        </p:nvPicPr>
        <p:blipFill>
          <a:blip r:embed="rId1"/>
          <a:stretch/>
        </p:blipFill>
        <p:spPr>
          <a:xfrm>
            <a:off x="2214720" y="214200"/>
            <a:ext cx="447984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Poster Drafts\Sylvia Rogo-Film Poster Draft 2 (The Absolution).jpg"/>
          <p:cNvPicPr/>
          <p:nvPr/>
        </p:nvPicPr>
        <p:blipFill>
          <a:blip r:embed="rId1"/>
          <a:stretch/>
        </p:blipFill>
        <p:spPr>
          <a:xfrm>
            <a:off x="2428920" y="142920"/>
            <a:ext cx="46321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oster Drafts\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Sylvia Rogo-film poster- 'THE ABSOLUTION' Final draft.jpg"/>
          <p:cNvPicPr/>
          <p:nvPr/>
        </p:nvPicPr>
        <p:blipFill>
          <a:blip r:embed="rId1"/>
          <a:stretch/>
        </p:blipFill>
        <p:spPr>
          <a:xfrm>
            <a:off x="2500200" y="142920"/>
            <a:ext cx="46324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0:58:49Z</dcterms:created>
  <dc:creator> </dc:creator>
  <dc:description/>
  <dc:language>en-US</dc:language>
  <cp:lastModifiedBy> </cp:lastModifiedBy>
  <dcterms:modified xsi:type="dcterms:W3CDTF">2010-04-25T21:08:29Z</dcterms:modified>
  <cp:revision>1</cp:revision>
  <dc:subject/>
  <dc:title>Horror poster drafts </dc:title>
</cp:coreProperties>
</file>