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0F6-01CB-4BB9-A1BD-96BF340E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B14-C217-4622-BD8F-BB7E12AF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018-D9B5-4CFA-9A0B-5B8F205E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10A-E809-465B-861E-4C2C8FB0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AF8-EB0E-480A-AF7E-99F1D4F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D70-8CC6-4E23-882D-B68D9C08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63C-D2BE-4CC6-8C21-6A0215F5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913-5A32-442D-A14C-364CCF3B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EFA-B68F-4B0E-844A-74461451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1E1-BFD7-4BB5-98C4-06DE441F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2AB-A7C0-4561-B792-9D4B058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A23-D6D8-4BFD-BA4C-C0A6D9C2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0D9B-9E09-4FC0-B184-9F0CCF04DB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9080" y="3571920"/>
            <a:ext cx="450072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ror poster draf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3360" y="3928680"/>
            <a:ext cx="28573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68400" y="2357280"/>
            <a:ext cx="76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The Absolu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oster Drafts\Draft 2.jpg"/>
          <p:cNvPicPr/>
          <p:nvPr/>
        </p:nvPicPr>
        <p:blipFill>
          <a:blip r:embed="rId1"/>
          <a:stretch/>
        </p:blipFill>
        <p:spPr>
          <a:xfrm>
            <a:off x="250020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Poster Drafts\Sylvia Rogo-Film Poster Draft 1 (The Absolution).jpg"/>
          <p:cNvPicPr/>
          <p:nvPr/>
        </p:nvPicPr>
        <p:blipFill>
          <a:blip r:embed="rId1"/>
          <a:stretch/>
        </p:blipFill>
        <p:spPr>
          <a:xfrm>
            <a:off x="2214720" y="214200"/>
            <a:ext cx="447984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Poster Drafts\Sylvia Rogo-Film Poster Draft 2 (The Absolution).jpg"/>
          <p:cNvPicPr/>
          <p:nvPr/>
        </p:nvPicPr>
        <p:blipFill>
          <a:blip r:embed="rId1"/>
          <a:stretch/>
        </p:blipFill>
        <p:spPr>
          <a:xfrm>
            <a:off x="2428920" y="142920"/>
            <a:ext cx="4632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oster Drafts\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Sylvia Rogo-film poster- 'THE ABSOLUTION' Final draft.jpg"/>
          <p:cNvPicPr/>
          <p:nvPr/>
        </p:nvPicPr>
        <p:blipFill>
          <a:blip r:embed="rId1"/>
          <a:stretch/>
        </p:blipFill>
        <p:spPr>
          <a:xfrm>
            <a:off x="2500200" y="142920"/>
            <a:ext cx="4632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0:58:49Z</dcterms:created>
  <dc:creator> </dc:creator>
  <dc:description/>
  <dc:language>en-US</dc:language>
  <cp:lastModifiedBy> </cp:lastModifiedBy>
  <dcterms:modified xsi:type="dcterms:W3CDTF">2010-04-25T21:08:29Z</dcterms:modified>
  <cp:revision>1</cp:revision>
  <dc:subject/>
  <dc:title>Horror poster drafts </dc:title>
</cp:coreProperties>
</file>