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C824-0C46-4989-BD04-81B7B2795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DA59-08DD-4712-BBA9-C2B573EA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83E8-53B3-435E-B8AC-588B8AC0D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AB9E-DFAF-41C0-BCE4-1C47FD34F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954B-93C1-4870-A855-6A587B3C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DF00-8858-4048-81B5-C722047A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DDF4-1D06-473C-ADEF-01A11D6F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8461-C6AF-4EDC-9E51-7128F88E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700A-5DDA-46D4-B01B-932B0882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E618-9AD9-4977-A4A3-593CF2DF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BE00-9D6D-4C78-8708-95B8F339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DF4B-FFE4-43CF-8509-928B7466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37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8EDC-30AF-442D-A161-0FDEE8998AD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29080" y="3571920"/>
            <a:ext cx="450072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Horror poster draft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3360" y="3928680"/>
            <a:ext cx="285732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alibri"/>
              </a:rPr>
              <a:t>By Sylvia R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968400" y="2357280"/>
            <a:ext cx="764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The Absolutio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user\Desktop\Media Studies\Poster Drafts\Draft 2.jpg"/>
          <p:cNvPicPr/>
          <p:nvPr/>
        </p:nvPicPr>
        <p:blipFill>
          <a:blip r:embed="rId1"/>
          <a:stretch/>
        </p:blipFill>
        <p:spPr>
          <a:xfrm>
            <a:off x="2500200" y="214200"/>
            <a:ext cx="450540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user\Desktop\Media Studies\Poster Drafts\Sylvia Rogo-Film Poster Draft 1 (The Absolution).jpg"/>
          <p:cNvPicPr/>
          <p:nvPr/>
        </p:nvPicPr>
        <p:blipFill>
          <a:blip r:embed="rId1"/>
          <a:stretch/>
        </p:blipFill>
        <p:spPr>
          <a:xfrm>
            <a:off x="2214720" y="214200"/>
            <a:ext cx="4479840" cy="63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Documents and Settings\user\Desktop\Media Studies\Poster Drafts\Sylvia Rogo-Film Poster Draft 2 (The Absolution).jpg"/>
          <p:cNvPicPr/>
          <p:nvPr/>
        </p:nvPicPr>
        <p:blipFill>
          <a:blip r:embed="rId1"/>
          <a:stretch/>
        </p:blipFill>
        <p:spPr>
          <a:xfrm>
            <a:off x="2428920" y="142920"/>
            <a:ext cx="463212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user\Desktop\Media Studies\Poster Drafts\draft 5.jpg"/>
          <p:cNvPicPr/>
          <p:nvPr/>
        </p:nvPicPr>
        <p:blipFill>
          <a:blip r:embed="rId1"/>
          <a:stretch/>
        </p:blipFill>
        <p:spPr>
          <a:xfrm>
            <a:off x="2357280" y="214200"/>
            <a:ext cx="450540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user\Desktop\Media Studies\Sylvia Rogo-film poster- 'THE ABSOLUTION' Final draft.jpg"/>
          <p:cNvPicPr/>
          <p:nvPr/>
        </p:nvPicPr>
        <p:blipFill>
          <a:blip r:embed="rId1"/>
          <a:stretch/>
        </p:blipFill>
        <p:spPr>
          <a:xfrm>
            <a:off x="2500200" y="142920"/>
            <a:ext cx="463248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20:58:49Z</dcterms:created>
  <dc:creator> </dc:creator>
  <dc:description/>
  <dc:language>en-US</dc:language>
  <cp:lastModifiedBy> </cp:lastModifiedBy>
  <dcterms:modified xsi:type="dcterms:W3CDTF">2010-04-25T21:08:29Z</dcterms:modified>
  <cp:revision>1</cp:revision>
  <dc:subject/>
  <dc:title>Horror poster drafts </dc:title>
</cp:coreProperties>
</file>