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2CA-297E-42D6-99FD-E111B84F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F41-8ED3-4D13-A536-1678BBCF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C19-3A11-4342-8FF2-C4E44F83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82E-5057-4DE3-9B0B-C454E271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0FC-7337-4B13-805A-83AD6947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206-D351-4247-AD3E-06063054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283-838D-4084-ABE8-DBAAAAF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391-DA95-4A1F-900C-24FFC052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5C7-2F52-4139-A79F-491F2B4E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BC9-4CB3-4D7E-8B5B-4F4F17B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51D-F283-4978-BC20-206597E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DFC-7974-49BB-B1CE-33FBE89E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917-55E6-4585-9D32-FF6A610877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1320" y="1857240"/>
            <a:ext cx="6458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900" spc="-1" strike="noStrike">
                <a:solidFill>
                  <a:srgbClr val="ffffff"/>
                </a:solidFill>
                <a:latin typeface="Calibri"/>
              </a:rPr>
              <a:t>Empire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6120" y="3214800"/>
            <a:ext cx="32860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6b9b8"/>
                </a:solidFill>
                <a:latin typeface="Calibri"/>
              </a:rPr>
              <a:t>Film magazine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144040" y="34783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alibri"/>
              </a:rPr>
              <a:t>By Sylvia R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tatic.reelmovienews.com/images/gallery/empire-magazine.jpg"/>
          <p:cNvPicPr/>
          <p:nvPr/>
        </p:nvPicPr>
        <p:blipFill>
          <a:blip r:embed="rId1"/>
          <a:stretch/>
        </p:blipFill>
        <p:spPr>
          <a:xfrm>
            <a:off x="436680" y="4000680"/>
            <a:ext cx="192060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filmonic.com/wp-content/uploads/2008/01/main.jpg"/>
          <p:cNvPicPr/>
          <p:nvPr/>
        </p:nvPicPr>
        <p:blipFill>
          <a:blip r:embed="rId2"/>
          <a:stretch/>
        </p:blipFill>
        <p:spPr>
          <a:xfrm>
            <a:off x="2639880" y="4000680"/>
            <a:ext cx="1932120" cy="257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2.bp.blogspot.com/_2GMlhUrYuhI/Sw0eiI72T4I/AAAAAAAAIUU/1w7u62flSEk/s1600/Iron_Man_2_Empire_Magazine_Cover_Pic.jpg"/>
          <p:cNvPicPr/>
          <p:nvPr/>
        </p:nvPicPr>
        <p:blipFill>
          <a:blip r:embed="rId3"/>
          <a:stretch/>
        </p:blipFill>
        <p:spPr>
          <a:xfrm>
            <a:off x="4813200" y="4000680"/>
            <a:ext cx="1901880" cy="257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host.trivialbeing.org/up/tdk-jun6-empire-batman.jpg"/>
          <p:cNvPicPr/>
          <p:nvPr/>
        </p:nvPicPr>
        <p:blipFill>
          <a:blip r:embed="rId4"/>
          <a:stretch/>
        </p:blipFill>
        <p:spPr>
          <a:xfrm>
            <a:off x="6929280" y="4000680"/>
            <a:ext cx="1911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42960" y="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Background of Empire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71760" y="795240"/>
            <a:ext cx="6500520" cy="579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ritish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First issue was in June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monthly by Bauer consumer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Biggest film magazine selling in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Edited by Mark D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Reviews both mainstream films and art fil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Market rival to Total film magaz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ublished in Russia, Australia and Turk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2dc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2dcdb"/>
                </a:solidFill>
                <a:latin typeface="Calibri"/>
              </a:rPr>
              <a:t>Price: £3.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71760" y="2858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mpire magazin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000080" y="1714680"/>
            <a:ext cx="7643880" cy="338580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Central insight into both classic and blockbusting 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Exclusive interviews with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Behind the scenes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"/>
              </a:rPr>
              <a:t>Three main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New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Movie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6b9b8"/>
                </a:solidFill>
                <a:latin typeface="Calibri"/>
              </a:rPr>
              <a:t>-Hom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43040" y="14288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dcdb"/>
                </a:solidFill>
                <a:latin typeface="Arial"/>
              </a:rPr>
              <a:t>The audience for Empire magazine is said to be“76% Male, Affluent ABC1 movie fans and cinema hound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4996" t="73492" r="28379" b="6250"/>
          <a:stretch/>
        </p:blipFill>
        <p:spPr>
          <a:xfrm>
            <a:off x="357120" y="3941640"/>
            <a:ext cx="8572680" cy="163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5256" t="25313" r="27747" b="59692"/>
          <a:stretch/>
        </p:blipFill>
        <p:spPr>
          <a:xfrm>
            <a:off x="357120" y="2428920"/>
            <a:ext cx="8572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142920"/>
            <a:ext cx="8929800" cy="6643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0" b="3751"/>
          <a:stretch/>
        </p:blipFill>
        <p:spPr>
          <a:xfrm>
            <a:off x="357120" y="1500120"/>
            <a:ext cx="4143600" cy="323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42960" y="874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ro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rcRect l="0" t="0" r="20312" b="3435"/>
          <a:stretch/>
        </p:blipFill>
        <p:spPr>
          <a:xfrm>
            <a:off x="4643280" y="1500120"/>
            <a:ext cx="4245120" cy="321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85716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ire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ww.</a:t>
            </a:r>
            <a:r>
              <a:rPr b="1" i="1" lang="en-GB" sz="1800" spc="-1" strike="noStrike">
                <a:solidFill>
                  <a:srgbClr val="ffffff"/>
                </a:solidFill>
                <a:latin typeface="Calibri"/>
              </a:rPr>
              <a:t>empire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n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286240" y="4786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witt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@empire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5:55:36Z</dcterms:created>
  <dc:creator> </dc:creator>
  <dc:description/>
  <dc:language>en-US</dc:language>
  <cp:lastModifiedBy> </cp:lastModifiedBy>
  <dcterms:modified xsi:type="dcterms:W3CDTF">2010-04-18T16:23:00Z</dcterms:modified>
  <cp:revision>19</cp:revision>
  <dc:subject/>
  <dc:title>EMPIRE</dc:title>
</cp:coreProperties>
</file>