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B88-906D-4B6D-ACC6-A6735B72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374-C860-423D-A1E3-0092B088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457-466B-4C76-B7F2-5182F757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552-E6EB-4E00-8156-3CF1A09A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419-4335-44E0-8687-73E76E0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939-CD2D-44F6-8F51-A24E51F6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424-35D6-406E-8362-D0DA853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856-9DE7-4B15-AED9-130171A9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695-C200-4EF2-B480-8111DF8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623-7EAD-4CD2-BC1D-96D6200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671-8779-4785-A652-DB721D2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056-C4A6-4394-9535-3ABF194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5F70-0505-4622-9625-7BFC42F861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1320" y="1857240"/>
            <a:ext cx="645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900" spc="-1" strike="noStrike">
                <a:solidFill>
                  <a:srgbClr val="ffffff"/>
                </a:solidFill>
                <a:latin typeface="Calibri"/>
              </a:rPr>
              <a:t>Empir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3214800"/>
            <a:ext cx="3286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6b9b8"/>
                </a:solidFill>
                <a:latin typeface="Calibri"/>
              </a:rPr>
              <a:t>Film magazin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4040" y="34783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tatic.reelmovienews.com/images/gallery/empire-magazine.jpg"/>
          <p:cNvPicPr/>
          <p:nvPr/>
        </p:nvPicPr>
        <p:blipFill>
          <a:blip r:embed="rId1"/>
          <a:stretch/>
        </p:blipFill>
        <p:spPr>
          <a:xfrm>
            <a:off x="436680" y="4000680"/>
            <a:ext cx="192060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ilmonic.com/wp-content/uploads/2008/01/main.jpg"/>
          <p:cNvPicPr/>
          <p:nvPr/>
        </p:nvPicPr>
        <p:blipFill>
          <a:blip r:embed="rId2"/>
          <a:stretch/>
        </p:blipFill>
        <p:spPr>
          <a:xfrm>
            <a:off x="2639880" y="4000680"/>
            <a:ext cx="193212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2.bp.blogspot.com/_2GMlhUrYuhI/Sw0eiI72T4I/AAAAAAAAIUU/1w7u62flSEk/s1600/Iron_Man_2_Empire_Magazine_Cover_Pic.jpg"/>
          <p:cNvPicPr/>
          <p:nvPr/>
        </p:nvPicPr>
        <p:blipFill>
          <a:blip r:embed="rId3"/>
          <a:stretch/>
        </p:blipFill>
        <p:spPr>
          <a:xfrm>
            <a:off x="4813200" y="4000680"/>
            <a:ext cx="190188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host.trivialbeing.org/up/tdk-jun6-empire-batman.jpg"/>
          <p:cNvPicPr/>
          <p:nvPr/>
        </p:nvPicPr>
        <p:blipFill>
          <a:blip r:embed="rId4"/>
          <a:stretch/>
        </p:blipFill>
        <p:spPr>
          <a:xfrm>
            <a:off x="6929280" y="4000680"/>
            <a:ext cx="1911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42960" y="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ckground of Empire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71760" y="795240"/>
            <a:ext cx="6500520" cy="579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ritish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First issue was in June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monthly by Bauer consumer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iggest film magazine selling in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Edited by Mark D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Reviews both mainstream films and art fil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Market rival to Total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in Russia, Australia and Turk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rice: £3.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71760" y="2858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mpire magazin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00080" y="1714680"/>
            <a:ext cx="7643880" cy="338580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Central insight into both classic and blockbusting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Exclusive interviews with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Behind the scenes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</a:rPr>
              <a:t>Three mai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New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Movie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43040" y="14288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Arial"/>
              </a:rPr>
              <a:t>The audience for Empire magazine is said to be“76% Male, Affluent ABC1 movie fans and cinema hound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996" t="73492" r="28379" b="6250"/>
          <a:stretch/>
        </p:blipFill>
        <p:spPr>
          <a:xfrm>
            <a:off x="357120" y="3941640"/>
            <a:ext cx="8572680" cy="163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256" t="25313" r="27747" b="59692"/>
          <a:stretch/>
        </p:blipFill>
        <p:spPr>
          <a:xfrm>
            <a:off x="357120" y="2428920"/>
            <a:ext cx="857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3751"/>
          <a:stretch/>
        </p:blipFill>
        <p:spPr>
          <a:xfrm>
            <a:off x="357120" y="1500120"/>
            <a:ext cx="4143600" cy="323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ro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rcRect l="0" t="0" r="20312" b="3435"/>
          <a:stretch/>
        </p:blipFill>
        <p:spPr>
          <a:xfrm>
            <a:off x="4643280" y="1500120"/>
            <a:ext cx="424512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85716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ire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empire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n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8624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witt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@empire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55:36Z</dcterms:created>
  <dc:creator> </dc:creator>
  <dc:description/>
  <dc:language>en-US</dc:language>
  <cp:lastModifiedBy> </cp:lastModifiedBy>
  <dcterms:modified xsi:type="dcterms:W3CDTF">2010-04-18T16:23:00Z</dcterms:modified>
  <cp:revision>19</cp:revision>
  <dc:subject/>
  <dc:title>EMPIRE</dc:title>
</cp:coreProperties>
</file>