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005-BE4E-4C9F-B84D-65ACD17F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89A0-3E1A-4236-9BAB-5F5CA288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4D7D-A1A2-4D6D-BE61-3436D5F2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775B-F0FD-486F-B4DD-6ED46C31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B47F-3B59-4C32-8458-44404D93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4F1B-93F8-46F1-8D9E-10FBDF42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664F-FD02-47CE-9ACF-6A07BB22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ED24-7893-4741-BB2F-B2C5A5CC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1B5C-8538-4BDC-ADED-7B0B9AA8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AD5A-11A1-45A2-B7D7-86AF4279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D36F-5717-4F33-889B-D89E72A6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2C82-A8A9-47E0-89FB-8EC39EE8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7E9E-014C-46EA-853B-3FC813BCE6A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1320" y="1857240"/>
            <a:ext cx="645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900" spc="-1" strike="noStrike">
                <a:solidFill>
                  <a:srgbClr val="ffffff"/>
                </a:solidFill>
                <a:latin typeface="Calibri"/>
              </a:rPr>
              <a:t>Empire</a:t>
            </a: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86120" y="3214800"/>
            <a:ext cx="328608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e6b9b8"/>
                </a:solidFill>
                <a:latin typeface="Calibri"/>
              </a:rPr>
              <a:t>Film magazine re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144040" y="347832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Calibri"/>
              </a:rPr>
              <a:t>By Sylvia R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static.reelmovienews.com/images/gallery/empire-magazine.jpg"/>
          <p:cNvPicPr/>
          <p:nvPr/>
        </p:nvPicPr>
        <p:blipFill>
          <a:blip r:embed="rId1"/>
          <a:stretch/>
        </p:blipFill>
        <p:spPr>
          <a:xfrm>
            <a:off x="436680" y="4000680"/>
            <a:ext cx="1920600" cy="2571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filmonic.com/wp-content/uploads/2008/01/main.jpg"/>
          <p:cNvPicPr/>
          <p:nvPr/>
        </p:nvPicPr>
        <p:blipFill>
          <a:blip r:embed="rId2"/>
          <a:stretch/>
        </p:blipFill>
        <p:spPr>
          <a:xfrm>
            <a:off x="2639880" y="4000680"/>
            <a:ext cx="1932120" cy="2571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2.bp.blogspot.com/_2GMlhUrYuhI/Sw0eiI72T4I/AAAAAAAAIUU/1w7u62flSEk/s1600/Iron_Man_2_Empire_Magazine_Cover_Pic.jpg"/>
          <p:cNvPicPr/>
          <p:nvPr/>
        </p:nvPicPr>
        <p:blipFill>
          <a:blip r:embed="rId3"/>
          <a:stretch/>
        </p:blipFill>
        <p:spPr>
          <a:xfrm>
            <a:off x="4813200" y="4000680"/>
            <a:ext cx="1901880" cy="2571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://host.trivialbeing.org/up/tdk-jun6-empire-batman.jpg"/>
          <p:cNvPicPr/>
          <p:nvPr/>
        </p:nvPicPr>
        <p:blipFill>
          <a:blip r:embed="rId4"/>
          <a:stretch/>
        </p:blipFill>
        <p:spPr>
          <a:xfrm>
            <a:off x="6929280" y="4000680"/>
            <a:ext cx="19116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642960" y="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Background of Empire magaz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1571760" y="795240"/>
            <a:ext cx="6500520" cy="5791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British film magaz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First issue was in June 198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Published monthly by Bauer consumer 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Biggest film magazine selling in Bri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Edited by Mark Di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Reviews both mainstream films and art fil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Market rival to Total film magaz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Published in Russia, Australia and Turke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Price: £3.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571760" y="285840"/>
            <a:ext cx="63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Empire magazine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1000080" y="1714680"/>
            <a:ext cx="7643880" cy="3385800"/>
          </a:xfrm>
          <a:prstGeom prst="rect">
            <a:avLst/>
          </a:prstGeom>
          <a:noFill/>
          <a:ln w="93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Central insight into both classic and blockbusting 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Exclusive interviews with 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Behind the scenes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alibri"/>
              </a:rPr>
              <a:t>Three main s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-New fil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-Movie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-Home entertai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642960" y="874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Read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643040" y="142884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dcdb"/>
                </a:solidFill>
                <a:latin typeface="Arial"/>
              </a:rPr>
              <a:t>The audience for Empire magazine is said to be“76% Male, Affluent ABC1 movie fans and cinema hound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4996" t="73492" r="28379" b="6250"/>
          <a:stretch/>
        </p:blipFill>
        <p:spPr>
          <a:xfrm>
            <a:off x="357120" y="3941640"/>
            <a:ext cx="8572680" cy="1630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rcRect l="5256" t="25313" r="27747" b="59692"/>
          <a:stretch/>
        </p:blipFill>
        <p:spPr>
          <a:xfrm>
            <a:off x="357120" y="2428920"/>
            <a:ext cx="85726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rcRect l="0" t="0" r="0" b="3751"/>
          <a:stretch/>
        </p:blipFill>
        <p:spPr>
          <a:xfrm>
            <a:off x="357120" y="1500120"/>
            <a:ext cx="4143600" cy="3233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642960" y="874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Cross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rcRect l="0" t="0" r="20312" b="3435"/>
          <a:stretch/>
        </p:blipFill>
        <p:spPr>
          <a:xfrm>
            <a:off x="4643280" y="1500120"/>
            <a:ext cx="4245120" cy="321480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857160" y="4786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mpire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www.</a:t>
            </a:r>
            <a:r>
              <a:rPr b="1" i="1" lang="en-GB" sz="1800" spc="-1" strike="noStrike">
                <a:solidFill>
                  <a:srgbClr val="ffffff"/>
                </a:solidFill>
                <a:latin typeface="Calibri"/>
              </a:rPr>
              <a:t>empire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onlin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5286240" y="4786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witt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@empiremagaz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5:55:36Z</dcterms:created>
  <dc:creator> </dc:creator>
  <dc:description/>
  <dc:language>en-US</dc:language>
  <cp:lastModifiedBy> </cp:lastModifiedBy>
  <dcterms:modified xsi:type="dcterms:W3CDTF">2010-04-18T16:23:00Z</dcterms:modified>
  <cp:revision>19</cp:revision>
  <dc:subject/>
  <dc:title>EMPIRE</dc:title>
</cp:coreProperties>
</file>