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10D-7F92-4C1D-8B5D-4565BD99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117-4EB8-4BCA-96D0-B144FE9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F5C-62E6-46B1-ABF9-9D068B7E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976-7507-436D-8E9F-7A98DA04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CFE-4184-4F5F-AA8B-DA7CC478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7A3-427C-4836-99D9-381047BD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F92-C3EB-4F26-9DFE-46A7401B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0A4-A224-4286-96CA-6D8CCE38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497-E6FB-40EF-88B9-2A47207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3CD-4676-4016-850B-104237C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8CA-F871-48EA-9602-4D99EEF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D4A-2F94-49C3-85DF-720A056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F3B-2390-4088-8A02-A4933863F7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1320" y="1857240"/>
            <a:ext cx="645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900" spc="-1" strike="noStrike">
                <a:solidFill>
                  <a:srgbClr val="ffffff"/>
                </a:solidFill>
                <a:latin typeface="Calibri"/>
              </a:rPr>
              <a:t>Empir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3214800"/>
            <a:ext cx="3286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6b9b8"/>
                </a:solidFill>
                <a:latin typeface="Calibri"/>
              </a:rPr>
              <a:t>Film magazin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4040" y="34783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tatic.reelmovienews.com/images/gallery/empire-magazine.jpg"/>
          <p:cNvPicPr/>
          <p:nvPr/>
        </p:nvPicPr>
        <p:blipFill>
          <a:blip r:embed="rId1"/>
          <a:stretch/>
        </p:blipFill>
        <p:spPr>
          <a:xfrm>
            <a:off x="436680" y="4000680"/>
            <a:ext cx="192060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ilmonic.com/wp-content/uploads/2008/01/main.jpg"/>
          <p:cNvPicPr/>
          <p:nvPr/>
        </p:nvPicPr>
        <p:blipFill>
          <a:blip r:embed="rId2"/>
          <a:stretch/>
        </p:blipFill>
        <p:spPr>
          <a:xfrm>
            <a:off x="2639880" y="4000680"/>
            <a:ext cx="193212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2.bp.blogspot.com/_2GMlhUrYuhI/Sw0eiI72T4I/AAAAAAAAIUU/1w7u62flSEk/s1600/Iron_Man_2_Empire_Magazine_Cover_Pic.jpg"/>
          <p:cNvPicPr/>
          <p:nvPr/>
        </p:nvPicPr>
        <p:blipFill>
          <a:blip r:embed="rId3"/>
          <a:stretch/>
        </p:blipFill>
        <p:spPr>
          <a:xfrm>
            <a:off x="4813200" y="4000680"/>
            <a:ext cx="190188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host.trivialbeing.org/up/tdk-jun6-empire-batman.jpg"/>
          <p:cNvPicPr/>
          <p:nvPr/>
        </p:nvPicPr>
        <p:blipFill>
          <a:blip r:embed="rId4"/>
          <a:stretch/>
        </p:blipFill>
        <p:spPr>
          <a:xfrm>
            <a:off x="6929280" y="4000680"/>
            <a:ext cx="1911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42960" y="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ckground of Empire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71760" y="795240"/>
            <a:ext cx="6500520" cy="579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ritish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First issue was in June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monthly by Bauer consumer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iggest film magazine selling in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Edited by Mark D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Reviews both mainstream films and art fil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Market rival to Total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in Russia, Australia and Turk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rice: £3.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71760" y="2858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mpire magazin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00080" y="1714680"/>
            <a:ext cx="7643880" cy="338580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Central insight into both classic and blockbusting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Exclusive interviews with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Behind the scenes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</a:rPr>
              <a:t>Three mai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New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Movie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43040" y="14288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Arial"/>
              </a:rPr>
              <a:t>The audience for Empire magazine is said to be“76% Male, Affluent ABC1 movie fans and cinema hound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996" t="73492" r="28379" b="6250"/>
          <a:stretch/>
        </p:blipFill>
        <p:spPr>
          <a:xfrm>
            <a:off x="357120" y="3941640"/>
            <a:ext cx="8572680" cy="163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256" t="25313" r="27747" b="59692"/>
          <a:stretch/>
        </p:blipFill>
        <p:spPr>
          <a:xfrm>
            <a:off x="357120" y="2428920"/>
            <a:ext cx="857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3751"/>
          <a:stretch/>
        </p:blipFill>
        <p:spPr>
          <a:xfrm>
            <a:off x="357120" y="1500120"/>
            <a:ext cx="4143600" cy="323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ro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rcRect l="0" t="0" r="20312" b="3435"/>
          <a:stretch/>
        </p:blipFill>
        <p:spPr>
          <a:xfrm>
            <a:off x="4643280" y="1500120"/>
            <a:ext cx="424512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85716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ire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empire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n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8624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witt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@empire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55:36Z</dcterms:created>
  <dc:creator> </dc:creator>
  <dc:description/>
  <dc:language>en-US</dc:language>
  <cp:lastModifiedBy> </cp:lastModifiedBy>
  <dcterms:modified xsi:type="dcterms:W3CDTF">2010-04-18T16:23:00Z</dcterms:modified>
  <cp:revision>19</cp:revision>
  <dc:subject/>
  <dc:title>EMPIRE</dc:title>
</cp:coreProperties>
</file>