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311A-2DBA-4F6D-BD1F-218979647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E62E-8756-4839-86CB-8DFFFE1B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382F-A195-45F1-B1D8-EAA1A990E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7E84-BB79-46F5-B1E9-215142E1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35ED-9071-419C-B83A-81B6C421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0D5B-D4DF-405D-A6C0-C8D1EEA8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9345-5E0B-4FCE-ABBC-350CB25A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B32E-B1C6-46EF-BB20-BEC0C179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4D05-0BE1-4251-BA97-B78A3C37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31DD-4A15-44E0-B0E7-73EA260A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FEFE-0B72-481F-90EF-7DC716A6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FF53-EA14-42EB-B176-435F1F53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044E-405A-4D3E-BBE7-8E4176675C0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571680" y="2000160"/>
            <a:ext cx="8072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c0504d"/>
                </a:solidFill>
                <a:latin typeface="Calibri"/>
              </a:rPr>
              <a:t>My Film Magazine Masthead Idea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14200" y="214200"/>
            <a:ext cx="8715600" cy="650088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6786720" y="43578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79646"/>
                </a:solidFill>
                <a:latin typeface="Calibri"/>
              </a:rPr>
              <a:t>Sylvia R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214200" y="214200"/>
            <a:ext cx="8715600" cy="650088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142920" y="55440"/>
            <a:ext cx="721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Calibri"/>
              </a:rPr>
              <a:t>CINEMATIC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Black Top"/>
          <p:cNvPicPr/>
          <p:nvPr/>
        </p:nvPicPr>
        <p:blipFill>
          <a:blip r:embed="rId1"/>
          <a:srcRect l="27420" t="0" r="28225" b="0"/>
          <a:stretch/>
        </p:blipFill>
        <p:spPr>
          <a:xfrm>
            <a:off x="1785960" y="1643040"/>
            <a:ext cx="5857920" cy="1333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Bronic"/>
          <p:cNvPicPr/>
          <p:nvPr/>
        </p:nvPicPr>
        <p:blipFill>
          <a:blip r:embed="rId2"/>
          <a:srcRect l="16935" t="0" r="16935" b="0"/>
          <a:stretch/>
        </p:blipFill>
        <p:spPr>
          <a:xfrm>
            <a:off x="1785960" y="3452760"/>
            <a:ext cx="5857920" cy="1333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razy Harold"/>
          <p:cNvPicPr/>
          <p:nvPr/>
        </p:nvPicPr>
        <p:blipFill>
          <a:blip r:embed="rId3"/>
          <a:srcRect l="12903" t="0" r="13708" b="0"/>
          <a:stretch/>
        </p:blipFill>
        <p:spPr>
          <a:xfrm>
            <a:off x="1785960" y="5024520"/>
            <a:ext cx="585792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214200" y="214200"/>
            <a:ext cx="8715600" cy="650088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142920" y="0"/>
            <a:ext cx="514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79646"/>
                </a:solidFill>
                <a:latin typeface="Calibri"/>
              </a:rPr>
              <a:t>STUDIO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" descr="Oberon"/>
          <p:cNvPicPr/>
          <p:nvPr/>
        </p:nvPicPr>
        <p:blipFill>
          <a:blip r:embed="rId1"/>
          <a:srcRect l="8063" t="0" r="10485" b="0"/>
          <a:stretch/>
        </p:blipFill>
        <p:spPr>
          <a:xfrm>
            <a:off x="1000080" y="1214280"/>
            <a:ext cx="7215120" cy="1333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Plasmatica"/>
          <p:cNvPicPr/>
          <p:nvPr/>
        </p:nvPicPr>
        <p:blipFill>
          <a:blip r:embed="rId2"/>
          <a:srcRect l="29034" t="0" r="30992" b="7694"/>
          <a:stretch/>
        </p:blipFill>
        <p:spPr>
          <a:xfrm>
            <a:off x="928800" y="2786040"/>
            <a:ext cx="7286400" cy="1714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Ptarmigan"/>
          <p:cNvPicPr/>
          <p:nvPr/>
        </p:nvPicPr>
        <p:blipFill>
          <a:blip r:embed="rId3"/>
          <a:srcRect l="21775" t="0" r="21775" b="0"/>
          <a:stretch/>
        </p:blipFill>
        <p:spPr>
          <a:xfrm>
            <a:off x="1428840" y="4695840"/>
            <a:ext cx="650088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214200" y="214200"/>
            <a:ext cx="8715600" cy="650088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142920" y="-142920"/>
            <a:ext cx="32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79646"/>
                </a:solidFill>
                <a:latin typeface="Calibri"/>
              </a:rPr>
              <a:t>LC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142920" y="1000080"/>
            <a:ext cx="271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(Stands for: Lights, camera action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" descr="Sui Generis"/>
          <p:cNvPicPr/>
          <p:nvPr/>
        </p:nvPicPr>
        <p:blipFill>
          <a:blip r:embed="rId1"/>
          <a:srcRect l="26615" t="0" r="28225" b="0"/>
          <a:stretch/>
        </p:blipFill>
        <p:spPr>
          <a:xfrm>
            <a:off x="2428920" y="1643040"/>
            <a:ext cx="421488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214200" y="214200"/>
            <a:ext cx="8715600" cy="650088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142920" y="0"/>
            <a:ext cx="378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595959"/>
                </a:solidFill>
                <a:latin typeface="Calibri"/>
              </a:rPr>
              <a:t>THE SCRIP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214200" y="214200"/>
            <a:ext cx="8715600" cy="650088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142920" y="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79646"/>
                </a:solidFill>
                <a:latin typeface="Calibri"/>
              </a:rPr>
              <a:t>AERIA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214200" y="214200"/>
            <a:ext cx="8715600" cy="650088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142920" y="55440"/>
            <a:ext cx="921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79646"/>
                </a:solidFill>
                <a:latin typeface="Calibri"/>
              </a:rPr>
              <a:t>SILVER SCREE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214200" y="214200"/>
            <a:ext cx="8715600" cy="650088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142920" y="5544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79646"/>
                </a:solidFill>
                <a:latin typeface="Calibri"/>
              </a:rPr>
              <a:t>MO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214200" y="214200"/>
            <a:ext cx="8715600" cy="650088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142920" y="55440"/>
            <a:ext cx="514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10253f"/>
                </a:solidFill>
                <a:latin typeface="Calibri"/>
              </a:rPr>
              <a:t>MISE-EN-SCEN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" descr="Corporate HQ"/>
          <p:cNvPicPr/>
          <p:nvPr/>
        </p:nvPicPr>
        <p:blipFill>
          <a:blip r:embed="rId1"/>
          <a:srcRect l="0" t="5535" r="1666" b="5886"/>
          <a:stretch/>
        </p:blipFill>
        <p:spPr>
          <a:xfrm>
            <a:off x="428760" y="1500120"/>
            <a:ext cx="842940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Johnny Fever"/>
          <p:cNvPicPr/>
          <p:nvPr/>
        </p:nvPicPr>
        <p:blipFill>
          <a:blip r:embed="rId2"/>
          <a:srcRect l="0" t="0" r="4958" b="0"/>
          <a:stretch/>
        </p:blipFill>
        <p:spPr>
          <a:xfrm>
            <a:off x="500040" y="3286080"/>
            <a:ext cx="8215200" cy="1333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Mainframe"/>
          <p:cNvPicPr/>
          <p:nvPr/>
        </p:nvPicPr>
        <p:blipFill>
          <a:blip r:embed="rId3"/>
          <a:stretch/>
        </p:blipFill>
        <p:spPr>
          <a:xfrm>
            <a:off x="285840" y="4857840"/>
            <a:ext cx="8501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23:05:01Z</dcterms:created>
  <dc:creator> </dc:creator>
  <dc:description/>
  <dc:language>en-US</dc:language>
  <cp:lastModifiedBy> </cp:lastModifiedBy>
  <dcterms:modified xsi:type="dcterms:W3CDTF">2009-12-15T23:53:49Z</dcterms:modified>
  <cp:revision>14</cp:revision>
  <dc:subject/>
  <dc:title>Slide 1</dc:title>
</cp:coreProperties>
</file>