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1CF-5964-4319-BE62-DD90C2B1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1D5-D695-4C4D-AFC5-F039457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FFC-8212-4C47-9145-46C50154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304-C6C0-4198-BBC6-4F3E3E71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12C-45E1-44B3-88C5-8DB1C57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09F-78FF-4390-A7C9-AD0B643D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269-E487-4891-9057-92EA8ADD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3FF-EF15-4763-BBD9-30230400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AB6-F5D5-41B2-9774-B9C09846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6BA-14EC-43D0-96D1-B798A09F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4A6-2995-42BE-8D02-BA9E9B0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3ED-A3D4-4B44-80B5-39437EEC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1FA8-694D-46AE-AE42-56CCA907F3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383200" y="2428920"/>
            <a:ext cx="51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Cinemati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71880" y="3701880"/>
            <a:ext cx="4500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alibri"/>
              </a:rPr>
              <a:t>Film magazine front cover draf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643720" y="3929040"/>
            <a:ext cx="178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Magazine front cover drafts\Sylvia Rogo-Magazine front cover Draft 4.jpg"/>
          <p:cNvPicPr/>
          <p:nvPr/>
        </p:nvPicPr>
        <p:blipFill>
          <a:blip r:embed="rId1"/>
          <a:stretch/>
        </p:blipFill>
        <p:spPr>
          <a:xfrm>
            <a:off x="2357280" y="285840"/>
            <a:ext cx="46879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Magazine front cover drafts\Sylvia Rogo-Magazine front cover 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Magazine front cover drafts\Drafts (28-02-2010)\Sylvia Rogo-Final Magazine front cover (CINEMATIC).jpg"/>
          <p:cNvPicPr/>
          <p:nvPr/>
        </p:nvPicPr>
        <p:blipFill>
          <a:blip r:embed="rId1"/>
          <a:srcRect l="3078" t="0" r="0" b="0"/>
          <a:stretch/>
        </p:blipFill>
        <p:spPr>
          <a:xfrm>
            <a:off x="2643120" y="142920"/>
            <a:ext cx="45007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Magazine front cover drafts\Drafts (28-02-2010)\Magazine draft (15-04-2010) cinematic.copy.jpg"/>
          <p:cNvPicPr/>
          <p:nvPr/>
        </p:nvPicPr>
        <p:blipFill>
          <a:blip r:embed="rId1"/>
          <a:stretch/>
        </p:blipFill>
        <p:spPr>
          <a:xfrm>
            <a:off x="2571840" y="285840"/>
            <a:ext cx="41749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Magazine front cover drafts\Drafts (28-02-2010)\Sylvia Rogo-Magazine front cover-Cinematic, final draft (16-04-2010)addedAdd copy.jpg"/>
          <p:cNvPicPr/>
          <p:nvPr/>
        </p:nvPicPr>
        <p:blipFill>
          <a:blip r:embed="rId1"/>
          <a:srcRect l="6344" t="2243" r="3276" b="2463"/>
          <a:stretch/>
        </p:blipFill>
        <p:spPr>
          <a:xfrm>
            <a:off x="2571840" y="357120"/>
            <a:ext cx="4071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Magazine front cover drafts\Drafts (28-02-2010)\SYLVIA ROGO-Final magazine front cover-Cinematic  (Edited).jpg"/>
          <p:cNvPicPr/>
          <p:nvPr/>
        </p:nvPicPr>
        <p:blipFill>
          <a:blip r:embed="rId1"/>
          <a:stretch/>
        </p:blipFill>
        <p:spPr>
          <a:xfrm>
            <a:off x="2643120" y="357120"/>
            <a:ext cx="411156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11:20Z</dcterms:created>
  <dc:creator> </dc:creator>
  <dc:description/>
  <dc:language>en-US</dc:language>
  <cp:lastModifiedBy> </cp:lastModifiedBy>
  <dcterms:modified xsi:type="dcterms:W3CDTF">2010-04-25T21:23:05Z</dcterms:modified>
  <cp:revision>2</cp:revision>
  <dc:subject/>
  <dc:title>Slide 1</dc:title>
</cp:coreProperties>
</file>