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43CC-D10A-49C9-A7BD-D9F97AC83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2F9E-9288-4958-8BDF-FD847890F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6B58-73F4-4473-B1C5-AB907FA70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1823-0F1A-4FC4-A6D2-F11458A8F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15DA-FF29-4232-B79C-EFF3F85F5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84D5-7CB7-471D-936F-EF0E24BD1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3418-138C-4AA5-BFA9-4BB39931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7A63-80F4-4943-8944-A01B1C96A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71B9-77BE-42BA-8608-955CA81C4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22F0-EBA7-4231-96AA-4AAA76A1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0A5B-05A1-44A3-B4CF-3BFF963D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1B8B-2F3F-4707-9086-AE3A249A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A4125-C932-498F-B779-D8C3BC2AE76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383200" y="2428920"/>
            <a:ext cx="511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Cinematic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itle 1"/>
          <p:cNvSpPr/>
          <p:nvPr/>
        </p:nvSpPr>
        <p:spPr>
          <a:xfrm>
            <a:off x="3071880" y="3701880"/>
            <a:ext cx="450036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f7f7f"/>
                </a:solidFill>
                <a:latin typeface="Calibri"/>
              </a:rPr>
              <a:t>Film magazine front cover draf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itle 2"/>
          <p:cNvSpPr/>
          <p:nvPr/>
        </p:nvSpPr>
        <p:spPr>
          <a:xfrm>
            <a:off x="5643720" y="3929040"/>
            <a:ext cx="1785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alibri"/>
              </a:rPr>
              <a:t>By Sylvia R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Documents and Settings\user\Desktop\Media Studies\Magazine front cover drafts\Sylvia Rogo-Magazine front cover Draft 4.jpg"/>
          <p:cNvPicPr/>
          <p:nvPr/>
        </p:nvPicPr>
        <p:blipFill>
          <a:blip r:embed="rId1"/>
          <a:stretch/>
        </p:blipFill>
        <p:spPr>
          <a:xfrm>
            <a:off x="2357280" y="285840"/>
            <a:ext cx="4687920" cy="62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Documents and Settings\user\Desktop\Media Studies\Magazine front cover drafts\Sylvia Rogo-Magazine front cover draft 5.jpg"/>
          <p:cNvPicPr/>
          <p:nvPr/>
        </p:nvPicPr>
        <p:blipFill>
          <a:blip r:embed="rId1"/>
          <a:stretch/>
        </p:blipFill>
        <p:spPr>
          <a:xfrm>
            <a:off x="2357280" y="214200"/>
            <a:ext cx="4505400" cy="63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Documents and Settings\user\Desktop\Media Studies\Magazine front cover drafts\Drafts (28-02-2010)\Sylvia Rogo-Final Magazine front cover (CINEMATIC).jpg"/>
          <p:cNvPicPr/>
          <p:nvPr/>
        </p:nvPicPr>
        <p:blipFill>
          <a:blip r:embed="rId1"/>
          <a:srcRect l="3078" t="0" r="0" b="0"/>
          <a:stretch/>
        </p:blipFill>
        <p:spPr>
          <a:xfrm>
            <a:off x="2643120" y="142920"/>
            <a:ext cx="4500720" cy="65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Documents and Settings\user\Desktop\Media Studies\Magazine front cover drafts\Drafts (28-02-2010)\Magazine draft (15-04-2010) cinematic.copy.jpg"/>
          <p:cNvPicPr/>
          <p:nvPr/>
        </p:nvPicPr>
        <p:blipFill>
          <a:blip r:embed="rId1"/>
          <a:stretch/>
        </p:blipFill>
        <p:spPr>
          <a:xfrm>
            <a:off x="2571840" y="285840"/>
            <a:ext cx="4174920" cy="63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nts and Settings\user\Desktop\Media Studies\Magazine front cover drafts\Drafts (28-02-2010)\Sylvia Rogo-Magazine front cover-Cinematic, final draft (16-04-2010)addedAdd copy.jpg"/>
          <p:cNvPicPr/>
          <p:nvPr/>
        </p:nvPicPr>
        <p:blipFill>
          <a:blip r:embed="rId1"/>
          <a:srcRect l="6344" t="2243" r="3276" b="2463"/>
          <a:stretch/>
        </p:blipFill>
        <p:spPr>
          <a:xfrm>
            <a:off x="2571840" y="357120"/>
            <a:ext cx="407196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Documents and Settings\user\Desktop\Media Studies\Magazine front cover drafts\Drafts (28-02-2010)\SYLVIA ROGO-Final magazine front cover-Cinematic  (Edited).jpg"/>
          <p:cNvPicPr/>
          <p:nvPr/>
        </p:nvPicPr>
        <p:blipFill>
          <a:blip r:embed="rId1"/>
          <a:stretch/>
        </p:blipFill>
        <p:spPr>
          <a:xfrm>
            <a:off x="2643120" y="357120"/>
            <a:ext cx="4111560" cy="61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21:11:20Z</dcterms:created>
  <dc:creator> </dc:creator>
  <dc:description/>
  <dc:language>en-US</dc:language>
  <cp:lastModifiedBy> </cp:lastModifiedBy>
  <dcterms:modified xsi:type="dcterms:W3CDTF">2010-04-25T21:23:05Z</dcterms:modified>
  <cp:revision>2</cp:revision>
  <dc:subject/>
  <dc:title>Slide 1</dc:title>
</cp:coreProperties>
</file>