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5D63-6594-4E0E-A05F-CD96E3D4B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E697-5058-4A4A-97AB-D1617706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A40A-E9EF-4EBC-8799-51A9D8494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7CA1-2C74-4027-B732-B19EF859C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2D04-5364-456C-A89C-EC979D95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CD74-A12A-424F-9ED2-E242EB14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C4EA-2966-4CE4-AE76-BB3F6D6C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AA25-82DE-4CCC-932D-AB329346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C1C7-87BF-4E1C-AB0E-2D1AB0D7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26DF-CDDB-4EE5-A723-D57338E5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95B0-A70B-496F-9E5C-1144CCF3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96D6-376A-4C5A-97AC-7C5DD16B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CA29-270F-44AB-8FC4-5AB066D788D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383200" y="2428920"/>
            <a:ext cx="511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Cinematic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3071880" y="3701880"/>
            <a:ext cx="450036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Calibri"/>
              </a:rPr>
              <a:t>Film magazine front cover draf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5643720" y="3929040"/>
            <a:ext cx="1785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alibri"/>
              </a:rPr>
              <a:t>By Sylvia R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user\Desktop\Media Studies\Magazine front cover drafts\Sylvia Rogo-Magazine front cover Draft 4.jpg"/>
          <p:cNvPicPr/>
          <p:nvPr/>
        </p:nvPicPr>
        <p:blipFill>
          <a:blip r:embed="rId1"/>
          <a:stretch/>
        </p:blipFill>
        <p:spPr>
          <a:xfrm>
            <a:off x="2357280" y="285840"/>
            <a:ext cx="468792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user\Desktop\Media Studies\Magazine front cover drafts\Sylvia Rogo-Magazine front cover draft 5.jpg"/>
          <p:cNvPicPr/>
          <p:nvPr/>
        </p:nvPicPr>
        <p:blipFill>
          <a:blip r:embed="rId1"/>
          <a:stretch/>
        </p:blipFill>
        <p:spPr>
          <a:xfrm>
            <a:off x="2357280" y="214200"/>
            <a:ext cx="450540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Documents and Settings\user\Desktop\Media Studies\Magazine front cover drafts\Drafts (28-02-2010)\Sylvia Rogo-Final Magazine front cover (CINEMATIC).jpg"/>
          <p:cNvPicPr/>
          <p:nvPr/>
        </p:nvPicPr>
        <p:blipFill>
          <a:blip r:embed="rId1"/>
          <a:srcRect l="3078" t="0" r="0" b="0"/>
          <a:stretch/>
        </p:blipFill>
        <p:spPr>
          <a:xfrm>
            <a:off x="2643120" y="142920"/>
            <a:ext cx="4500720" cy="65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user\Desktop\Media Studies\Magazine front cover drafts\Drafts (28-02-2010)\Magazine draft (15-04-2010) cinematic.copy.jpg"/>
          <p:cNvPicPr/>
          <p:nvPr/>
        </p:nvPicPr>
        <p:blipFill>
          <a:blip r:embed="rId1"/>
          <a:stretch/>
        </p:blipFill>
        <p:spPr>
          <a:xfrm>
            <a:off x="2571840" y="285840"/>
            <a:ext cx="4174920" cy="63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user\Desktop\Media Studies\Magazine front cover drafts\Drafts (28-02-2010)\Sylvia Rogo-Magazine front cover-Cinematic, final draft (16-04-2010)addedAdd copy.jpg"/>
          <p:cNvPicPr/>
          <p:nvPr/>
        </p:nvPicPr>
        <p:blipFill>
          <a:blip r:embed="rId1"/>
          <a:srcRect l="6344" t="2243" r="3276" b="2463"/>
          <a:stretch/>
        </p:blipFill>
        <p:spPr>
          <a:xfrm>
            <a:off x="2571840" y="357120"/>
            <a:ext cx="40719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user\Desktop\Media Studies\Magazine front cover drafts\Drafts (28-02-2010)\SYLVIA ROGO-Final magazine front cover-Cinematic  (Edited).jpg"/>
          <p:cNvPicPr/>
          <p:nvPr/>
        </p:nvPicPr>
        <p:blipFill>
          <a:blip r:embed="rId1"/>
          <a:stretch/>
        </p:blipFill>
        <p:spPr>
          <a:xfrm>
            <a:off x="2643120" y="357120"/>
            <a:ext cx="411156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21:11:20Z</dcterms:created>
  <dc:creator> </dc:creator>
  <dc:description/>
  <dc:language>en-US</dc:language>
  <cp:lastModifiedBy> </cp:lastModifiedBy>
  <dcterms:modified xsi:type="dcterms:W3CDTF">2010-04-25T21:23:05Z</dcterms:modified>
  <cp:revision>2</cp:revision>
  <dc:subject/>
  <dc:title>Slide 1</dc:title>
</cp:coreProperties>
</file>