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26B-1F9F-4B26-8BB5-A95C7EBC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1478-AE7A-41BE-B29F-DC501C14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BEFA-1DAD-4EB2-8123-EDAC597D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8A4A-AC84-488A-A4DB-7EB812F4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6EAE-943C-4E5B-92D4-A5205F45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D22F-4A7E-4C2D-827F-89E56EF3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4DFF-A64C-4243-AE54-15B4F95B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F16B-6206-46FB-8DFE-3533B000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E2B-33BD-4DF8-A238-D7ED5289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E23-8491-4351-A3F7-C52EA6A9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7FEF-CEEC-4585-8604-BEF02C55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150-B8A2-44C5-AF90-25FA521F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F923-2E88-4D0B-AFFD-DC1B14E02BB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4320" y="2214360"/>
            <a:ext cx="5957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79646"/>
                </a:solidFill>
                <a:latin typeface="Calibri"/>
              </a:rPr>
              <a:t>Advanced portfolio original image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642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By Sylvia Rogo, Lydia Twimasi, Rory Ferr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00800" y="4000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ird sho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Pictures (The absolution-take 3)\GEDC0623.JPG"/>
          <p:cNvPicPr/>
          <p:nvPr/>
        </p:nvPicPr>
        <p:blipFill>
          <a:blip r:embed="rId1"/>
          <a:stretch/>
        </p:blipFill>
        <p:spPr>
          <a:xfrm>
            <a:off x="2500200" y="428760"/>
            <a:ext cx="40244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C:\Documents and Settings\user\Desktop\Media Studies\Pictures (The absolution-take 3)\GEDC0622.JPG"/>
          <p:cNvPicPr/>
          <p:nvPr/>
        </p:nvPicPr>
        <p:blipFill>
          <a:blip r:embed="rId1"/>
          <a:stretch/>
        </p:blipFill>
        <p:spPr>
          <a:xfrm>
            <a:off x="2500200" y="571680"/>
            <a:ext cx="413388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user\Desktop\Media Studies\Pictures (The absolution-take 3)\GEDC0624.JPG"/>
          <p:cNvPicPr/>
          <p:nvPr/>
        </p:nvPicPr>
        <p:blipFill>
          <a:blip r:embed="rId1"/>
          <a:stretch/>
        </p:blipFill>
        <p:spPr>
          <a:xfrm>
            <a:off x="2571840" y="500040"/>
            <a:ext cx="4143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Pictures (The absolution-take 3)\GEDC0616.JPG"/>
          <p:cNvPicPr/>
          <p:nvPr/>
        </p:nvPicPr>
        <p:blipFill>
          <a:blip r:embed="rId1"/>
          <a:stretch/>
        </p:blipFill>
        <p:spPr>
          <a:xfrm>
            <a:off x="2500200" y="785880"/>
            <a:ext cx="40719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23:50:36Z</dcterms:created>
  <dc:creator> </dc:creator>
  <dc:description/>
  <dc:language>en-US</dc:language>
  <cp:lastModifiedBy> </cp:lastModifiedBy>
  <dcterms:modified xsi:type="dcterms:W3CDTF">2010-04-23T00:02:48Z</dcterms:modified>
  <cp:revision>2</cp:revision>
  <dc:subject/>
  <dc:title>Advanced portfolio original images</dc:title>
</cp:coreProperties>
</file>