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15E8-5CA9-4F8C-8D91-CE86257F2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317D-84FC-40F0-8E6B-78F654AFF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EACF-5F01-45C9-B4EB-B5A59E9F1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2909-1DF0-4370-8137-5BAAE4F2C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2F99-CD2B-4E59-B514-7D8B7D622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8A29-6D6C-4042-A260-A2E823C4D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8DF6-8123-46F6-9275-C51FED47F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78D4-ECB4-4279-808B-2EA27A4CE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FE04-526E-4A8A-9D2E-66EC76671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BCAD-0D0C-42F1-954C-CD4C679E8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A67D-36B3-4FD3-A514-B7BAC604F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D429-6365-4903-B8C6-48FAA9C97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F1754-B6C1-4C30-A48E-2F3D9373D93E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14320" y="2214360"/>
            <a:ext cx="59576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f79646"/>
                </a:solidFill>
                <a:latin typeface="Calibri"/>
              </a:rPr>
              <a:t>Advanced portfolio original images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57200" y="36428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98989"/>
                </a:solidFill>
                <a:latin typeface="Calibri"/>
              </a:rPr>
              <a:t>By Sylvia Rogo, Lydia Twimasi, Rory Ferr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5500800" y="4000680"/>
            <a:ext cx="15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hird shoo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C:\Documents and Settings\user\Desktop\Media Studies\Pictures (The absolution-take 3)\GEDC0623.JPG"/>
          <p:cNvPicPr/>
          <p:nvPr/>
        </p:nvPicPr>
        <p:blipFill>
          <a:blip r:embed="rId1"/>
          <a:stretch/>
        </p:blipFill>
        <p:spPr>
          <a:xfrm>
            <a:off x="2500200" y="428760"/>
            <a:ext cx="4024440" cy="59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C:\Documents and Settings\user\Desktop\Media Studies\Pictures (The absolution-take 3)\GEDC0622.JPG"/>
          <p:cNvPicPr/>
          <p:nvPr/>
        </p:nvPicPr>
        <p:blipFill>
          <a:blip r:embed="rId1"/>
          <a:stretch/>
        </p:blipFill>
        <p:spPr>
          <a:xfrm>
            <a:off x="2500200" y="571680"/>
            <a:ext cx="4133880" cy="56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3" descr="C:\Documents and Settings\user\Desktop\Media Studies\Pictures (The absolution-take 3)\GEDC0624.JPG"/>
          <p:cNvPicPr/>
          <p:nvPr/>
        </p:nvPicPr>
        <p:blipFill>
          <a:blip r:embed="rId1"/>
          <a:stretch/>
        </p:blipFill>
        <p:spPr>
          <a:xfrm>
            <a:off x="2571840" y="500040"/>
            <a:ext cx="414324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C:\Documents and Settings\user\Desktop\Media Studies\Pictures (The absolution-take 3)\GEDC0616.JPG"/>
          <p:cNvPicPr/>
          <p:nvPr/>
        </p:nvPicPr>
        <p:blipFill>
          <a:blip r:embed="rId1"/>
          <a:stretch/>
        </p:blipFill>
        <p:spPr>
          <a:xfrm>
            <a:off x="2500200" y="785880"/>
            <a:ext cx="407196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2T23:50:36Z</dcterms:created>
  <dc:creator> </dc:creator>
  <dc:description/>
  <dc:language>en-US</dc:language>
  <cp:lastModifiedBy> </cp:lastModifiedBy>
  <dcterms:modified xsi:type="dcterms:W3CDTF">2010-04-23T00:02:48Z</dcterms:modified>
  <cp:revision>2</cp:revision>
  <dc:subject/>
  <dc:title>Advanced portfolio original images</dc:title>
</cp:coreProperties>
</file>