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3CF1-B5E3-4944-8010-13E8329A0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07B3-26D7-4365-B448-6489A70D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8F09-E64E-4BD0-BE0A-068F55D2D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CA93-98AA-4EC2-97C2-4E803B7F8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B2BE-079C-4EA2-BD71-CA42256B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EC1C-4977-4A1E-885B-10263299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2280-DC33-493F-BCE6-2C918FF7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A995-AD9D-4A06-ADF7-4D00B301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A184-A972-47F9-9491-5858640F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4351-817F-4F64-A010-31016290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8458-3CF2-49C3-BD10-3DA2C409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BD2F-F7C0-4178-A187-0F8D0409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5585-B102-473F-ABE6-CFFA51C953F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14320" y="2214360"/>
            <a:ext cx="5957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f79646"/>
                </a:solidFill>
                <a:latin typeface="Calibri"/>
              </a:rPr>
              <a:t>Advanced portfolio original images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3642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98989"/>
                </a:solidFill>
                <a:latin typeface="Calibri"/>
              </a:rPr>
              <a:t>By Sylvia Rogo, Lydia Twimasi, Rory Ferr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500800" y="40006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ird shoo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user\Desktop\Media Studies\Pictures (The absolution-take 3)\GEDC0623.JPG"/>
          <p:cNvPicPr/>
          <p:nvPr/>
        </p:nvPicPr>
        <p:blipFill>
          <a:blip r:embed="rId1"/>
          <a:stretch/>
        </p:blipFill>
        <p:spPr>
          <a:xfrm>
            <a:off x="2500200" y="428760"/>
            <a:ext cx="402444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C:\Documents and Settings\user\Desktop\Media Studies\Pictures (The absolution-take 3)\GEDC0622.JPG"/>
          <p:cNvPicPr/>
          <p:nvPr/>
        </p:nvPicPr>
        <p:blipFill>
          <a:blip r:embed="rId1"/>
          <a:stretch/>
        </p:blipFill>
        <p:spPr>
          <a:xfrm>
            <a:off x="2500200" y="571680"/>
            <a:ext cx="413388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C:\Documents and Settings\user\Desktop\Media Studies\Pictures (The absolution-take 3)\GEDC0624.JPG"/>
          <p:cNvPicPr/>
          <p:nvPr/>
        </p:nvPicPr>
        <p:blipFill>
          <a:blip r:embed="rId1"/>
          <a:stretch/>
        </p:blipFill>
        <p:spPr>
          <a:xfrm>
            <a:off x="2571840" y="500040"/>
            <a:ext cx="4143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user\Desktop\Media Studies\Pictures (The absolution-take 3)\GEDC0616.JPG"/>
          <p:cNvPicPr/>
          <p:nvPr/>
        </p:nvPicPr>
        <p:blipFill>
          <a:blip r:embed="rId1"/>
          <a:stretch/>
        </p:blipFill>
        <p:spPr>
          <a:xfrm>
            <a:off x="2500200" y="785880"/>
            <a:ext cx="40719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23:50:36Z</dcterms:created>
  <dc:creator> </dc:creator>
  <dc:description/>
  <dc:language>en-US</dc:language>
  <cp:lastModifiedBy> </cp:lastModifiedBy>
  <dcterms:modified xsi:type="dcterms:W3CDTF">2010-04-23T00:02:48Z</dcterms:modified>
  <cp:revision>2</cp:revision>
  <dc:subject/>
  <dc:title>Advanced portfolio original images</dc:title>
</cp:coreProperties>
</file>