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760-80C6-4F09-9A56-2DC9C37F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890-EA29-4A04-9AB9-840CC131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A8C-E094-410D-9CB5-64A063A1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268-3F36-4698-A943-EC51E82A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E6E-F646-4C8E-A380-09E8C138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5E9-709F-4126-830A-685E4D78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461-B073-48B8-A386-429164C0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F1A-3A33-4005-9E6C-BDE06D2F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625-C87D-44CC-B2CA-0388824A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DD0-8E41-4918-99B2-C0B6BDC9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036-B6BA-406D-9CCA-274F7030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CEA-1753-4313-89F7-8ADA7F5C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C3B2-E2D4-418B-8BFC-70560A74DC3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320" y="2214360"/>
            <a:ext cx="595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953735"/>
                </a:solidFill>
                <a:latin typeface="Calibri"/>
              </a:rPr>
              <a:t>Advanced portfolio original image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642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y Sylvia Rogo, Lydia Twimasi, Rory Fer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00800" y="4000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99694"/>
                </a:solidFill>
                <a:latin typeface="Calibri"/>
              </a:rPr>
              <a:t>second sho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ictures 2(28th january 2010\GEDC0534.JPG"/>
          <p:cNvPicPr/>
          <p:nvPr/>
        </p:nvPicPr>
        <p:blipFill>
          <a:blip r:embed="rId1"/>
          <a:stretch/>
        </p:blipFill>
        <p:spPr>
          <a:xfrm>
            <a:off x="2071800" y="1643040"/>
            <a:ext cx="2527200" cy="337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user\Desktop\Media Studies\Pictures 2(28th january 2010\GEDC0535.JPG"/>
          <p:cNvPicPr/>
          <p:nvPr/>
        </p:nvPicPr>
        <p:blipFill>
          <a:blip r:embed="rId2"/>
          <a:stretch/>
        </p:blipFill>
        <p:spPr>
          <a:xfrm>
            <a:off x="4857840" y="1714680"/>
            <a:ext cx="252720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Documents and Settings\user\Desktop\Media Studies\Pictures 2(28th january 2010\GEDC0545.JPG"/>
          <p:cNvPicPr/>
          <p:nvPr/>
        </p:nvPicPr>
        <p:blipFill>
          <a:blip r:embed="rId1"/>
          <a:stretch/>
        </p:blipFill>
        <p:spPr>
          <a:xfrm>
            <a:off x="2786040" y="1071720"/>
            <a:ext cx="378612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ictures 2(28th january 2010\GEDC0543.JPG"/>
          <p:cNvPicPr/>
          <p:nvPr/>
        </p:nvPicPr>
        <p:blipFill>
          <a:blip r:embed="rId1"/>
          <a:stretch/>
        </p:blipFill>
        <p:spPr>
          <a:xfrm>
            <a:off x="928800" y="164304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user\Desktop\Media Studies\Pictures 2(28th january 2010\GEDC0542.JPG"/>
          <p:cNvPicPr/>
          <p:nvPr/>
        </p:nvPicPr>
        <p:blipFill>
          <a:blip r:embed="rId2"/>
          <a:stretch/>
        </p:blipFill>
        <p:spPr>
          <a:xfrm>
            <a:off x="4214880" y="228600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user\Desktop\Media Studies\Pictures 2(28th january 2010\GEDC0540.JPG"/>
          <p:cNvPicPr/>
          <p:nvPr/>
        </p:nvPicPr>
        <p:blipFill>
          <a:blip r:embed="rId1"/>
          <a:srcRect l="0" t="11323" r="7508" b="0"/>
          <a:stretch/>
        </p:blipFill>
        <p:spPr>
          <a:xfrm>
            <a:off x="357120" y="1928880"/>
            <a:ext cx="2714760" cy="335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user\Desktop\Media Studies\Pictures 2(28th january 2010\GEDC0541.JPG"/>
          <p:cNvPicPr/>
          <p:nvPr/>
        </p:nvPicPr>
        <p:blipFill>
          <a:blip r:embed="rId2"/>
          <a:stretch/>
        </p:blipFill>
        <p:spPr>
          <a:xfrm>
            <a:off x="3357720" y="1928880"/>
            <a:ext cx="2627280" cy="335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user\Desktop\Media Studies\Pictures 2(28th january 2010\GEDC0539.JPG"/>
          <p:cNvPicPr/>
          <p:nvPr/>
        </p:nvPicPr>
        <p:blipFill>
          <a:blip r:embed="rId3"/>
          <a:stretch/>
        </p:blipFill>
        <p:spPr>
          <a:xfrm>
            <a:off x="6215040" y="1916280"/>
            <a:ext cx="252720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0:06:51Z</dcterms:created>
  <dc:creator> </dc:creator>
  <dc:description/>
  <dc:language>en-US</dc:language>
  <cp:lastModifiedBy> </cp:lastModifiedBy>
  <dcterms:modified xsi:type="dcterms:W3CDTF">2010-04-23T00:26:52Z</dcterms:modified>
  <cp:revision>2</cp:revision>
  <dc:subject/>
  <dc:title>Advanced portfolio original images</dc:title>
</cp:coreProperties>
</file>