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BD7AB-FE00-4C64-A4DB-109830368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A637E-2D59-4138-ADB3-01A778ABE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9CDFA-AE74-4FDB-99DE-C347FF11E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EDF9C-6ED8-455F-A0D3-FC8740C01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4ACC2-44AB-421A-84AD-8E345BA63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DE6C3-E298-4327-A651-D303DB04B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509EF-955F-42D2-8C35-20CEADB0D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974E8-072C-40C3-8C7A-0A5E317A5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1C16A-302C-4071-B635-0187A90E1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276E9-5076-4ECF-9630-EDCA4096D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2EDF0-A811-443C-B2C2-1C964AC6D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62441-FF17-43A6-BEEB-BAB14952C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5D388-3504-4D86-99B8-9EFFF410EC95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14320" y="2214360"/>
            <a:ext cx="595764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300" spc="-1" strike="noStrike">
                <a:solidFill>
                  <a:srgbClr val="953735"/>
                </a:solidFill>
                <a:latin typeface="Calibri"/>
              </a:rPr>
              <a:t>Advanced portfolio original images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57200" y="36428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alibri"/>
              </a:rPr>
              <a:t>By Sylvia Rogo, Lydia Twimasi, Rory Ferr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3"/>
          <p:cNvSpPr/>
          <p:nvPr/>
        </p:nvSpPr>
        <p:spPr>
          <a:xfrm>
            <a:off x="5500800" y="4000680"/>
            <a:ext cx="150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99694"/>
                </a:solidFill>
                <a:latin typeface="Calibri"/>
              </a:rPr>
              <a:t>second shoo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C:\Documents and Settings\user\Desktop\Media Studies\Pictures 2(28th january 2010\GEDC0534.JPG"/>
          <p:cNvPicPr/>
          <p:nvPr/>
        </p:nvPicPr>
        <p:blipFill>
          <a:blip r:embed="rId1"/>
          <a:stretch/>
        </p:blipFill>
        <p:spPr>
          <a:xfrm>
            <a:off x="2071800" y="1643040"/>
            <a:ext cx="2527200" cy="33703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3" descr="C:\Documents and Settings\user\Desktop\Media Studies\Pictures 2(28th january 2010\GEDC0535.JPG"/>
          <p:cNvPicPr/>
          <p:nvPr/>
        </p:nvPicPr>
        <p:blipFill>
          <a:blip r:embed="rId2"/>
          <a:stretch/>
        </p:blipFill>
        <p:spPr>
          <a:xfrm>
            <a:off x="4857840" y="1714680"/>
            <a:ext cx="2527200" cy="33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C:\Documents and Settings\user\Desktop\Media Studies\Pictures 2(28th january 2010\GEDC0545.JPG"/>
          <p:cNvPicPr/>
          <p:nvPr/>
        </p:nvPicPr>
        <p:blipFill>
          <a:blip r:embed="rId1"/>
          <a:stretch/>
        </p:blipFill>
        <p:spPr>
          <a:xfrm>
            <a:off x="2786040" y="1071720"/>
            <a:ext cx="3786120" cy="50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C:\Documents and Settings\user\Desktop\Media Studies\Pictures 2(28th january 2010\GEDC0543.JPG"/>
          <p:cNvPicPr/>
          <p:nvPr/>
        </p:nvPicPr>
        <p:blipFill>
          <a:blip r:embed="rId1"/>
          <a:stretch/>
        </p:blipFill>
        <p:spPr>
          <a:xfrm>
            <a:off x="928800" y="1643040"/>
            <a:ext cx="3071880" cy="40957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C:\Documents and Settings\user\Desktop\Media Studies\Pictures 2(28th january 2010\GEDC0542.JPG"/>
          <p:cNvPicPr/>
          <p:nvPr/>
        </p:nvPicPr>
        <p:blipFill>
          <a:blip r:embed="rId2"/>
          <a:stretch/>
        </p:blipFill>
        <p:spPr>
          <a:xfrm>
            <a:off x="4214880" y="2286000"/>
            <a:ext cx="3929040" cy="29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C:\Documents and Settings\user\Desktop\Media Studies\Pictures 2(28th january 2010\GEDC0540.JPG"/>
          <p:cNvPicPr/>
          <p:nvPr/>
        </p:nvPicPr>
        <p:blipFill>
          <a:blip r:embed="rId1"/>
          <a:srcRect l="0" t="11323" r="7508" b="0"/>
          <a:stretch/>
        </p:blipFill>
        <p:spPr>
          <a:xfrm>
            <a:off x="357120" y="1928880"/>
            <a:ext cx="2714760" cy="33573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" descr="C:\Documents and Settings\user\Desktop\Media Studies\Pictures 2(28th january 2010\GEDC0541.JPG"/>
          <p:cNvPicPr/>
          <p:nvPr/>
        </p:nvPicPr>
        <p:blipFill>
          <a:blip r:embed="rId2"/>
          <a:stretch/>
        </p:blipFill>
        <p:spPr>
          <a:xfrm>
            <a:off x="3357720" y="1928880"/>
            <a:ext cx="2627280" cy="33573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C:\Documents and Settings\user\Desktop\Media Studies\Pictures 2(28th january 2010\GEDC0539.JPG"/>
          <p:cNvPicPr/>
          <p:nvPr/>
        </p:nvPicPr>
        <p:blipFill>
          <a:blip r:embed="rId3"/>
          <a:stretch/>
        </p:blipFill>
        <p:spPr>
          <a:xfrm>
            <a:off x="6215040" y="1916280"/>
            <a:ext cx="2527200" cy="33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3T00:06:51Z</dcterms:created>
  <dc:creator> </dc:creator>
  <dc:description/>
  <dc:language>en-US</dc:language>
  <cp:lastModifiedBy> </cp:lastModifiedBy>
  <dcterms:modified xsi:type="dcterms:W3CDTF">2010-04-23T00:26:52Z</dcterms:modified>
  <cp:revision>2</cp:revision>
  <dc:subject/>
  <dc:title>Advanced portfolio original images</dc:title>
</cp:coreProperties>
</file>