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E70-0314-4966-8702-0D120F69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892-2DD4-44DF-944D-B4D52BD0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B0C-8D0B-4013-9609-530F839D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B522-2A48-4F63-8272-26DA72AC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EAD-E3B1-402D-B19B-46CBF3FB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660-CA11-4570-86BB-A750A223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7D7-F731-4938-BE1D-E9A304A4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73C-BEC8-4C81-BE87-B56B5EC7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ACE-2608-48AF-B4F8-BF8FC7E1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402-A318-4C90-A857-CA146259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88E3-56D1-4A11-A395-4E5EEB6F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A67-07C1-438A-814B-6567A27A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4E1D-1AC5-4878-AC33-87C6086D31B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320" y="2214360"/>
            <a:ext cx="595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79646"/>
                </a:solidFill>
                <a:latin typeface="Calibri"/>
              </a:rPr>
              <a:t>Advanced portfolio original image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642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By Sylvia Rogo, Lydia Twimasi, Rory Fer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00800" y="4000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ird sho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ictures (The absolution-take 3)\GEDC0623.JPG"/>
          <p:cNvPicPr/>
          <p:nvPr/>
        </p:nvPicPr>
        <p:blipFill>
          <a:blip r:embed="rId1"/>
          <a:stretch/>
        </p:blipFill>
        <p:spPr>
          <a:xfrm>
            <a:off x="2500200" y="428760"/>
            <a:ext cx="40244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:\Documents and Settings\user\Desktop\Media Studies\Pictures (The absolution-take 3)\GEDC0622.JPG"/>
          <p:cNvPicPr/>
          <p:nvPr/>
        </p:nvPicPr>
        <p:blipFill>
          <a:blip r:embed="rId1"/>
          <a:stretch/>
        </p:blipFill>
        <p:spPr>
          <a:xfrm>
            <a:off x="2500200" y="571680"/>
            <a:ext cx="413388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user\Desktop\Media Studies\Pictures (The absolution-take 3)\GEDC0624.JPG"/>
          <p:cNvPicPr/>
          <p:nvPr/>
        </p:nvPicPr>
        <p:blipFill>
          <a:blip r:embed="rId1"/>
          <a:stretch/>
        </p:blipFill>
        <p:spPr>
          <a:xfrm>
            <a:off x="2571840" y="500040"/>
            <a:ext cx="4143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ictures (The absolution-take 3)\GEDC0616.JPG"/>
          <p:cNvPicPr/>
          <p:nvPr/>
        </p:nvPicPr>
        <p:blipFill>
          <a:blip r:embed="rId1"/>
          <a:stretch/>
        </p:blipFill>
        <p:spPr>
          <a:xfrm>
            <a:off x="2500200" y="785880"/>
            <a:ext cx="40719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3:50:36Z</dcterms:created>
  <dc:creator> </dc:creator>
  <dc:description/>
  <dc:language>en-US</dc:language>
  <cp:lastModifiedBy> </cp:lastModifiedBy>
  <dcterms:modified xsi:type="dcterms:W3CDTF">2010-04-23T00:02:48Z</dcterms:modified>
  <cp:revision>2</cp:revision>
  <dc:subject/>
  <dc:title>Advanced portfolio original images</dc:title>
</cp:coreProperties>
</file>