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403-FE8E-4F08-A33F-E6289EB6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41B-7402-40B4-BEDB-EC640B20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CBB-6173-4585-90AC-BFE82F59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B2B-91FA-4540-8D82-617EC2B5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4A0-2D33-46CE-8C3D-F1B84CA4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E6E-A05F-4A14-BA0F-3F0173B8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596-2782-4875-AFAE-40600C1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97D-7824-4F3E-A0E2-E809D3C6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85D-BBE5-4F07-8A87-3606CCE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3BF-CE2C-45D3-AD7E-08495C1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82B-D769-45C7-837F-05C8712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3AC-0FF0-4914-8006-9DC19C1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506-F2B8-4380-955B-6A00DB665C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79646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ir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(The absolution-take 3)\GEDC0623.JPG"/>
          <p:cNvPicPr/>
          <p:nvPr/>
        </p:nvPicPr>
        <p:blipFill>
          <a:blip r:embed="rId1"/>
          <a:stretch/>
        </p:blipFill>
        <p:spPr>
          <a:xfrm>
            <a:off x="2500200" y="428760"/>
            <a:ext cx="4024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Documents and Settings\user\Desktop\Media Studies\Pictures (The absolution-take 3)\GEDC0622.JPG"/>
          <p:cNvPicPr/>
          <p:nvPr/>
        </p:nvPicPr>
        <p:blipFill>
          <a:blip r:embed="rId1"/>
          <a:stretch/>
        </p:blipFill>
        <p:spPr>
          <a:xfrm>
            <a:off x="2500200" y="571680"/>
            <a:ext cx="413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Desktop\Media Studies\Pictures (The absolution-take 3)\GEDC0624.JPG"/>
          <p:cNvPicPr/>
          <p:nvPr/>
        </p:nvPicPr>
        <p:blipFill>
          <a:blip r:embed="rId1"/>
          <a:stretch/>
        </p:blipFill>
        <p:spPr>
          <a:xfrm>
            <a:off x="2571840" y="500040"/>
            <a:ext cx="414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(The absolution-take 3)\GEDC0616.JPG"/>
          <p:cNvPicPr/>
          <p:nvPr/>
        </p:nvPicPr>
        <p:blipFill>
          <a:blip r:embed="rId1"/>
          <a:stretch/>
        </p:blipFill>
        <p:spPr>
          <a:xfrm>
            <a:off x="2500200" y="785880"/>
            <a:ext cx="4071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3:50:36Z</dcterms:created>
  <dc:creator> </dc:creator>
  <dc:description/>
  <dc:language>en-US</dc:language>
  <cp:lastModifiedBy> </cp:lastModifiedBy>
  <dcterms:modified xsi:type="dcterms:W3CDTF">2010-04-23T00:02:48Z</dcterms:modified>
  <cp:revision>2</cp:revision>
  <dc:subject/>
  <dc:title>Advanced portfolio original images</dc:title>
</cp:coreProperties>
</file>