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2A9-ED0F-448E-89E9-6979A04D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C87-CD49-49EF-92D8-60AAACB0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A26-FBD9-44CA-A902-32781FB3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111-4B02-4D51-9634-6A8BB191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817-B330-41E6-93FB-10E8B14A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E95C-BFAD-4580-8A04-2870CB47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C53-DCB6-4F74-8DBD-A4CB10BB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A52-6F27-47DE-8C73-47217F4E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B52-573C-485F-9CE9-A4847604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28B-63AE-4434-A7B1-40DA6DE9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C32-8070-4401-AEE8-33043604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077-C6FD-4820-B87A-6C618FFE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179E-4F51-4F34-95AA-CE64E04E510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320" y="2214360"/>
            <a:ext cx="595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953735"/>
                </a:solidFill>
                <a:latin typeface="Calibri"/>
              </a:rPr>
              <a:t>Advanced portfolio original image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642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y Sylvia Rogo, Lydia Twimasi, Rory Fer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00800" y="4000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99694"/>
                </a:solidFill>
                <a:latin typeface="Calibri"/>
              </a:rPr>
              <a:t>second sho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ictures 2(28th january 2010\GEDC0534.JPG"/>
          <p:cNvPicPr/>
          <p:nvPr/>
        </p:nvPicPr>
        <p:blipFill>
          <a:blip r:embed="rId1"/>
          <a:stretch/>
        </p:blipFill>
        <p:spPr>
          <a:xfrm>
            <a:off x="2071800" y="1643040"/>
            <a:ext cx="2527200" cy="337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user\Desktop\Media Studies\Pictures 2(28th january 2010\GEDC0535.JPG"/>
          <p:cNvPicPr/>
          <p:nvPr/>
        </p:nvPicPr>
        <p:blipFill>
          <a:blip r:embed="rId2"/>
          <a:stretch/>
        </p:blipFill>
        <p:spPr>
          <a:xfrm>
            <a:off x="4857840" y="1714680"/>
            <a:ext cx="252720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Documents and Settings\user\Desktop\Media Studies\Pictures 2(28th january 2010\GEDC0545.JPG"/>
          <p:cNvPicPr/>
          <p:nvPr/>
        </p:nvPicPr>
        <p:blipFill>
          <a:blip r:embed="rId1"/>
          <a:stretch/>
        </p:blipFill>
        <p:spPr>
          <a:xfrm>
            <a:off x="2786040" y="1071720"/>
            <a:ext cx="378612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ictures 2(28th january 2010\GEDC0543.JPG"/>
          <p:cNvPicPr/>
          <p:nvPr/>
        </p:nvPicPr>
        <p:blipFill>
          <a:blip r:embed="rId1"/>
          <a:stretch/>
        </p:blipFill>
        <p:spPr>
          <a:xfrm>
            <a:off x="928800" y="164304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user\Desktop\Media Studies\Pictures 2(28th january 2010\GEDC0542.JPG"/>
          <p:cNvPicPr/>
          <p:nvPr/>
        </p:nvPicPr>
        <p:blipFill>
          <a:blip r:embed="rId2"/>
          <a:stretch/>
        </p:blipFill>
        <p:spPr>
          <a:xfrm>
            <a:off x="4214880" y="228600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user\Desktop\Media Studies\Pictures 2(28th january 2010\GEDC0540.JPG"/>
          <p:cNvPicPr/>
          <p:nvPr/>
        </p:nvPicPr>
        <p:blipFill>
          <a:blip r:embed="rId1"/>
          <a:srcRect l="0" t="11323" r="7508" b="0"/>
          <a:stretch/>
        </p:blipFill>
        <p:spPr>
          <a:xfrm>
            <a:off x="357120" y="1928880"/>
            <a:ext cx="2714760" cy="335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user\Desktop\Media Studies\Pictures 2(28th january 2010\GEDC0541.JPG"/>
          <p:cNvPicPr/>
          <p:nvPr/>
        </p:nvPicPr>
        <p:blipFill>
          <a:blip r:embed="rId2"/>
          <a:stretch/>
        </p:blipFill>
        <p:spPr>
          <a:xfrm>
            <a:off x="3357720" y="1928880"/>
            <a:ext cx="2627280" cy="335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user\Desktop\Media Studies\Pictures 2(28th january 2010\GEDC0539.JPG"/>
          <p:cNvPicPr/>
          <p:nvPr/>
        </p:nvPicPr>
        <p:blipFill>
          <a:blip r:embed="rId3"/>
          <a:stretch/>
        </p:blipFill>
        <p:spPr>
          <a:xfrm>
            <a:off x="6215040" y="1916280"/>
            <a:ext cx="252720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0:06:51Z</dcterms:created>
  <dc:creator> </dc:creator>
  <dc:description/>
  <dc:language>en-US</dc:language>
  <cp:lastModifiedBy> </cp:lastModifiedBy>
  <dcterms:modified xsi:type="dcterms:W3CDTF">2010-04-23T00:26:52Z</dcterms:modified>
  <cp:revision>2</cp:revision>
  <dc:subject/>
  <dc:title>Advanced portfolio original images</dc:title>
</cp:coreProperties>
</file>