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E14-7A1A-47E8-8681-C726E827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ADA-19BB-457F-A641-24F8F2A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701-2C9B-4928-BE8E-4D2A98A3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4CB-99D6-4615-93B8-9508BFC3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C3B-7256-43D9-B734-E7B48749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14B-3860-4918-BDCA-CFBD99E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681-6584-49B9-9022-529CEC0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4AC-971F-40B8-B1D5-E69E56B4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FD5-3BD6-4650-A151-A6140625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965-CB00-4037-A53B-B23A186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8BC-36F2-45EF-9430-869A471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9F3-BC8B-46E1-B1FF-D749D0E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A0F-8981-4064-8AF9-B45C170AF4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9080" y="3571920"/>
            <a:ext cx="450072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ror poster draf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3360" y="3928680"/>
            <a:ext cx="28573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68400" y="23572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The Absolu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oster Drafts\Draft 2.jpg"/>
          <p:cNvPicPr/>
          <p:nvPr/>
        </p:nvPicPr>
        <p:blipFill>
          <a:blip r:embed="rId1"/>
          <a:stretch/>
        </p:blipFill>
        <p:spPr>
          <a:xfrm>
            <a:off x="250020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Poster Drafts\Sylvia Rogo-Film Poster Draft 1 (The Absolution).jpg"/>
          <p:cNvPicPr/>
          <p:nvPr/>
        </p:nvPicPr>
        <p:blipFill>
          <a:blip r:embed="rId1"/>
          <a:stretch/>
        </p:blipFill>
        <p:spPr>
          <a:xfrm>
            <a:off x="2214720" y="214200"/>
            <a:ext cx="447984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Poster Drafts\Sylvia Rogo-Film Poster Draft 2 (The Absolution).jpg"/>
          <p:cNvPicPr/>
          <p:nvPr/>
        </p:nvPicPr>
        <p:blipFill>
          <a:blip r:embed="rId1"/>
          <a:stretch/>
        </p:blipFill>
        <p:spPr>
          <a:xfrm>
            <a:off x="2428920" y="142920"/>
            <a:ext cx="4632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oster Drafts\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Sylvia Rogo-film poster- 'THE ABSOLUTION' Final draft.jpg"/>
          <p:cNvPicPr/>
          <p:nvPr/>
        </p:nvPicPr>
        <p:blipFill>
          <a:blip r:embed="rId1"/>
          <a:stretch/>
        </p:blipFill>
        <p:spPr>
          <a:xfrm>
            <a:off x="2500200" y="142920"/>
            <a:ext cx="4632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0:58:49Z</dcterms:created>
  <dc:creator> </dc:creator>
  <dc:description/>
  <dc:language>en-US</dc:language>
  <cp:lastModifiedBy> </cp:lastModifiedBy>
  <dcterms:modified xsi:type="dcterms:W3CDTF">2010-04-25T21:08:29Z</dcterms:modified>
  <cp:revision>1</cp:revision>
  <dc:subject/>
  <dc:title>Horror poster drafts </dc:title>
</cp:coreProperties>
</file>