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74F-4F99-4BE0-A434-A0FEB318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B18-A735-4581-881B-1692F0F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D40-A4B8-478A-8F29-85FCBF1E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3D6-CA13-41F7-B131-8B640E6E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E90-3534-4AA0-81DE-4B61A8A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3AB-A07B-42CD-B791-A941607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C2E-DAA6-455A-9201-4806130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850-F4B1-418D-83A8-BAF3E15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AFF-44C7-47C7-A30B-21695048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CD5-C1B7-452F-AFA3-F184F9D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4C8-58A1-47EE-A40E-3836BD7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DF6-0277-4023-AE48-54D91D1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F5CD-0076-435C-882F-63B3657BED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83200" y="242892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Cinemat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71880" y="3701880"/>
            <a:ext cx="4500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Film magazine front cover d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43720" y="39290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Magazine front cover drafts\Sylvia Rogo-Magazine front cover Draft 4.jpg"/>
          <p:cNvPicPr/>
          <p:nvPr/>
        </p:nvPicPr>
        <p:blipFill>
          <a:blip r:embed="rId1"/>
          <a:stretch/>
        </p:blipFill>
        <p:spPr>
          <a:xfrm>
            <a:off x="2357280" y="285840"/>
            <a:ext cx="4687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Magazine front cover drafts\Sylvia Rogo-Magazine front cover 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Magazine front cover drafts\Drafts (28-02-2010)\Sylvia Rogo-Final Magazine front cover (CINEMATIC).jpg"/>
          <p:cNvPicPr/>
          <p:nvPr/>
        </p:nvPicPr>
        <p:blipFill>
          <a:blip r:embed="rId1"/>
          <a:srcRect l="3078" t="0" r="0" b="0"/>
          <a:stretch/>
        </p:blipFill>
        <p:spPr>
          <a:xfrm>
            <a:off x="2643120" y="142920"/>
            <a:ext cx="45007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Magazine front cover drafts\Drafts (28-02-2010)\Magazine draft (15-04-2010) cinematic.copy.jpg"/>
          <p:cNvPicPr/>
          <p:nvPr/>
        </p:nvPicPr>
        <p:blipFill>
          <a:blip r:embed="rId1"/>
          <a:stretch/>
        </p:blipFill>
        <p:spPr>
          <a:xfrm>
            <a:off x="2571840" y="285840"/>
            <a:ext cx="4174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Magazine front cover drafts\Drafts (28-02-2010)\Sylvia Rogo-Magazine front cover-Cinematic, final draft (16-04-2010)addedAdd copy.jpg"/>
          <p:cNvPicPr/>
          <p:nvPr/>
        </p:nvPicPr>
        <p:blipFill>
          <a:blip r:embed="rId1"/>
          <a:srcRect l="6344" t="2243" r="3276" b="2463"/>
          <a:stretch/>
        </p:blipFill>
        <p:spPr>
          <a:xfrm>
            <a:off x="2571840" y="35712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Magazine front cover drafts\Drafts (28-02-2010)\SYLVIA ROGO-Final magazine front cover-Cinematic  (Edited).jpg"/>
          <p:cNvPicPr/>
          <p:nvPr/>
        </p:nvPicPr>
        <p:blipFill>
          <a:blip r:embed="rId1"/>
          <a:stretch/>
        </p:blipFill>
        <p:spPr>
          <a:xfrm>
            <a:off x="2643120" y="357120"/>
            <a:ext cx="411156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20Z</dcterms:created>
  <dc:creator> </dc:creator>
  <dc:description/>
  <dc:language>en-US</dc:language>
  <cp:lastModifiedBy> </cp:lastModifiedBy>
  <dcterms:modified xsi:type="dcterms:W3CDTF">2010-04-25T21:23:05Z</dcterms:modified>
  <cp:revision>2</cp:revision>
  <dc:subject/>
  <dc:title>Slide 1</dc:title>
</cp:coreProperties>
</file>