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706-A99F-45E0-AADF-937DC03A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BBF-141D-4146-8224-2C8AFD5B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F26-C6F4-4655-A8B5-40054605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02E-BB1F-4486-BF17-D31E6BF2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F91-B7E4-42AB-8948-2D07007B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F56-77FD-4365-BB50-2ADE7CF5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784-8003-420A-B0B3-6C74CE39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A9F-6544-46B8-8652-48726256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8CD-331B-4008-A3F7-84C3D561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909-477F-4ABD-BF6B-D4B5D8B0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142-6449-4286-B9BD-B1FF85EA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307-163E-49B8-B068-E5896AD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C448-91DF-4E6C-A616-4C278F815A1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383200" y="2428920"/>
            <a:ext cx="511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Cinemati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71880" y="3701880"/>
            <a:ext cx="4500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alibri"/>
              </a:rPr>
              <a:t>Film magazine front cover draf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643720" y="3929040"/>
            <a:ext cx="1785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Magazine front cover drafts\Sylvia Rogo-Magazine front cover Draft 4.jpg"/>
          <p:cNvPicPr/>
          <p:nvPr/>
        </p:nvPicPr>
        <p:blipFill>
          <a:blip r:embed="rId1"/>
          <a:stretch/>
        </p:blipFill>
        <p:spPr>
          <a:xfrm>
            <a:off x="2357280" y="285840"/>
            <a:ext cx="46879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Magazine front cover drafts\Sylvia Rogo-Magazine front cover 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Magazine front cover drafts\Drafts (28-02-2010)\Sylvia Rogo-Final Magazine front cover (CINEMATIC).jpg"/>
          <p:cNvPicPr/>
          <p:nvPr/>
        </p:nvPicPr>
        <p:blipFill>
          <a:blip r:embed="rId1"/>
          <a:srcRect l="3078" t="0" r="0" b="0"/>
          <a:stretch/>
        </p:blipFill>
        <p:spPr>
          <a:xfrm>
            <a:off x="2643120" y="142920"/>
            <a:ext cx="450072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Magazine front cover drafts\Drafts (28-02-2010)\Magazine draft (15-04-2010) cinematic.copy.jpg"/>
          <p:cNvPicPr/>
          <p:nvPr/>
        </p:nvPicPr>
        <p:blipFill>
          <a:blip r:embed="rId1"/>
          <a:stretch/>
        </p:blipFill>
        <p:spPr>
          <a:xfrm>
            <a:off x="2571840" y="285840"/>
            <a:ext cx="41749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Magazine front cover drafts\Drafts (28-02-2010)\Sylvia Rogo-Magazine front cover-Cinematic, final draft (16-04-2010)addedAdd copy.jpg"/>
          <p:cNvPicPr/>
          <p:nvPr/>
        </p:nvPicPr>
        <p:blipFill>
          <a:blip r:embed="rId1"/>
          <a:srcRect l="6344" t="2243" r="3276" b="2463"/>
          <a:stretch/>
        </p:blipFill>
        <p:spPr>
          <a:xfrm>
            <a:off x="2571840" y="357120"/>
            <a:ext cx="4071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Magazine front cover drafts\Drafts (28-02-2010)\SYLVIA ROGO-Final magazine front cover-Cinematic  (Edited).jpg"/>
          <p:cNvPicPr/>
          <p:nvPr/>
        </p:nvPicPr>
        <p:blipFill>
          <a:blip r:embed="rId1"/>
          <a:stretch/>
        </p:blipFill>
        <p:spPr>
          <a:xfrm>
            <a:off x="2643120" y="357120"/>
            <a:ext cx="411156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1:11:20Z</dcterms:created>
  <dc:creator> </dc:creator>
  <dc:description/>
  <dc:language>en-US</dc:language>
  <cp:lastModifiedBy> </cp:lastModifiedBy>
  <dcterms:modified xsi:type="dcterms:W3CDTF">2010-04-25T21:23:05Z</dcterms:modified>
  <cp:revision>2</cp:revision>
  <dc:subject/>
  <dc:title>Slide 1</dc:title>
</cp:coreProperties>
</file>