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D4E-E20F-4CD9-8DF1-6B85D624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C393-155C-42AF-9B71-4A625AC5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DD6-6242-4BD6-8D64-F1677043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3C0F-32CC-47E7-AFA3-EE641CA4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2F92-928A-4CE1-9A75-9D3286F6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C41-4068-4A66-8EFA-2C7CE2C2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3D81-44B1-4E00-8270-00D17A55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605-7300-497E-969D-43C5F09A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799-1FE9-40C9-AC2E-8B3F7A8A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046-E20B-4277-819A-569191B7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833D-2D64-46C3-9F85-A73017A6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E0C-AC68-48B4-BE08-DF82E804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CE46-8E0B-4400-8259-12D0109B8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643880" cy="29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24212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8600" y="333360"/>
            <a:ext cx="6378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40" y="44280"/>
            <a:ext cx="66312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39448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28496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22:05:33Z</dcterms:created>
  <dc:creator>Doug</dc:creator>
  <dc:description/>
  <dc:language>en-US</dc:language>
  <cp:lastModifiedBy>Doug</cp:lastModifiedBy>
  <dcterms:modified xsi:type="dcterms:W3CDTF">2010-04-23T22:06:46Z</dcterms:modified>
  <cp:revision>1</cp:revision>
  <dc:subject/>
  <dc:title>Story board</dc:title>
</cp:coreProperties>
</file>