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DA9-8B68-4F3C-B639-66873A27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826-A0D1-4834-9C6E-B4392D6A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F89-BE8F-4CD8-B81D-03C6F98F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882-9FA2-4DE1-8353-9C42CBFE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FB5-74C9-4FF3-8841-6177A0DE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D8E-4F62-4932-B5DD-8F79278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15D-59BE-4A1B-B18E-38E7EDB5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3B1-D2F9-415E-9A57-61FB314D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F48-5A35-476B-AE23-87958994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77F-6D76-43BE-9E08-76C1C57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123-51AB-4521-861C-5FBB930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617-DBED-4E4F-B1D1-84D0BEA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F91F-5B9F-4176-B704-3458B1AD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438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2421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8600" y="333360"/>
            <a:ext cx="6378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40" y="44280"/>
            <a:ext cx="66312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39448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8496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2:05:33Z</dcterms:created>
  <dc:creator>Doug</dc:creator>
  <dc:description/>
  <dc:language>en-US</dc:language>
  <cp:lastModifiedBy>Doug</cp:lastModifiedBy>
  <dcterms:modified xsi:type="dcterms:W3CDTF">2010-04-23T22:06:46Z</dcterms:modified>
  <cp:revision>1</cp:revision>
  <dc:subject/>
  <dc:title>Story board</dc:title>
</cp:coreProperties>
</file>