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448-C7B5-4F60-B4B6-01C10A55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FBC-7A70-49B7-9EB4-D8CD91DF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DA8-7204-4543-AB55-77B51EAE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A48-C7C7-4809-80D4-6B216A83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2EE-3CEF-4B4F-B9C9-F5B2322C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902-2B7F-489C-916D-F2E6DBAC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7E7-DA7D-4B9A-B13B-57103E3C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374-F3A7-436F-8982-80D0C483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744-7C75-4DD6-B8E6-7A60A688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E8C-5E48-4416-AF4F-A60B6DA7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56A-6C19-41C6-BA8A-7565725D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C8F0-7B34-496A-AAAC-B1B7A78F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CB7C-C2E9-4104-BABB-39D672DE9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64388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2421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8600" y="333360"/>
            <a:ext cx="6378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40" y="44280"/>
            <a:ext cx="66312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39448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8496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22:05:33Z</dcterms:created>
  <dc:creator>Doug</dc:creator>
  <dc:description/>
  <dc:language>en-US</dc:language>
  <cp:lastModifiedBy>Doug</cp:lastModifiedBy>
  <dcterms:modified xsi:type="dcterms:W3CDTF">2010-04-23T22:06:46Z</dcterms:modified>
  <cp:revision>1</cp:revision>
  <dc:subject/>
  <dc:title>Story board</dc:title>
</cp:coreProperties>
</file>