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6DE-728F-40ED-B14F-09040957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BA2-6EB0-4652-99CB-A852FD58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8F0-6868-43F1-A0E0-4CF791A8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613-503E-40ED-80A1-A24157EF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967-DEDC-4444-9E99-8EDD5C86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627-C1A7-4D25-9707-DBDEE501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F18-A0FC-4F92-91D0-C6A77029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CC3-D078-4346-A715-01B73D90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9E4-0FC8-4C0C-A45C-4ADA8C9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A49-1A8C-4C7D-9F24-11363260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7F1-B7C9-4DCD-B644-FD2231F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BA2-EB56-498C-BFE9-7DA0D56D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29BB-BF00-46B3-A43D-1979E766E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438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2421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8600" y="333360"/>
            <a:ext cx="6378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40" y="44280"/>
            <a:ext cx="66312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39448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8496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2:05:33Z</dcterms:created>
  <dc:creator>Doug</dc:creator>
  <dc:description/>
  <dc:language>en-US</dc:language>
  <cp:lastModifiedBy>Doug</cp:lastModifiedBy>
  <dcterms:modified xsi:type="dcterms:W3CDTF">2010-04-23T22:06:46Z</dcterms:modified>
  <cp:revision>1</cp:revision>
  <dc:subject/>
  <dc:title>Story board</dc:title>
</cp:coreProperties>
</file>