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C49FF-1DB9-40BF-820D-C0D235F76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E969F-2142-452E-9795-9E731973F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7869E-2E09-4AFE-9D32-B00ECECF6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28C3D-61E2-43CB-A4AB-2477404F8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C9094-F88A-415F-AE7D-0114B8A41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4FC70-BD15-491D-948B-679B29FA3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9C5C3-6470-4085-940C-4435515D2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CA277-52AF-401F-A8F8-CFE3BF01F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78CEA-A9A1-44F9-9D86-4A388B4D2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74D53-D12E-4B0F-AFD9-8120C4E4E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32848-5343-4588-B552-E67E8845C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295DE-9112-43B1-81AE-CC7C981CD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55910-C49E-41A2-8C8C-A03534CD5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510A0-0A2D-452D-B979-4DF2D84EE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D4CE4-69C0-4A0A-974A-843573AB1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82147-D76B-4D52-9DC8-3C70B878D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32A2B-7075-40A6-8491-A84C1F395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91A53A5-9DE2-4F10-A397-81F7B073D6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59E144-4368-409B-BE59-B8E07D3C5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4891F43-A86D-434C-87D2-7B671D3E10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E258EB-1540-4F6E-9997-E592A3E30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EDCB4E-184F-4559-9B24-EB75E653D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3AE69-995B-4EAE-922D-615A9CA5A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ED17B47-7A02-48E5-A41F-EEDEE5F61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5A8D61-018C-4ADF-BBBE-C42F7D7F8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1E1D5A-2A3A-43B1-95AC-EC2079590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2E8F8B-A895-4115-B314-CEED699C2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E50620-300B-4B76-A206-9782ABDCC9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D035CA5-BF73-40DF-BDE7-CECB9939E7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7AECBAB-71FB-4289-AA51-11B83C0DB2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DEF1F55-A08C-4496-AA2E-0EFBA13CAC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609F26-F802-480A-824F-8BE78C17AD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91B8271-8932-48FC-B905-2D7086F510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AA389-6621-4743-A325-99F02551E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0DE70E-866E-4E58-9EB7-6766EE1943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F3E04B-9ED0-4A30-8C89-A7044D399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26781A-76E6-49ED-AD03-FFF5709876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63BA694-C00A-46DE-8F33-ABCAC553A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372F82-C307-4427-A201-1D1FCB9A9A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E1950D-C09D-4ECA-B4EF-90D690221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83C293D-9FD9-4B1F-8A2B-B1A59EC63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9252A7E-E1B4-4625-A0F2-A82214EFB6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1CACE78-7A74-4BD7-8E4C-FA04D1FA75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5CF8C74-2655-4A85-8FDC-D43C6D62FA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C820B-F5E6-4B58-AC46-89DB8A291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A98D6E8-7D5F-4E54-9A09-B13E294F0F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CB9046-7B0D-4DE6-A902-A6F750ED77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6403E0-874E-4B51-9E12-D5C6658D4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1EEE25-4D61-42E4-81AA-5323F7970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4C2B2B5-3986-4FC7-8B2B-0EE0C7CD0F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CDD6E0-FA0B-4BEA-BDCC-A99E0ABB0F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A67E1D-B91D-47FA-A2F4-EEB23320D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8CA71B-F61C-446A-9960-8F11BEA125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AB6292-AE25-438B-A5CF-C18606246C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7DE498-97F8-43F0-8409-EDD2FD9713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E896E-B9EA-4B4C-98C6-F7FBC0CCB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86CD1B-1A8F-4BB1-BE25-97DD845DD2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6E2EA5-EA4E-4CCE-858F-F0C2ECB3ED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1E431E-EAAB-4925-82FC-B174DD944C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FC6A7-A5DB-4BE3-91E1-64129D27E9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31257-809B-4F90-BCD9-4F8CCB67F0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3A299-127C-4168-8412-8D85402F3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80EB53-0D18-416C-8B28-AC9664CB1A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242E76-0534-4DA5-B0FA-784EF8FAA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61201-37FA-4409-B244-698AA888A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4BD04-AB3D-493D-A752-2EDE8A4DB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1079C-3142-4A85-AF58-8D27F0D92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1AF065-ADB4-48D3-ABAC-3C3B40AC63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072B0E-85EB-4550-9518-4AFFF76061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D63C74-1288-4F66-A290-56462A3EB6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4F75596-5F77-401A-BD59-3F87480507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020E668-923B-4143-B62D-C4D51E82C2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6B76DC6-3880-46DA-AB61-D54E5799B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E92583F-4923-4C05-A533-14860E770C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4E75113-FFA2-43A4-899F-CF7E15CED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BB14F23-6815-414D-A32D-DC7E24BFC0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3C2E96-A034-435A-9DCC-A95DC7031E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5EB70-70A9-4243-9476-080C6618D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0B1B53-2625-4EAB-A4CC-FB35E7024D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D708F0C-5AC6-409B-8746-1328B13BE8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4B3CF12-2206-495D-AD5A-A8F440B1F0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A9E034D-5F7B-4304-9726-05CA90FA04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3CBDF5E-478A-4587-AC90-7250AA7CD9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FDB79C-8CB2-45D4-9DCF-E1EF43F9B5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E72225-7FDF-41C5-AF29-F52B064AF0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02DAC5-0C06-4F74-ACB0-9F77632879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B07D66-8155-4886-8D1F-EC29ED1F67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21BB4F-7B55-41EC-A13B-01EFE884C1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7F27-4727-49E5-B9CA-0194F479D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51B2AE-25AE-438D-93A4-5EF905B043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18A8FB-82F6-4AF1-85A2-BA0AEE1096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4A092-9D8C-45F4-9E0B-ADB20745C0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19380D-A4F3-4C7C-9BA3-A8B0866857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8CBA9D-9DA1-4CD2-824C-B2C7707EFD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2D2C89-F27C-4B6A-A027-F1772D45B7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EBA139-7A36-4423-85CA-2354A537059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C81F-7630-4210-A1A5-425220211C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B52F-92F8-45C8-97D3-BADB33227C4A}"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67E8-B32C-4AAA-B3D4-BF48463650A5}"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F154-D729-40D5-9B5A-90E15B89D55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6FD3-0323-4534-A3A3-4540A3CFCF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B020-129C-4AF2-BF32-46D4EB7C7CE8}"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9977-F9C8-47B4-9770-C2F822F2F2D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CB7A-6911-42C8-8C36-4AA69B3B91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mdb.com/video/imdb/vi3216048409/"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Arial Narrow"/>
              </a:rPr>
              <a:t>SEMINAR PRESEMNTATION</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Text Box 4"/>
          <p:cNvSpPr/>
          <p:nvPr/>
        </p:nvSpPr>
        <p:spPr>
          <a:xfrm>
            <a:off x="5786280" y="6143760"/>
            <a:ext cx="285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y Chanelle Asm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TINUED …</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appeared on 50 critics' top ten lists of the best films of 2007.</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nd - Carrie Rickey, </a:t>
            </a:r>
            <a:r>
              <a:rPr b="0" i="1" lang="en-US" sz="1800" spc="-1" strike="noStrike">
                <a:solidFill>
                  <a:srgbClr val="000000"/>
                </a:solidFill>
                <a:latin typeface="Arial Narrow"/>
              </a:rPr>
              <a:t>The Philadelphia Inquirer</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Richard Roeper, At the Movies with Ebert &amp; Roeper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Stephen Hunter, </a:t>
            </a:r>
            <a:r>
              <a:rPr b="0" i="1" lang="en-US" sz="1800" spc="-1" strike="noStrike">
                <a:solidFill>
                  <a:srgbClr val="000000"/>
                </a:solidFill>
                <a:latin typeface="Arial Narrow"/>
              </a:rPr>
              <a:t>The Washington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David Germain, Associated Press</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Peter Travers, </a:t>
            </a:r>
            <a:r>
              <a:rPr b="0" i="1" lang="en-US" sz="1800" spc="-1" strike="noStrike">
                <a:solidFill>
                  <a:srgbClr val="000000"/>
                </a:solidFill>
                <a:latin typeface="Arial Narrow"/>
              </a:rPr>
              <a:t>Rolling Stone</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th - Lou Lumenick, </a:t>
            </a:r>
            <a:r>
              <a:rPr b="0" i="1" lang="en-US" sz="1800" spc="-1" strike="noStrike">
                <a:solidFill>
                  <a:srgbClr val="000000"/>
                </a:solidFill>
                <a:latin typeface="Arial Narrow"/>
              </a:rPr>
              <a:t>New York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8th - Rene Rodriguez, </a:t>
            </a:r>
            <a:r>
              <a:rPr b="0" i="1" lang="en-US" sz="1800" spc="-1" strike="noStrike">
                <a:solidFill>
                  <a:srgbClr val="000000"/>
                </a:solidFill>
                <a:latin typeface="Arial Narrow"/>
              </a:rPr>
              <a:t>The Miami Herald</a:t>
            </a:r>
            <a:r>
              <a:rPr b="0" lang="en-US" sz="1800" spc="-1" strike="noStrike">
                <a:solidFill>
                  <a:srgbClr val="000000"/>
                </a:solidFill>
                <a:latin typeface="Arial Narrow"/>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WARDS &amp;&amp; NOMINATIONS</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was put forward for a total 18 nominations.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ut of these nominations, the wins include Best supporting Actress (Ruby Dee) from the African American Film Critics.</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st Editing from the Satellite Awards and Outstanding performance by a female actor in a supporting role (Ruby Dee)</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83" name="Picture 5" descr="oscars%2Bwhite"/>
          <p:cNvPicPr/>
          <p:nvPr/>
        </p:nvPicPr>
        <p:blipFill>
          <a:blip r:embed="rId1"/>
          <a:stretch/>
        </p:blipFill>
        <p:spPr>
          <a:xfrm>
            <a:off x="7308720" y="4653000"/>
            <a:ext cx="12668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SIC PLOT</a:t>
            </a:r>
            <a:endParaRPr b="0" lang="en-US" sz="4400" spc="-1" strike="noStrike">
              <a:solidFill>
                <a:srgbClr val="775f55"/>
              </a:solidFill>
              <a:latin typeface="Tw Cen MT"/>
            </a:endParaRPr>
          </a:p>
        </p:txBody>
      </p:sp>
      <p:sp>
        <p:nvSpPr>
          <p:cNvPr id="353" name=""/>
          <p:cNvSpPr txBox="1"/>
          <p:nvPr/>
        </p:nvSpPr>
        <p:spPr>
          <a:xfrm>
            <a:off x="856800" y="2071800"/>
            <a:ext cx="481356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scar winners Denzel Washington and Russell Crowe, Brian Grazer, Steve Zaillian and director Ridley Scott team to tell the true success story of a cult hero from the streets of 1970s Harlem in American Gangster .</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 American Gangster , Frank Lucas (Denzel Washington) is the quiet, often unnoticed driver for one of the inner city’s leading black crime bosses. When his boss suddenly dies, Frank exploits the opening in the power structure to build his own empire and create his own version of the American Dream.</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rough originality and a strict business ethic, he comes to rule the inner-city drug trade. Lucas outplays all of the leading crime associations and becomes not only one of the city’s mainline corrupters, but part of its circle of legit civic superstars.</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merican Gangster’s Richie Roberts (Russell Crowe) is an outcast cop close enough to the streets to feel a shift of control in the drug underworld. Roberts believes someone is climbing the rungs above the known Mafia families and starts to suspect that a black power player has come from nowhere to dominate the scene.</a:t>
            </a:r>
            <a:endParaRPr b="0" lang="en-US" sz="1600" spc="-1" strike="noStrike">
              <a:solidFill>
                <a:srgbClr val="000000"/>
              </a:solidFill>
              <a:latin typeface="Tw Cen MT"/>
            </a:endParaRPr>
          </a:p>
        </p:txBody>
      </p:sp>
      <p:pic>
        <p:nvPicPr>
          <p:cNvPr id="354" name="Picture 5" descr="lucas"/>
          <p:cNvPicPr/>
          <p:nvPr/>
        </p:nvPicPr>
        <p:blipFill>
          <a:blip r:embed="rId1"/>
          <a:stretch/>
        </p:blipFill>
        <p:spPr>
          <a:xfrm>
            <a:off x="5796000" y="2852640"/>
            <a:ext cx="2657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Arial Narrow"/>
              </a:rPr>
              <a:t>TRAIL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 </a:t>
            </a:r>
            <a:r>
              <a:rPr b="0" lang="en-US" sz="2900" spc="-1" strike="noStrike" u="sng">
                <a:solidFill>
                  <a:srgbClr val="f7b615"/>
                </a:solidFill>
                <a:uFillTx/>
                <a:latin typeface="Arial Narrow"/>
                <a:hlinkClick r:id="rId1"/>
              </a:rPr>
              <a:t>http://www.imdb.com/video/imdb/vi3216048409/</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is 1 minute 56 seconds long, packed with various scenes, enough to catch the attention of the target audience but does not reveal too much information.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gives cues about the type of genre it is through the cinematography and mise-en-scene.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ST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7" descr="AmericanGangsterPoster"/>
          <p:cNvPicPr/>
          <p:nvPr/>
        </p:nvPicPr>
        <p:blipFill>
          <a:blip r:embed="rId1"/>
          <a:stretch/>
        </p:blipFill>
        <p:spPr>
          <a:xfrm>
            <a:off x="3348000" y="2349360"/>
            <a:ext cx="2376360" cy="3538800"/>
          </a:xfrm>
          <a:prstGeom prst="rect">
            <a:avLst/>
          </a:prstGeom>
          <a:ln w="0">
            <a:noFill/>
          </a:ln>
        </p:spPr>
      </p:pic>
      <p:pic>
        <p:nvPicPr>
          <p:cNvPr id="360" name="Picture 9" descr="american-gangster-poster-1"/>
          <p:cNvPicPr/>
          <p:nvPr/>
        </p:nvPicPr>
        <p:blipFill>
          <a:blip r:embed="rId2"/>
          <a:stretch/>
        </p:blipFill>
        <p:spPr>
          <a:xfrm>
            <a:off x="826920" y="2421000"/>
            <a:ext cx="2376720" cy="3529080"/>
          </a:xfrm>
          <a:prstGeom prst="rect">
            <a:avLst/>
          </a:prstGeom>
          <a:ln w="0">
            <a:noFill/>
          </a:ln>
        </p:spPr>
      </p:pic>
      <p:pic>
        <p:nvPicPr>
          <p:cNvPr id="361" name="Picture 11" descr="poster_american-gangster"/>
          <p:cNvPicPr/>
          <p:nvPr/>
        </p:nvPicPr>
        <p:blipFill>
          <a:blip r:embed="rId3"/>
          <a:stretch/>
        </p:blipFill>
        <p:spPr>
          <a:xfrm>
            <a:off x="6084720" y="242100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o sell lin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all three posters the heads of the cast is cut of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lack and white. Aspects of re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trasting colour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tagonist is wearing black while the protagonist is wearing whit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blac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whit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GAZINES</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ire devoted 50 pages </a:t>
            </a:r>
            <a:endParaRPr b="0" lang="en-US" sz="2900" spc="-1" strike="noStrike">
              <a:solidFill>
                <a:srgbClr val="000000"/>
              </a:solidFill>
              <a:latin typeface="Tw Cen MT"/>
            </a:endParaRPr>
          </a:p>
        </p:txBody>
      </p:sp>
      <p:sp>
        <p:nvSpPr>
          <p:cNvPr id="36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7" name="Picture 8" descr="logo_australian_empire"/>
          <p:cNvPicPr/>
          <p:nvPr/>
        </p:nvPicPr>
        <p:blipFill>
          <a:blip r:embed="rId1"/>
          <a:srcRect l="0" t="22682" r="-1649" b="13822"/>
          <a:stretch/>
        </p:blipFill>
        <p:spPr>
          <a:xfrm rot="19652400">
            <a:off x="642960" y="4314600"/>
            <a:ext cx="3024000" cy="879480"/>
          </a:xfrm>
          <a:prstGeom prst="rect">
            <a:avLst/>
          </a:prstGeom>
          <a:ln w="0">
            <a:noFill/>
          </a:ln>
        </p:spPr>
      </p:pic>
      <p:pic>
        <p:nvPicPr>
          <p:cNvPr id="368" name="Picture 10" descr="AG_EMPIRE_COVER"/>
          <p:cNvPicPr/>
          <p:nvPr/>
        </p:nvPicPr>
        <p:blipFill>
          <a:blip r:embed="rId2"/>
          <a:stretch/>
        </p:blipFill>
        <p:spPr>
          <a:xfrm>
            <a:off x="5651640" y="2349360"/>
            <a:ext cx="2838240" cy="372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SO IN WORKS EXTRA1, METRO AND SHORT LIST UK</a:t>
            </a:r>
            <a:endParaRPr b="0" lang="en-US" sz="2900" spc="-1" strike="noStrike">
              <a:solidFill>
                <a:srgbClr val="000000"/>
              </a:solidFill>
              <a:latin typeface="Tw Cen MT"/>
            </a:endParaRPr>
          </a:p>
        </p:txBody>
      </p:sp>
      <p:pic>
        <p:nvPicPr>
          <p:cNvPr id="371" name="Picture 5" descr="ag_film-review_01"/>
          <p:cNvPicPr/>
          <p:nvPr/>
        </p:nvPicPr>
        <p:blipFill>
          <a:blip r:embed="rId1"/>
          <a:stretch/>
        </p:blipFill>
        <p:spPr>
          <a:xfrm>
            <a:off x="6227640" y="3429000"/>
            <a:ext cx="2571840" cy="3429000"/>
          </a:xfrm>
          <a:prstGeom prst="rect">
            <a:avLst/>
          </a:prstGeom>
          <a:ln w="0">
            <a:noFill/>
          </a:ln>
        </p:spPr>
      </p:pic>
      <p:pic>
        <p:nvPicPr>
          <p:cNvPr id="372" name="Picture 9" descr="AG_shortlist_01"/>
          <p:cNvPicPr/>
          <p:nvPr/>
        </p:nvPicPr>
        <p:blipFill>
          <a:blip r:embed="rId2"/>
          <a:stretch/>
        </p:blipFill>
        <p:spPr>
          <a:xfrm>
            <a:off x="1116000" y="3429000"/>
            <a:ext cx="2592360" cy="3429000"/>
          </a:xfrm>
          <a:prstGeom prst="rect">
            <a:avLst/>
          </a:prstGeom>
          <a:ln w="0">
            <a:noFill/>
          </a:ln>
        </p:spPr>
      </p:pic>
      <p:pic>
        <p:nvPicPr>
          <p:cNvPr id="373" name="Picture 11" descr="ag_art_01"/>
          <p:cNvPicPr/>
          <p:nvPr/>
        </p:nvPicPr>
        <p:blipFill>
          <a:blip r:embed="rId3"/>
          <a:stretch/>
        </p:blipFill>
        <p:spPr>
          <a:xfrm>
            <a:off x="3851280" y="3357720"/>
            <a:ext cx="2286000" cy="35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usic</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nzel Washington originally pressed for film producer Brian Grazer to have rapper and Def Jam president Jay-Z compile a soundtrack for the film, but Grazer and director Ridley Scott resisted because they wanted an authentic 1970s feel to the film. As a result, only two new vocal songs, both done by soul singer Anthony Hamilton's in a 1970s style, were recorded for the film. "Heart of the City (Ain't No Love)", a Jay-Z song from his 2001 album </a:t>
            </a:r>
            <a:r>
              <a:rPr b="0" i="1" lang="en-US" sz="1600" spc="-1" strike="noStrike">
                <a:solidFill>
                  <a:srgbClr val="000000"/>
                </a:solidFill>
                <a:latin typeface="Arial Narrow"/>
              </a:rPr>
              <a:t>The Blueprint</a:t>
            </a:r>
            <a:r>
              <a:rPr b="0" lang="en-US" sz="1600" spc="-1" strike="noStrike">
                <a:solidFill>
                  <a:srgbClr val="000000"/>
                </a:solidFill>
                <a:latin typeface="Arial Narrow"/>
              </a:rPr>
              <a:t>, was included in the film's trailer. Instead of directly recording for the film, Jay-Z released an album inspired by the film, similarly titled </a:t>
            </a:r>
            <a:r>
              <a:rPr b="0" i="1" lang="en-US" sz="1600" spc="-1" strike="noStrike">
                <a:solidFill>
                  <a:srgbClr val="000000"/>
                </a:solidFill>
                <a:latin typeface="Arial Narrow"/>
              </a:rPr>
              <a:t>American Gangster</a:t>
            </a:r>
            <a:r>
              <a:rPr b="0" lang="en-US" sz="1600" spc="-1" strike="noStrike">
                <a:solidFill>
                  <a:srgbClr val="000000"/>
                </a:solidFill>
                <a:latin typeface="Arial Narrow"/>
              </a:rPr>
              <a:t>, in conjunction with the release of the film </a:t>
            </a:r>
            <a:endParaRPr b="0" lang="en-US" sz="1600" spc="-1" strike="noStrike">
              <a:solidFill>
                <a:srgbClr val="000000"/>
              </a:solidFill>
              <a:latin typeface="Tw Cen MT"/>
            </a:endParaRPr>
          </a:p>
        </p:txBody>
      </p:sp>
      <p:pic>
        <p:nvPicPr>
          <p:cNvPr id="376" name="Picture 5" descr="am-gangs"/>
          <p:cNvPicPr/>
          <p:nvPr/>
        </p:nvPicPr>
        <p:blipFill>
          <a:blip r:embed="rId1"/>
          <a:stretch/>
        </p:blipFill>
        <p:spPr>
          <a:xfrm>
            <a:off x="5867280" y="3500280"/>
            <a:ext cx="3041640" cy="30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ITICAL RECEPTION</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the review website Rotten Tomatoes- 79% of 199 reviewers approved of American Gangster</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Gangster was observed as a candidate for the Oscars based on the film's style and the performance of the actors, including the possibility of an Academy Award for Best Director for Ridley Scott.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an interview Lucas "was gushing" about the film and Denzel Washington's performance; he said he felt amazement at the way he ‘had’ him down.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New York Post article by Susannah Callahan stated that Lucas "admitted to sources that 'only 20 percent of the film is true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erling Johnson Jr, a federal judge who served as a special narcotics prosecutor and assisted the arrest and trial of Lucas Scott, described the film as ‘1% real and 99% Hollywood’.</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son described the real life Lucas as "illiterate," "vicious," "violent," and "everything Denzel Washington was no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58:57Z</dcterms:created>
  <dc:creator>Theo</dc:creator>
  <dc:description/>
  <dc:language>en-US</dc:language>
  <cp:lastModifiedBy> </cp:lastModifiedBy>
  <dcterms:modified xsi:type="dcterms:W3CDTF">2010-02-13T13:44:49Z</dcterms:modified>
  <cp:revision>3</cp:revision>
  <dc:subject/>
  <dc:title>SEMINAR PRESEMNTATION </dc:title>
</cp:coreProperties>
</file>