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A0064-2FA9-4842-9DF7-264447C67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093E3-9E92-407A-B10B-5F4CE3FD3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312B8-47AE-4AFA-97E6-6BBEDF6BA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90722-5FA0-417C-90EF-A67D0B38E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EFF43-4C6C-4060-8729-77E9B006B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BF11F-FF91-4A94-9FE7-76CB2187E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E9420-FA04-41AD-B054-65D9AB99B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A1C71-BD93-46E3-BE3E-7679719F3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ABC85-5739-4253-B94D-9936ADA17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77E93-61BA-440B-81B9-B97E5FE60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47C64-FDD1-4493-AAB4-AC3CBFF5B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54B35-50B2-4A28-872C-76D4EB453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75FDE-DC47-489B-8910-FC4D37674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06755-1016-4E90-BAB6-3BB6A7B5C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408C1-701A-4F6C-B14C-31CFBFE52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4690B-9657-4AD0-90B2-5E3FFB861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93118-83F7-4C2A-96E8-38654B66C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B7971-F83F-4779-A710-253702299C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7EE8E-A2A2-4741-8B4D-7CDD177ED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9C446-2707-4BD3-9082-AFEF6F071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34906-D917-4D29-A0A7-9194DC60D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81B3F-8480-4712-92EF-C6C5E1FB1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2AEC-6593-4C2F-B6BF-B96E3E46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60842-1B92-45E1-934B-B51ED88D1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17D03-32D9-4655-AE0E-0155FC192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512A7-484E-4E25-9F54-731CE9F51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E7DCF-B755-4922-BE5E-2DEBF3696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162206-D758-4787-89F7-9CEF36254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6F41FA-9884-4220-A1D3-5101675581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EF4BE4-16B0-4D5B-BAE6-28A2DC2BBE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8723E0-A8A6-475E-B692-88CD8F1521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CDE1F-6B4C-43A7-AA70-44F2AF935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C509F-2F10-4F97-B129-D309982E52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E728-B7D7-44FA-B10D-2D89875B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E2129-572D-485D-8761-6A81E8150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7730E-39E5-4144-AED2-680E66389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F1382-C2E6-4337-A203-143845DA1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AE1D7-590D-41D2-BB1B-26AF548FF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E5C85-D078-4058-ACCC-B16539FD1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C014E-6E81-4132-BA42-A98241F8E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A7D244-B4CE-4B44-984D-7CD144606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4CB0DB-DDD3-43EF-A212-8E9F319CB8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E4D23-0366-4AC3-B393-A5097773D0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97DB4F-048B-4E2C-A040-A091FEE32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3CCC-77C9-4C3E-9F98-06E112306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AD889-3F11-4080-9943-130DB1D0A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0D700-B3B1-489D-B570-F32DF7DEF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0374CB-B08E-41C7-B4A5-89AF887A4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D0949-06A5-400C-9E5A-98EC2946F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663D6-6A2D-4CFF-9C3A-2DE9F7AF57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E8A89-665C-4C9D-96BE-735A033B4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842353-BDAC-4438-A544-5CFFCDC0C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8BA2A-7FD8-4266-8DAC-3BBBBF757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9D7BA-2407-441D-975D-D6EA1AD9E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E50FB-1513-4E85-81D5-727E0DBF4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8B7D-308C-4435-8BB1-2068D4B08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EADE53-112E-4A62-9D30-0339A9CC4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070F08-18A1-4277-B88B-808F4713AB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11E608-610A-4D0B-AF8D-8A0992953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468848-BF68-4F9F-A31E-6463729548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4CDFF0-5B2F-438B-805E-879C0097DF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D04F8-65F4-44E1-8C0B-9B5F6E13B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21931-530C-48FE-9964-5D0426F506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17358-CC55-4C04-B1E2-A79F2D533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F4109-A5B6-4CF9-B39B-1A7E84380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B3A4A-00CE-4172-BAAF-C7CEA1F91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766E-F637-4FA0-B59C-FA9FB4C08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A9DF1F-F21C-49F0-AD0C-824325E58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57DAD0-72D6-4B7B-893A-94E39DC57C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49DB3E-1D4C-49C7-813F-C096AADAC8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2CB948-1F45-4DBC-943E-72C844658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8FF31-18A7-41CD-97D2-0E33E2DC2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BC8F3-2109-4E11-AEFE-6DD9AB1A63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94DDD8-1AB3-469B-BB5A-CC637DAAB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E25B3-A757-452B-8B53-0BC0A063C7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59E64-0B01-4434-8BE2-91E1493AE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17EA7-C222-49A0-87BA-CFC59F094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4FEE-D5BC-422F-B53F-EF3DC9B59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D309F7-70F7-4CA3-95E4-B7D997990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1B4B9-5E9B-485D-86F4-0B099D679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1C90B8-D7DD-4269-86BB-1C1BFEAE4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E2219F-1DC2-441E-BDB0-2C5049F296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B08C10-FEC6-4B21-8024-225333695B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A8CA-F6B3-41D5-B353-9C5157017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503B-7F0C-470D-9F13-5FAA7240E219}"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9D93-C816-470C-A2E4-A959E11409A8}"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1131-2750-45FE-BDE5-1EE4C5918A19}"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82C3-609A-4EBC-862F-03D14924C2B7}"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8095-5388-42E5-9DB8-71E5B0FAD947}"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C493-A2EF-4F30-A9C3-0CF6260B2932}"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00EF-C284-43EF-9FD6-449FD7E0316A}"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706320" y="2951280"/>
            <a:ext cx="8516880" cy="1869840"/>
          </a:xfrm>
          <a:prstGeom prst="rect">
            <a:avLst/>
          </a:prstGeom>
          <a:ln w="0">
            <a:noFill/>
          </a:ln>
        </p:spPr>
      </p:pic>
      <p:sp>
        <p:nvSpPr>
          <p:cNvPr id="304" name="PlaceHolder 1"/>
          <p:cNvSpPr>
            <a:spLocks noGrp="1"/>
          </p:cNvSpPr>
          <p:nvPr>
            <p:ph type="subTitle"/>
          </p:nvPr>
        </p:nvSpPr>
        <p:spPr>
          <a:xfrm>
            <a:off x="5500800" y="4643280"/>
            <a:ext cx="3171600" cy="471600"/>
          </a:xfrm>
          <a:prstGeom prst="rect">
            <a:avLst/>
          </a:prstGeom>
          <a:noFill/>
          <a:ln w="0">
            <a:noFill/>
          </a:ln>
        </p:spPr>
        <p:txBody>
          <a:bodyPr lIns="118800" rIns="4572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Korede Balogun</a:t>
            </a:r>
            <a:endParaRPr b="0" lang="en-US" sz="19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A2 Media</a:t>
            </a:r>
            <a:endParaRPr b="0" lang="en-US" sz="1900" spc="-1" strike="noStrike">
              <a:solidFill>
                <a:srgbClr val="ffffff"/>
              </a:solidFill>
              <a:latin typeface="Corbel"/>
            </a:endParaRPr>
          </a:p>
        </p:txBody>
      </p:sp>
      <p:pic>
        <p:nvPicPr>
          <p:cNvPr id="305" name="Picture 2" descr=""/>
          <p:cNvPicPr/>
          <p:nvPr/>
        </p:nvPicPr>
        <p:blipFill>
          <a:blip r:embed="rId2"/>
          <a:stretch/>
        </p:blipFill>
        <p:spPr>
          <a:xfrm>
            <a:off x="281160" y="208080"/>
            <a:ext cx="393696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66600"/>
            <a:ext cx="8504280" cy="1347840"/>
          </a:xfrm>
          <a:prstGeom prst="rect">
            <a:avLst/>
          </a:prstGeom>
          <a:ln w="0">
            <a:noFill/>
          </a:ln>
        </p:spPr>
      </p:pic>
      <p:sp>
        <p:nvSpPr>
          <p:cNvPr id="331" name=""/>
          <p:cNvSpPr txBox="1"/>
          <p:nvPr/>
        </p:nvSpPr>
        <p:spPr>
          <a:xfrm>
            <a:off x="5929200" y="1600200"/>
            <a:ext cx="2757600" cy="452592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This pie chart  result also surprised me as a large sum of people felt that Director Credits were irrelevant in influencing them to watch a particular film with only two people out of 18 answering that knowing the director was actually influential to them. </a:t>
            </a:r>
            <a:endParaRPr b="0" lang="en-US" sz="2000" spc="-1" strike="noStrike">
              <a:solidFill>
                <a:srgbClr val="000000"/>
              </a:solidFill>
              <a:latin typeface="Corbel"/>
            </a:endParaRPr>
          </a:p>
        </p:txBody>
      </p:sp>
      <p:pic>
        <p:nvPicPr>
          <p:cNvPr id="332" name="Chart 3" descr=""/>
          <p:cNvPicPr/>
          <p:nvPr/>
        </p:nvPicPr>
        <p:blipFill>
          <a:blip r:embed="rId2"/>
          <a:stretch/>
        </p:blipFill>
        <p:spPr>
          <a:xfrm>
            <a:off x="281160" y="1566720"/>
            <a:ext cx="5583240" cy="50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36360"/>
            <a:ext cx="8626320" cy="1378080"/>
          </a:xfrm>
          <a:prstGeom prst="rect">
            <a:avLst/>
          </a:prstGeom>
          <a:ln w="0">
            <a:noFill/>
          </a:ln>
        </p:spPr>
      </p:pic>
      <p:sp>
        <p:nvSpPr>
          <p:cNvPr id="334" name=""/>
          <p:cNvSpPr txBox="1"/>
          <p:nvPr/>
        </p:nvSpPr>
        <p:spPr>
          <a:xfrm>
            <a:off x="5714640" y="1600200"/>
            <a:ext cx="2971800" cy="45259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This line graph was rather strange to me as I expected there to be drastic difference in preferred trailer length times.</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But instead the results presented showed that an even spread of people preferred between 10 seconds to 4 minutes for a film trailer.</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No-one felt that a longer trailer would capture their attention and maintain their interest probably due to the idea that a longer trailer will reveal too much and be tedious.</a:t>
            </a:r>
            <a:endParaRPr b="0" lang="en-US" sz="1600" spc="-1" strike="noStrike">
              <a:solidFill>
                <a:srgbClr val="000000"/>
              </a:solidFill>
              <a:latin typeface="Corbel"/>
            </a:endParaRPr>
          </a:p>
        </p:txBody>
      </p:sp>
      <p:pic>
        <p:nvPicPr>
          <p:cNvPr id="335" name="Chart 4" descr=""/>
          <p:cNvPicPr/>
          <p:nvPr/>
        </p:nvPicPr>
        <p:blipFill>
          <a:blip r:embed="rId2"/>
          <a:stretch/>
        </p:blipFill>
        <p:spPr>
          <a:xfrm>
            <a:off x="208080" y="1852560"/>
            <a:ext cx="5443560" cy="443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19240" y="-60480"/>
            <a:ext cx="8474040" cy="1535400"/>
          </a:xfrm>
          <a:prstGeom prst="rect">
            <a:avLst/>
          </a:prstGeom>
          <a:ln w="0">
            <a:noFill/>
          </a:ln>
        </p:spPr>
      </p:pic>
      <p:sp>
        <p:nvSpPr>
          <p:cNvPr id="337" name=""/>
          <p:cNvSpPr txBox="1"/>
          <p:nvPr/>
        </p:nvSpPr>
        <p:spPr>
          <a:xfrm>
            <a:off x="5714640" y="1600200"/>
            <a:ext cx="2971800" cy="475776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This area chart clearly shows the difference in ranges of preference in mediums of advertising for films.</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Film Trailers were by far of greater preference. </a:t>
            </a:r>
            <a:endParaRPr b="0" lang="en-US" sz="3000" spc="-1" strike="noStrike">
              <a:solidFill>
                <a:srgbClr val="000000"/>
              </a:solidFill>
              <a:latin typeface="Corbel"/>
            </a:endParaRPr>
          </a:p>
        </p:txBody>
      </p:sp>
      <p:pic>
        <p:nvPicPr>
          <p:cNvPr id="338" name="Chart 3" descr=""/>
          <p:cNvPicPr/>
          <p:nvPr/>
        </p:nvPicPr>
        <p:blipFill>
          <a:blip r:embed="rId2"/>
          <a:stretch/>
        </p:blipFill>
        <p:spPr>
          <a:xfrm>
            <a:off x="281160" y="1566720"/>
            <a:ext cx="52974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3760" y="0"/>
            <a:ext cx="8959680" cy="1365120"/>
          </a:xfrm>
          <a:prstGeom prst="rect">
            <a:avLst/>
          </a:prstGeom>
          <a:ln w="0">
            <a:noFill/>
          </a:ln>
        </p:spPr>
      </p:pic>
      <p:sp>
        <p:nvSpPr>
          <p:cNvPr id="340" name=""/>
          <p:cNvSpPr txBox="1"/>
          <p:nvPr/>
        </p:nvSpPr>
        <p:spPr>
          <a:xfrm>
            <a:off x="285840" y="164304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basic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Mystery- but a trailer would help</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omplete mystery but its ratings will be informativ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gist of the story </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storyline depending on the genre and actors featur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parts of it but not too much</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Being in complete mystery is more fun as you get to unravel the storyline yourse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A taste is nice but shouldn’t be predictabl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Half and Ha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epends how interested I am in the genre and how likely I am to watch it.</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From the responses gathered from question 10 I realised that genrally people prefer being in mystery about what film they are going to view as unravelling the film for themselves is exciting. Also knowing how the film rates amongst others influences their opinion on how worth wile the film is to view.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85840" y="30240"/>
            <a:ext cx="8407440" cy="1384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Fal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f you say so</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 don’t totally 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Yes they do and they also manage t glamorise the lifestyl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t really because they use British Actors and British Setting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true quite a lot of the t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Mostly tru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slightly true, I don’t think there is individuality in British gangster film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they try to make adaptations according to what is relevant in Britain.</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ecause they are different lifestyles, for instance in the US they play basketball but in the UK they play football.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ut they obviously have to be similar to some exten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457200" y="1774440"/>
            <a:ext cx="8229600" cy="2225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gathered that most people felt that British Gangster films did not purely imitate American Gangster films as they do have a sense of British uniqueness. </a:t>
            </a:r>
            <a:endParaRPr b="0" lang="en-US" sz="3200" spc="-1" strike="noStrike">
              <a:solidFill>
                <a:srgbClr val="000000"/>
              </a:solidFill>
              <a:latin typeface="Corbel"/>
            </a:endParaRPr>
          </a:p>
        </p:txBody>
      </p:sp>
      <p:sp>
        <p:nvSpPr>
          <p:cNvPr id="347" name="Rectangle 3"/>
          <p:cNvSpPr/>
          <p:nvPr/>
        </p:nvSpPr>
        <p:spPr>
          <a:xfrm>
            <a:off x="500040" y="4357800"/>
            <a:ext cx="7429680" cy="398880"/>
          </a:xfrm>
          <a:prstGeom prst="rect">
            <a:avLst/>
          </a:prstGeom>
          <a:noFill/>
          <a:ln w="0">
            <a:noFill/>
          </a:ln>
        </p:spPr>
        <p:style>
          <a:lnRef idx="0"/>
          <a:fillRef idx="0"/>
          <a:effectRef idx="0"/>
          <a:fontRef idx="minor"/>
        </p:style>
        <p:txBody>
          <a:bodyPr lIns="90000" rIns="90000" tIns="46800" bIns="46800" anchor="t">
            <a:spAutoFit/>
          </a:bodyPr>
          <a:p>
            <a:pPr marL="438120" indent="-31896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t>
            </a:r>
            <a:r>
              <a:rPr b="0" lang="en-GB" sz="2000" spc="-1" strike="noStrike">
                <a:solidFill>
                  <a:srgbClr val="ff0000"/>
                </a:solidFill>
                <a:latin typeface="Arial"/>
              </a:rPr>
              <a:t>Yes they do and they also manage t glamorise the lifestyle”</a:t>
            </a:r>
            <a:endParaRPr b="0" lang="en-US" sz="2000" spc="-1" strike="noStrike">
              <a:solidFill>
                <a:srgbClr val="000000"/>
              </a:solidFill>
              <a:latin typeface="Arial"/>
            </a:endParaRPr>
          </a:p>
        </p:txBody>
      </p:sp>
      <p:sp>
        <p:nvSpPr>
          <p:cNvPr id="348" name="TextBox 4"/>
          <p:cNvSpPr/>
          <p:nvPr/>
        </p:nvSpPr>
        <p:spPr>
          <a:xfrm>
            <a:off x="714240" y="4786200"/>
            <a:ext cx="721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bove was one that really intrigued me. The idea of gangster crime films glamorising the criminal world was a topic spoken about amongst my group when we decided to choose a topic for our Film Production promotional project and we had this same opinion about the genre so it was interesting to realise that other people had this sam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152280"/>
            <a:ext cx="847404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ome of the following lists of conventions appeared more than o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uns/ Knives/Weapon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etty Females  / Girlfriends or Wive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ang Rivals – Good Guys vs Bad Guy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ice Car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oli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Large Stacks of Money</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ig Hou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r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Viole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wearing</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ars or Club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lcohol</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igar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assume that when people think of Gangster crime they think of crime and brutality hence why most people assume that a typical convention would be weapons, swearing, crime, police involvement and gang rivalr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n add on to these conventions are attractive women, fancy cars, money a nice house and cigars  as these are objects symbolising wealth which generally the big time gangsters are.</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gave out my questionnaire to a range of people of mixed ethnicities and tried as possible to get a unbiased mix of genders or age range but had great difficulty in finding older adults who were willing to carry out my survey for me but I did find som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handed out 20 questionnaires. 18 of which I received immediate responses as I was either in the same room as the respondent or within a reachable range in case a question is needed to be explain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Unfortunately I lost 2 which means that my results are representative of 18 respondents.</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5857560" y="1571760"/>
            <a:ext cx="2971800" cy="45259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From this graph it is evident that most of my respondents were aged between 15-21 which is the youngest portion of the spectrum.</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rbel"/>
              </a:rPr>
              <a:t>Keeping this in mind it is important to analyse the proportion of the other age ranges that selected dramatically different options beyond the background question in order to compare the results.</a:t>
            </a:r>
            <a:endParaRPr b="0" lang="en-US" sz="1000" spc="-1" strike="noStrike">
              <a:solidFill>
                <a:srgbClr val="000000"/>
              </a:solidFill>
              <a:latin typeface="Corbel"/>
            </a:endParaRPr>
          </a:p>
        </p:txBody>
      </p:sp>
      <p:pic>
        <p:nvPicPr>
          <p:cNvPr id="310" name="Chart 3" descr=""/>
          <p:cNvPicPr/>
          <p:nvPr/>
        </p:nvPicPr>
        <p:blipFill>
          <a:blip r:embed="rId2"/>
          <a:stretch/>
        </p:blipFill>
        <p:spPr>
          <a:xfrm>
            <a:off x="353880" y="1639800"/>
            <a:ext cx="5400720" cy="451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majority of respondents were female.</a:t>
            </a:r>
            <a:endParaRPr b="0" lang="en-US" sz="3200" spc="-1" strike="noStrike">
              <a:solidFill>
                <a:srgbClr val="000000"/>
              </a:solidFill>
              <a:latin typeface="Corbel"/>
            </a:endParaRPr>
          </a:p>
        </p:txBody>
      </p:sp>
      <p:pic>
        <p:nvPicPr>
          <p:cNvPr id="313" name="Chart 3" descr=""/>
          <p:cNvPicPr/>
          <p:nvPr/>
        </p:nvPicPr>
        <p:blipFill>
          <a:blip r:embed="rId2"/>
          <a:stretch/>
        </p:blipFill>
        <p:spPr>
          <a:xfrm>
            <a:off x="281160" y="1852560"/>
            <a:ext cx="558324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6" name="Chart 3" descr=""/>
          <p:cNvPicPr/>
          <p:nvPr/>
        </p:nvPicPr>
        <p:blipFill>
          <a:blip r:embed="rId2"/>
          <a:stretch/>
        </p:blipFill>
        <p:spPr>
          <a:xfrm>
            <a:off x="353880" y="1706400"/>
            <a:ext cx="5010120" cy="45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85840" y="152280"/>
            <a:ext cx="8467560" cy="1262160"/>
          </a:xfrm>
          <a:prstGeom prst="rect">
            <a:avLst/>
          </a:prstGeom>
          <a:ln w="0">
            <a:noFill/>
          </a:ln>
        </p:spPr>
      </p:pic>
      <p:sp>
        <p:nvSpPr>
          <p:cNvPr id="318" name=""/>
          <p:cNvSpPr txBox="1"/>
          <p:nvPr/>
        </p:nvSpPr>
        <p:spPr>
          <a:xfrm>
            <a:off x="5785920" y="1600200"/>
            <a:ext cx="290052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e line graph shows that most people from my sample of respondents preferred to go to the cinema more as the year progresses with the most people preferring to go to the cinema mostly during the October to December Period.</a:t>
            </a:r>
            <a:endParaRPr b="0" lang="en-US" sz="2200" spc="-1" strike="noStrike">
              <a:solidFill>
                <a:srgbClr val="000000"/>
              </a:solidFill>
              <a:latin typeface="Corbel"/>
            </a:endParaRPr>
          </a:p>
        </p:txBody>
      </p:sp>
      <p:pic>
        <p:nvPicPr>
          <p:cNvPr id="319" name="Chart 3" descr=""/>
          <p:cNvPicPr/>
          <p:nvPr/>
        </p:nvPicPr>
        <p:blipFill>
          <a:blip r:embed="rId2"/>
          <a:stretch/>
        </p:blipFill>
        <p:spPr>
          <a:xfrm>
            <a:off x="281160" y="1779480"/>
            <a:ext cx="551016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723160" cy="1262160"/>
          </a:xfrm>
          <a:prstGeom prst="rect">
            <a:avLst/>
          </a:prstGeom>
          <a:ln w="0">
            <a:noFill/>
          </a:ln>
        </p:spPr>
      </p:pic>
      <p:sp>
        <p:nvSpPr>
          <p:cNvPr id="321" name=""/>
          <p:cNvSpPr txBox="1"/>
          <p:nvPr/>
        </p:nvSpPr>
        <p:spPr>
          <a:xfrm>
            <a:off x="5572080" y="1600200"/>
            <a:ext cx="3114720" cy="452592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multiple choice question asking people out of the options provided, which genre of film they most preferred.</a:t>
            </a:r>
            <a:endParaRPr b="0" lang="en-US" sz="22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 </a:t>
            </a:r>
            <a:r>
              <a:rPr b="0" lang="en-GB" sz="2200" spc="-1" strike="noStrike">
                <a:solidFill>
                  <a:srgbClr val="000000"/>
                </a:solidFill>
                <a:latin typeface="Corbel"/>
              </a:rPr>
              <a:t>The pie chart shows that the genre at which I am aiming to produce a promotional package for (Action/Thriller) came siding third in popularity along with Horror. </a:t>
            </a:r>
            <a:endParaRPr b="0" lang="en-US" sz="2200" spc="-1" strike="noStrike">
              <a:solidFill>
                <a:srgbClr val="000000"/>
              </a:solidFill>
              <a:latin typeface="Corbel"/>
            </a:endParaRPr>
          </a:p>
        </p:txBody>
      </p:sp>
      <p:pic>
        <p:nvPicPr>
          <p:cNvPr id="322" name="Chart 3" descr=""/>
          <p:cNvPicPr/>
          <p:nvPr/>
        </p:nvPicPr>
        <p:blipFill>
          <a:blip r:embed="rId2"/>
          <a:stretch/>
        </p:blipFill>
        <p:spPr>
          <a:xfrm>
            <a:off x="133200" y="1420920"/>
            <a:ext cx="5372280" cy="5229000"/>
          </a:xfrm>
          <a:prstGeom prst="rect">
            <a:avLst/>
          </a:prstGeom>
          <a:ln w="0">
            <a:noFill/>
          </a:ln>
        </p:spPr>
      </p:pic>
      <p:sp>
        <p:nvSpPr>
          <p:cNvPr id="323" name="TextBox 4"/>
          <p:cNvSpPr/>
          <p:nvPr/>
        </p:nvSpPr>
        <p:spPr>
          <a:xfrm>
            <a:off x="214200" y="521496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e 17% that preferred Action/Thriller films all were male stretching from 15-21, 29-35 and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6480"/>
            <a:ext cx="8808840" cy="1427400"/>
          </a:xfrm>
          <a:prstGeom prst="rect">
            <a:avLst/>
          </a:prstGeom>
          <a:ln w="0">
            <a:noFill/>
          </a:ln>
        </p:spPr>
      </p:pic>
      <p:sp>
        <p:nvSpPr>
          <p:cNvPr id="325" name=""/>
          <p:cNvSpPr txBox="1"/>
          <p:nvPr/>
        </p:nvSpPr>
        <p:spPr>
          <a:xfrm>
            <a:off x="5500800" y="1600200"/>
            <a:ext cx="318600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Surprisingly quite a margin of people do make an occasional attempt to arrive at cinemas early to watch the film trailers.  From this portion of people that did arrive early I found that it was mostly the older generations that did this. </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I assume the midrange group of people that “don’t know “ and never really take notice of the trailers  and also the group that don’t see the point in arriving early are more of the younger generations as they are likely to go to the cinema in large groups who would spend a lot of time in the queue buying snacks  and also socialising before the film starts and therefore miss the trailers</a:t>
            </a:r>
            <a:endParaRPr b="0" lang="en-US" sz="1500" spc="-1" strike="noStrike">
              <a:solidFill>
                <a:srgbClr val="000000"/>
              </a:solidFill>
              <a:latin typeface="Corbel"/>
            </a:endParaRPr>
          </a:p>
        </p:txBody>
      </p:sp>
      <p:pic>
        <p:nvPicPr>
          <p:cNvPr id="326" name="Chart 3" descr=""/>
          <p:cNvPicPr/>
          <p:nvPr/>
        </p:nvPicPr>
        <p:blipFill>
          <a:blip r:embed="rId2"/>
          <a:stretch/>
        </p:blipFill>
        <p:spPr>
          <a:xfrm>
            <a:off x="208080" y="1639800"/>
            <a:ext cx="5449680" cy="463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317520" y="152280"/>
            <a:ext cx="8375760" cy="1262160"/>
          </a:xfrm>
          <a:prstGeom prst="rect">
            <a:avLst/>
          </a:prstGeom>
          <a:ln w="0">
            <a:noFill/>
          </a:ln>
        </p:spPr>
      </p:pic>
      <p:sp>
        <p:nvSpPr>
          <p:cNvPr id="328" name=""/>
          <p:cNvSpPr txBox="1"/>
          <p:nvPr/>
        </p:nvSpPr>
        <p:spPr>
          <a:xfrm>
            <a:off x="5572080" y="1600200"/>
            <a:ext cx="3114720" cy="45259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is question was once again a multiple choice one and showed that a vast number of people did not recognize British Directors. </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ose who did sometimes recognised more than one.</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An intriguing remark I received from this question is “where is Spielberg” as in the American Director Steven Spielberg in which I responded “he’s not a British Director”. From this I gathered that it may appear that there is not enough known about the works of major British Directors regardless of how big they are in the UK.</a:t>
            </a:r>
            <a:endParaRPr b="0" lang="en-US" sz="1500" spc="-1" strike="noStrike">
              <a:solidFill>
                <a:srgbClr val="000000"/>
              </a:solidFill>
              <a:latin typeface="Corbel"/>
            </a:endParaRPr>
          </a:p>
        </p:txBody>
      </p:sp>
      <p:pic>
        <p:nvPicPr>
          <p:cNvPr id="329" name="Chart 3" descr=""/>
          <p:cNvPicPr/>
          <p:nvPr/>
        </p:nvPicPr>
        <p:blipFill>
          <a:blip r:embed="rId2"/>
          <a:stretch/>
        </p:blipFill>
        <p:spPr>
          <a:xfrm>
            <a:off x="353880" y="1566720"/>
            <a:ext cx="5083200" cy="465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9:53:48Z</dcterms:created>
  <dc:creator>User</dc:creator>
  <dc:description/>
  <dc:language>en-US</dc:language>
  <cp:lastModifiedBy>User</cp:lastModifiedBy>
  <dcterms:modified xsi:type="dcterms:W3CDTF">2009-11-21T19:04:32Z</dcterms:modified>
  <cp:revision>10</cp:revision>
  <dc:subject/>
  <dc:title>Results from Audience Questionnaire</dc:title>
</cp:coreProperties>
</file>